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D89-06A0-4FC9-8DB1-7BF3A7D0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E3C-5EF9-4FCB-B5DF-AB83F28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737-E915-486E-A0AA-CEABC156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0D9-538C-4F17-8B33-544732F8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8937-1CC6-4EE9-9ECC-92E4F4A6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1E98-253B-4630-9821-FEC4DFBE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551-4CB9-4F7C-86A7-2F2DEE10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93AA-2275-421C-B185-8BEAA50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419-AF10-4031-96ED-88EB75DE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D88F-7AEE-4F75-9792-546205BB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142F-A4B2-41EC-A0F4-E26B41D2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D08-2A01-4C51-96AF-798A4721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6C36-437B-40A3-B6D4-A04FD54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6881-FB0F-4F39-98A3-ED74A2D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9A92-0990-41CA-B050-185AA7A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3B2C-CEC6-4E6E-BDF5-D7D28DDB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0C82-1A03-41D1-8588-560EC74B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E1C-7740-4DF4-B80C-7EF38877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C7E-A46B-431B-810B-13367F0C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CB4-A5C7-45C4-B520-029DB6C4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B3F-98AF-425A-9A92-63CC5F5C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BD3-8F8C-43FC-A6AE-BB37EA5D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6E7-78B1-4E46-8B3E-87A1C51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EBC-D9DD-4F98-816A-1D6B46F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3EDF-2F47-46C0-BE50-B848C51475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F643-ED2F-4D09-B835-E5CB5017B3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651-8E6B-477F-8F97-3FFFFB07C0B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088-F6B2-4828-9D1B-FDF6340D76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流程图: 数据 8"/>
          <p:cNvSpPr/>
          <p:nvPr/>
        </p:nvSpPr>
        <p:spPr>
          <a:xfrm rot="845400">
            <a:off x="8291160" y="2003040"/>
            <a:ext cx="577800" cy="295452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流程图: 数据 12"/>
          <p:cNvSpPr/>
          <p:nvPr/>
        </p:nvSpPr>
        <p:spPr>
          <a:xfrm rot="19689000">
            <a:off x="5262480" y="1688760"/>
            <a:ext cx="505080" cy="36702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流程图: 数据 13"/>
          <p:cNvSpPr/>
          <p:nvPr/>
        </p:nvSpPr>
        <p:spPr>
          <a:xfrm rot="20374800">
            <a:off x="6222960" y="1784160"/>
            <a:ext cx="503280" cy="32940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数据 14"/>
          <p:cNvSpPr/>
          <p:nvPr/>
        </p:nvSpPr>
        <p:spPr>
          <a:xfrm rot="505200">
            <a:off x="7491240" y="1785960"/>
            <a:ext cx="503280" cy="32958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003640" y="133992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87" name="椭圆 4"/>
          <p:cNvSpPr/>
          <p:nvPr/>
        </p:nvSpPr>
        <p:spPr>
          <a:xfrm>
            <a:off x="907920" y="187308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41400" y="3681360"/>
            <a:ext cx="1657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70120" y="3681360"/>
            <a:ext cx="1440" cy="517680"/>
            <a:chOff x="1770120" y="3681360"/>
            <a:chExt cx="1440" cy="517680"/>
          </a:xfrm>
        </p:grpSpPr>
        <p:sp>
          <p:nvSpPr>
            <p:cNvPr id="90" name="直接连接符 7"/>
            <p:cNvSpPr/>
            <p:nvPr/>
          </p:nvSpPr>
          <p:spPr>
            <a:xfrm>
              <a:off x="1770120" y="3681360"/>
              <a:ext cx="1440" cy="517680"/>
            </a:xfrm>
            <a:prstGeom prst="line">
              <a:avLst/>
            </a:prstGeom>
            <a:ln w="38160">
              <a:solidFill>
                <a:srgbClr val="6dab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770120" y="3681360"/>
              <a:ext cx="1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770120" y="4200480"/>
            <a:ext cx="3168720" cy="360"/>
            <a:chOff x="1770120" y="4200480"/>
            <a:chExt cx="3168720" cy="360"/>
          </a:xfrm>
        </p:grpSpPr>
        <p:sp>
          <p:nvSpPr>
            <p:cNvPr id="93" name="直接连接符 11"/>
            <p:cNvSpPr/>
            <p:nvPr/>
          </p:nvSpPr>
          <p:spPr>
            <a:xfrm>
              <a:off x="1770120" y="4200480"/>
              <a:ext cx="3168720" cy="0"/>
            </a:xfrm>
            <a:prstGeom prst="line">
              <a:avLst/>
            </a:prstGeom>
            <a:ln w="9360">
              <a:solidFill>
                <a:srgbClr val="67a5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770120" y="420048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椭圆 12"/>
          <p:cNvSpPr/>
          <p:nvPr/>
        </p:nvSpPr>
        <p:spPr>
          <a:xfrm>
            <a:off x="1511280" y="3171960"/>
            <a:ext cx="517680" cy="519120"/>
          </a:xfrm>
          <a:prstGeom prst="ellipse">
            <a:avLst/>
          </a:prstGeom>
          <a:solidFill>
            <a:srgbClr val="67a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1712160" y="44136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国外企业团队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"/>
          <p:cNvSpPr/>
          <p:nvPr/>
        </p:nvSpPr>
        <p:spPr>
          <a:xfrm>
            <a:off x="0" y="0"/>
            <a:ext cx="914400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 rot="10800000">
            <a:off x="0" y="1181880"/>
            <a:ext cx="9144000" cy="56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50920" y="836640"/>
            <a:ext cx="864216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64960"/>
            <a:ext cx="8435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圆角矩形标注 3"/>
          <p:cNvSpPr/>
          <p:nvPr/>
        </p:nvSpPr>
        <p:spPr>
          <a:xfrm>
            <a:off x="3274920" y="2116080"/>
            <a:ext cx="3208320" cy="54144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556000" y="2116080"/>
            <a:ext cx="576000" cy="54144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800520" y="21906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标注 7"/>
          <p:cNvSpPr/>
          <p:nvPr/>
        </p:nvSpPr>
        <p:spPr>
          <a:xfrm>
            <a:off x="3274920" y="3083040"/>
            <a:ext cx="3208320" cy="54108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556000" y="3083040"/>
            <a:ext cx="576000" cy="54108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3800520" y="31575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标注 10"/>
          <p:cNvSpPr/>
          <p:nvPr/>
        </p:nvSpPr>
        <p:spPr>
          <a:xfrm>
            <a:off x="3274920" y="3946680"/>
            <a:ext cx="3208320" cy="54108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2556000" y="3946680"/>
            <a:ext cx="576000" cy="54108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3800520" y="4021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标注 13"/>
          <p:cNvSpPr/>
          <p:nvPr/>
        </p:nvSpPr>
        <p:spPr>
          <a:xfrm>
            <a:off x="3284640" y="4897440"/>
            <a:ext cx="3208320" cy="54144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2556000" y="4897440"/>
            <a:ext cx="583920" cy="54144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3808440" y="497196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6"/>
          <p:cNvSpPr/>
          <p:nvPr/>
        </p:nvSpPr>
        <p:spPr>
          <a:xfrm>
            <a:off x="0" y="0"/>
            <a:ext cx="914400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 rot="10800000">
            <a:off x="0" y="1181880"/>
            <a:ext cx="9144000" cy="56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/>
          <p:cNvSpPr/>
          <p:nvPr/>
        </p:nvSpPr>
        <p:spPr>
          <a:xfrm rot="10800000">
            <a:off x="0" y="5674680"/>
            <a:ext cx="914256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250920" y="836640"/>
            <a:ext cx="8642160" cy="509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 rot="10800000">
            <a:off x="250920" y="5674680"/>
            <a:ext cx="86421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角三角形 13"/>
          <p:cNvSpPr/>
          <p:nvPr/>
        </p:nvSpPr>
        <p:spPr>
          <a:xfrm rot="16200000">
            <a:off x="8400960" y="5391000"/>
            <a:ext cx="257040" cy="215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10800000">
            <a:off x="8283600" y="5217840"/>
            <a:ext cx="59688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2390760"/>
            <a:ext cx="1986120" cy="1987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6920" y="3246480"/>
            <a:ext cx="165708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7800" y="3754440"/>
            <a:ext cx="2446200" cy="16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48360" y="33591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995640" y="3246480"/>
            <a:ext cx="1800" cy="517320"/>
            <a:chOff x="3995640" y="3246480"/>
            <a:chExt cx="1800" cy="517320"/>
          </a:xfrm>
        </p:grpSpPr>
        <p:sp>
          <p:nvSpPr>
            <p:cNvPr id="127" name="直接连接符 7"/>
            <p:cNvSpPr/>
            <p:nvPr/>
          </p:nvSpPr>
          <p:spPr>
            <a:xfrm>
              <a:off x="3995640" y="3246480"/>
              <a:ext cx="1800" cy="517320"/>
            </a:xfrm>
            <a:prstGeom prst="line">
              <a:avLst/>
            </a:prstGeom>
            <a:ln w="38160">
              <a:solidFill>
                <a:srgbClr val="6dab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995640" y="324648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95640" y="3765600"/>
            <a:ext cx="3168720" cy="360"/>
            <a:chOff x="3995640" y="3765600"/>
            <a:chExt cx="3168720" cy="360"/>
          </a:xfrm>
        </p:grpSpPr>
        <p:sp>
          <p:nvSpPr>
            <p:cNvPr id="130" name="直接连接符 11"/>
            <p:cNvSpPr/>
            <p:nvPr/>
          </p:nvSpPr>
          <p:spPr>
            <a:xfrm>
              <a:off x="3995640" y="3765600"/>
              <a:ext cx="3168720" cy="0"/>
            </a:xfrm>
            <a:prstGeom prst="line">
              <a:avLst/>
            </a:prstGeom>
            <a:ln w="9360">
              <a:solidFill>
                <a:srgbClr val="67a5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995640" y="376560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椭圆 12"/>
          <p:cNvSpPr/>
          <p:nvPr/>
        </p:nvSpPr>
        <p:spPr>
          <a:xfrm>
            <a:off x="3736800" y="2736720"/>
            <a:ext cx="517680" cy="519120"/>
          </a:xfrm>
          <a:prstGeom prst="ellipse">
            <a:avLst/>
          </a:prstGeom>
          <a:solidFill>
            <a:srgbClr val="67a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6"/>
          <p:cNvSpPr/>
          <p:nvPr/>
        </p:nvSpPr>
        <p:spPr>
          <a:xfrm>
            <a:off x="0" y="0"/>
            <a:ext cx="914400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 rot="10800000">
            <a:off x="0" y="1181880"/>
            <a:ext cx="9144000" cy="56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250920" y="836640"/>
            <a:ext cx="864216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64960"/>
            <a:ext cx="8435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第一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图表 3"/>
          <p:cNvSpPr/>
          <p:nvPr/>
        </p:nvSpPr>
        <p:spPr>
          <a:xfrm>
            <a:off x="1884240" y="1758960"/>
            <a:ext cx="513576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8"/>
          <p:cNvSpPr/>
          <p:nvPr/>
        </p:nvSpPr>
        <p:spPr>
          <a:xfrm>
            <a:off x="4280040" y="1747800"/>
            <a:ext cx="288720" cy="2872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70360" y="2100240"/>
            <a:ext cx="1728720" cy="360"/>
            <a:chOff x="4770360" y="2100240"/>
            <a:chExt cx="1728720" cy="360"/>
          </a:xfrm>
        </p:grpSpPr>
        <p:sp>
          <p:nvSpPr>
            <p:cNvPr id="141" name="直接连接符 10"/>
            <p:cNvSpPr/>
            <p:nvPr/>
          </p:nvSpPr>
          <p:spPr>
            <a:xfrm>
              <a:off x="4770360" y="2100240"/>
              <a:ext cx="172872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770360" y="210024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227640" y="3429000"/>
            <a:ext cx="1729080" cy="360"/>
            <a:chOff x="6227640" y="3429000"/>
            <a:chExt cx="1729080" cy="360"/>
          </a:xfrm>
        </p:grpSpPr>
        <p:sp>
          <p:nvSpPr>
            <p:cNvPr id="144" name="直接连接符 11"/>
            <p:cNvSpPr/>
            <p:nvPr/>
          </p:nvSpPr>
          <p:spPr>
            <a:xfrm>
              <a:off x="6227640" y="3429000"/>
              <a:ext cx="172908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227640" y="3429000"/>
              <a:ext cx="17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635800" y="5478480"/>
            <a:ext cx="1726920" cy="1440"/>
            <a:chOff x="5635800" y="5478480"/>
            <a:chExt cx="1726920" cy="1440"/>
          </a:xfrm>
        </p:grpSpPr>
        <p:sp>
          <p:nvSpPr>
            <p:cNvPr id="147" name="直接连接符 12"/>
            <p:cNvSpPr/>
            <p:nvPr/>
          </p:nvSpPr>
          <p:spPr>
            <a:xfrm>
              <a:off x="5635800" y="5478480"/>
              <a:ext cx="1726920" cy="144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635800" y="5478480"/>
              <a:ext cx="1726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42920" y="3402000"/>
            <a:ext cx="1728720" cy="360"/>
            <a:chOff x="1042920" y="3402000"/>
            <a:chExt cx="1728720" cy="360"/>
          </a:xfrm>
        </p:grpSpPr>
        <p:sp>
          <p:nvSpPr>
            <p:cNvPr id="150" name="直接连接符 13"/>
            <p:cNvSpPr/>
            <p:nvPr/>
          </p:nvSpPr>
          <p:spPr>
            <a:xfrm>
              <a:off x="1042920" y="3402000"/>
              <a:ext cx="172872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042920" y="340200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92360" y="5477040"/>
            <a:ext cx="1727280" cy="360"/>
            <a:chOff x="1692360" y="5477040"/>
            <a:chExt cx="1727280" cy="360"/>
          </a:xfrm>
        </p:grpSpPr>
        <p:sp>
          <p:nvSpPr>
            <p:cNvPr id="153" name="直接连接符 14"/>
            <p:cNvSpPr/>
            <p:nvPr/>
          </p:nvSpPr>
          <p:spPr>
            <a:xfrm>
              <a:off x="1692360" y="5477040"/>
              <a:ext cx="172728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692360" y="5477040"/>
              <a:ext cx="17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标题 3"/>
          <p:cNvSpPr/>
          <p:nvPr/>
        </p:nvSpPr>
        <p:spPr>
          <a:xfrm>
            <a:off x="4843440" y="1747800"/>
            <a:ext cx="16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标题 3"/>
          <p:cNvSpPr/>
          <p:nvPr/>
        </p:nvSpPr>
        <p:spPr>
          <a:xfrm>
            <a:off x="6499080" y="3070080"/>
            <a:ext cx="165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标题 3"/>
          <p:cNvSpPr/>
          <p:nvPr/>
        </p:nvSpPr>
        <p:spPr>
          <a:xfrm>
            <a:off x="5867280" y="5130720"/>
            <a:ext cx="1657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标题 3"/>
          <p:cNvSpPr/>
          <p:nvPr/>
        </p:nvSpPr>
        <p:spPr>
          <a:xfrm>
            <a:off x="1482840" y="5130720"/>
            <a:ext cx="1655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标题 3"/>
          <p:cNvSpPr/>
          <p:nvPr/>
        </p:nvSpPr>
        <p:spPr>
          <a:xfrm>
            <a:off x="682560" y="3046320"/>
            <a:ext cx="1657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20"/>
          <p:cNvSpPr/>
          <p:nvPr/>
        </p:nvSpPr>
        <p:spPr>
          <a:xfrm>
            <a:off x="6083280" y="3103560"/>
            <a:ext cx="289080" cy="2890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21"/>
          <p:cNvSpPr/>
          <p:nvPr/>
        </p:nvSpPr>
        <p:spPr>
          <a:xfrm>
            <a:off x="5403960" y="5208480"/>
            <a:ext cx="287280" cy="2872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2"/>
          <p:cNvSpPr/>
          <p:nvPr/>
        </p:nvSpPr>
        <p:spPr>
          <a:xfrm>
            <a:off x="3222720" y="5191200"/>
            <a:ext cx="287280" cy="2872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3"/>
          <p:cNvSpPr/>
          <p:nvPr/>
        </p:nvSpPr>
        <p:spPr>
          <a:xfrm>
            <a:off x="2484360" y="3056040"/>
            <a:ext cx="287280" cy="28872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8194"/>
          <p:cNvSpPr/>
          <p:nvPr/>
        </p:nvSpPr>
        <p:spPr>
          <a:xfrm>
            <a:off x="792000" y="90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6E3B-F132-4EA8-B4A7-BD4D073038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7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0" y="1700280"/>
            <a:ext cx="9144000" cy="31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数据 8"/>
          <p:cNvSpPr/>
          <p:nvPr/>
        </p:nvSpPr>
        <p:spPr>
          <a:xfrm rot="845400">
            <a:off x="8291160" y="2003040"/>
            <a:ext cx="577800" cy="295452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流程图: 数据 12"/>
          <p:cNvSpPr/>
          <p:nvPr/>
        </p:nvSpPr>
        <p:spPr>
          <a:xfrm rot="19689000">
            <a:off x="5262480" y="1688760"/>
            <a:ext cx="505080" cy="36702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流程图: 数据 13"/>
          <p:cNvSpPr/>
          <p:nvPr/>
        </p:nvSpPr>
        <p:spPr>
          <a:xfrm rot="20374800">
            <a:off x="6222960" y="1784160"/>
            <a:ext cx="503280" cy="32940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流程图: 数据 14"/>
          <p:cNvSpPr/>
          <p:nvPr/>
        </p:nvSpPr>
        <p:spPr>
          <a:xfrm rot="505200">
            <a:off x="7491240" y="1785960"/>
            <a:ext cx="503280" cy="32958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 rot="10800000">
            <a:off x="0" y="4714200"/>
            <a:ext cx="914400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003640" y="133992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560" y="2219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感谢大家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椭圆 3"/>
          <p:cNvSpPr/>
          <p:nvPr/>
        </p:nvSpPr>
        <p:spPr>
          <a:xfrm>
            <a:off x="611280" y="1873080"/>
            <a:ext cx="172800" cy="173160"/>
          </a:xfrm>
          <a:prstGeom prst="ellipse">
            <a:avLst/>
          </a:prstGeom>
          <a:solidFill>
            <a:srgbClr val="b3e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4"/>
          <p:cNvSpPr/>
          <p:nvPr/>
        </p:nvSpPr>
        <p:spPr>
          <a:xfrm>
            <a:off x="907920" y="187308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19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1:0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