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943-3C1C-4505-8B7B-449984E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8FD-78EC-4208-B3E4-E58D1F5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8D1F6-415E-451F-86D2-F252365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1DA21-3F2B-4B89-B791-544594B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8CFF-ECD6-48F8-9511-52C6CA6C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B69A-B3E7-4F83-BEA9-8B474484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0328-16B2-4198-8B92-6C265DA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2765-E3B2-4D53-ADFE-EF088EE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7B8E9-1194-4ACE-848D-3A458CF8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D1E74-5AB4-49A8-8B05-CB1A42D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45B38-8E38-4803-8F61-94D08704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49B9-D4FD-48F4-A340-01CCA0E4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21E-438E-4277-A68C-18C4664A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EF3FE-A2AB-409A-B95D-68AD3A19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F80B-62B6-4148-82DE-59584BA0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FE6B7-3122-4237-8C68-BA88DE8D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20094-37C5-4AA5-8ADC-D801043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E7FD0-1EA4-4150-9D85-61A24A8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09156-FD6C-45AA-8ED8-5C06505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C4950-4B62-416A-AA27-0E2D150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A4C07-592B-4B46-9742-2AB7EA6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772EF-1F8D-427B-A69F-97BA996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7D9C1-A16E-4968-A803-8BBF7CB6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0E1-20E1-4AC0-856F-C949748B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21F46-8D26-4E45-B808-38502610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52B1-74A3-4728-B824-E580019F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65D0-0217-488F-950B-4175D2BD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93F24-C69A-401E-9E72-A0AC15D3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DEA88-B142-41F5-9140-0F57485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4D83-538A-45E3-9DA2-D4AC7D7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A336F-4446-40A3-B5F1-7B3F22A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39BD7-0F91-4A3A-BA70-3F26E87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DAF2D-0F5B-4533-A6AA-61E1ED5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CC0E8-872F-412B-8F41-E97A0E5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0F0-F98C-4B28-8508-783BC33C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BB38-4C63-47B1-BE96-00348370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66A68-6A03-43A6-846A-76FCD24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0B20-F2F0-44DB-9A59-16333072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E22C5-9041-486E-8F4D-42AAE9C5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CD1B9-1CEF-4D4C-A521-058F384E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F47A4-6767-4296-B899-9CF6F0B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0D65-8E52-4925-82FB-CA7D90D1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0C228-E5F9-4441-B980-C4CDF98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916D0-5BA6-4CBA-AA36-73872D36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0B346-6ADE-4B10-9D1D-CC9A928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AD1D-B1CC-40AE-8C86-88D421D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60AFC-D09D-4301-B4D7-E91206A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395E2-8F07-4801-856A-01AC9205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64B09-0905-4881-92DC-037B577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0AC13-A51F-4A31-8665-5E0C2B99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14C8C-B8A9-4BE2-B3D2-F4E1C453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B03A6-1165-4384-BB7D-10E9875D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9C039-285A-4305-9B0D-757C8C64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C1A0D-D645-4A79-B7D3-302A266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C2D54-E489-4DCB-B3BB-5AEE91A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2CBEA-53E3-46F5-9406-385A300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0E42-42C1-449B-8ED0-051067FF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EF4D0-57AA-4D01-8A1F-6B651AC6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9DCA8-6688-498A-ADA8-E202C91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CC485-FFAA-4396-92C6-B0DF0B4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9E527-04D5-43BB-AC0A-40C8548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64945-8856-4D13-A559-1DEC93B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5CDD8-0CDA-4621-A513-0A53E9E7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57224-4129-49CA-ACB2-21FF8A03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0E40-536B-4373-AAD8-30F35BEB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D58-D985-4730-A3E1-BD6F874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8DD-5549-48EF-8B65-8409BF4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31E-BFD5-458F-873F-E9423DB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0D0-1C9D-4853-B420-F6CE3D82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310-115E-46B0-8F37-F6CAE2A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A0D9-47D5-4BA7-A072-6B20B3A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6CC-64B2-47E6-B118-87444AF3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ACA-3535-4B5A-85C3-7BA4CCE7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CCED-25DE-404B-A75E-40EA9A21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FF4E-66DF-46F9-BA07-3521A94C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B89A-D7D6-4E36-B268-9B5EF089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23A2-9D84-4229-9FEF-5D697A8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768D-6E30-4046-A25A-35657FB1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5AE6-BB79-4EFF-9CB9-A630964D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DDA-02BC-419A-8312-29B14EF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BC36-CF3F-49C2-A11D-9FBB8BEE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3CB0-D11C-4787-991A-39186A6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3FA9-D72C-43AB-90AB-125B6654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639E-367B-4DF6-9563-2A2A05B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ABC7-A3FA-4DBE-A437-FB93E97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92F4-E37D-4A62-8E7E-AEAE41A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669F-B01E-482C-85C8-4B79116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C75B-AABE-4702-8D7B-C8218778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9E33-492C-4401-A655-75BD2F7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3961-C47F-4D62-8B5F-769B0FBF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6DE-EAB1-4C0C-AB10-582D464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0C71B-C1C3-4CB3-8296-ADB741C8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E10A-A4C0-4A9E-9784-813A2CD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A945-C511-40F1-B2B2-D5C2483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7497-36A9-44B1-AD75-7AC34CB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4100-D109-48B3-A573-8A117CB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FDF8-DFA8-45EE-B4C1-12644675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48AE-B105-43B0-9D96-EC50C1E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D30A-FA4B-43CB-A4A8-66099AC1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7476-E0A7-4531-8704-11FF6EBE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B86C-5869-4EC5-8AC2-6F623651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789-F64B-4E3F-BD49-776E565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E82A1-4C54-4C4F-8995-7C9100E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24E7-176A-409C-9731-97B9D84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BBC4-687C-4E60-95C4-824B166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B356E-80B9-4A71-B296-32730A3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65F5-FD4C-49DC-BAAE-033CE784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1E2E-7BAE-45CA-8409-9B1F54A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9A15-B7D3-4F63-8201-7E49344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4817-CA1F-478E-8EE8-24B9590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7225-F63D-4573-8B69-2A2D8D39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7E2C0-FF89-4DA9-AD67-671E8900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1FA-5A40-4B66-A32F-1901160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3DDDB-18D5-484F-9B37-977E84D2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66589-1525-4CAA-8673-D7B343EC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F2830-106E-487F-B1C3-347EDE7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4641-C518-486E-BDBC-48A584E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5BD3-18B6-4BAA-8A4C-0C63AD6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64E9-EE1C-4CDA-A748-A6C13351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FEE3-9A44-4ACB-8934-5DF9AE3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9DC3-8EA9-4F7A-BB2B-EB47D4E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A522-C474-452B-A9DD-7D29893E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46ED-8F59-4FED-940C-9380A0F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7AB-828C-4114-8037-504F9C5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96B7F-517D-4AAB-821D-B18D6AF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4E00-3277-4CB4-B01F-EB2FED67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BF8A-B8BA-4C3A-A328-AFB276BA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C51F-E604-4D4B-A537-CF6A79A9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3033-4611-4BD0-BF63-842C9B88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2F2A-96C9-460B-B41C-8290E57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F362-2BFC-4D53-B0CC-2CE01A8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89398-AE8A-4080-8A4D-DA348E7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39DEC-A04C-4CC8-8223-300A725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6F1C-F939-4159-A88A-46B5220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5AB-143E-46CF-9C0D-4F609C1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2E35E-139F-4C0A-AAB5-5893B50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7F4C-5954-4A4D-A1F6-5537D90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DE44-468A-45F5-BBBD-663B2A03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C863-1BE4-4FFF-B14A-650C6BA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831D-5DBD-4E43-ACD9-17973C4D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96AA-3690-4D8F-BEEA-EABDE1C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C8E5-99B3-401E-8F4F-746FE7E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B2706-5117-417E-B077-E911C659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76689-CC28-47CE-87CA-56D3F473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AC19-B762-48C4-AD34-6D0F8017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A55-A6DE-4D0A-B596-F2ACFA4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4BDBD-9C62-4F4E-A348-88D3C7FA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01037-DB63-43EE-AFFB-27F5CC8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DBA8-35E4-40C5-8498-007A8B0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D6F4-B877-4B7C-80F9-FD6ECC3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8A51A-780A-4D46-9072-EC38218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463DB-98EC-4471-AFDD-D80A2F6F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CE55A-6412-4AB2-A5DB-C571AEC3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4B90E-925E-4394-963B-3C013610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6C9B-0EDF-46BA-87F9-C4DB422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89B57-C143-41AA-A2E2-09558D8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9767-5E1B-46D7-820A-6435B6E66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DA0-9F7C-4A0B-A238-8B3C41A3D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07A-2DF5-476D-8CEC-508D6930A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302-0D52-4698-9364-7B03EF9B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C41-F00B-4A23-9118-645FF156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F32-5A97-48A5-94D2-DDE317F6D22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C64-9F3B-4E54-8AA1-69BA096316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200810300940443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B51-4B4D-4CB9-8D85-56A521B04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957-76B1-4C4F-A9B5-C39410DAB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731-A542-4B11-8824-6CFAF3CB0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4A3-C69D-4B78-96A0-51EFEC25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E21-E931-4ECD-8D73-B6D01344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FBF5-6FFB-4A6D-8F27-A9E9913F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1_20582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20081030094044388"/>
          <p:cNvPicPr/>
          <p:nvPr/>
        </p:nvPicPr>
        <p:blipFill>
          <a:blip r:embed="rId3"/>
          <a:srcRect l="52929" t="0" r="0" b="37106"/>
          <a:stretch/>
        </p:blipFill>
        <p:spPr>
          <a:xfrm rot="20507400">
            <a:off x="380880" y="304920"/>
            <a:ext cx="2586240" cy="2590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0DE-D4DA-4574-A7E2-C808039C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8344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韩版卡通小鹿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219320" y="5943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8FD6-E7E3-4F2D-84D1-D2D6DA1F56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7:5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58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