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FB7-AD5D-4508-9C1D-23D0F926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416-16A7-471D-AC1A-1AE0BAD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8A2-F924-438A-965D-D58222DF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211-8A54-4102-AA28-38B2ABA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183-C275-46FB-9D76-72CB41F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B347-7EF5-4B5B-9033-E485A5B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6857-94BD-4BFA-A7BC-301CB4A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54E5-FAF3-42B1-B5CA-B20F281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9C1-4572-4431-B622-0325A815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6125-D205-4E9A-9ADC-8A08973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83E0-9717-4398-A3F3-55AD2F1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CC0-9637-49B3-B5F5-BAFFD9D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96DD-A487-4149-879C-10A8A5B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2D5E-ACCB-4EA7-B4F4-36987A2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219-4408-4DCB-A068-7E73595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FF7-6E9B-4FAC-A66A-63DDBC05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2DFC-1EE8-4E50-A5F0-C8497026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1837-F68E-4419-8EA9-E03AF819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B6AE-6BFD-46B0-8E15-040AFAAE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558A-B02C-4912-B069-C11EBF7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C015-9E4B-4CCB-A5ED-A528803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0F33-00F1-4F4F-B585-D3691C0D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B65-3182-4875-8AE3-C3F08CFF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8C5B-6D5A-4ABB-9CB0-4CF37B5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57D84-6173-4C95-928A-5ED5129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ABC5-CB5C-4740-80C3-BC61FC4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06D6-0882-4B96-8680-826F92D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B70A-C14C-4104-9AAE-A7E03AF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22D8-28A6-4503-AFF3-BBAABD5E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4204-3C54-48B6-A7C3-FE66FE4A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79A-52C7-4D9A-9AB9-B97A0441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D12-640B-415C-A810-1E111F0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16F-4BF1-4390-9920-067540E0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531-8CFC-4EAE-B136-C3F7312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7A0-FEA1-4DA7-876F-20FADEE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B51-2DBF-4D09-A29B-94BA9D64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7CDC-31AE-47DB-86A5-5A2AC20D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FC61-E0C7-4113-A571-9B8B0E45C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30A8-B173-4C99-9343-E4DC53D277B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FE8-1053-4D54-A4C4-F9C192AAB7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pic_6654"/>
          <p:cNvPicPr/>
          <p:nvPr/>
        </p:nvPicPr>
        <p:blipFill>
          <a:blip r:embed="rId1"/>
          <a:srcRect l="9302" t="50005" r="776" b="8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976320" y="5097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家乡课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706770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Oval 3"/>
          <p:cNvSpPr/>
          <p:nvPr/>
        </p:nvSpPr>
        <p:spPr>
          <a:xfrm>
            <a:off x="380880" y="762120"/>
            <a:ext cx="243864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广  鱼虾  脚下  捡起来  贝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原来  奔跑  茂密  马匹  城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高楼  楼房  宝贝  平原   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591C-A842-4F97-A237-6175C7418C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707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Oval 3"/>
          <p:cNvSpPr/>
          <p:nvPr/>
        </p:nvSpPr>
        <p:spPr>
          <a:xfrm>
            <a:off x="304920" y="0"/>
            <a:ext cx="30477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读读写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1752480"/>
            <a:ext cx="10476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画的海那么蓝，那么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画的平原那么平坦，那么宽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           ，那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7000" y="4648320"/>
            <a:ext cx="2590920" cy="360"/>
            <a:chOff x="27000" y="4648320"/>
            <a:chExt cx="2590920" cy="360"/>
          </a:xfrm>
        </p:grpSpPr>
        <p:sp>
          <p:nvSpPr>
            <p:cNvPr id="185" name="Line 5"/>
            <p:cNvSpPr/>
            <p:nvPr/>
          </p:nvSpPr>
          <p:spPr>
            <a:xfrm>
              <a:off x="27000" y="46483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7000" y="46483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4648320"/>
            <a:ext cx="1828800" cy="360"/>
            <a:chOff x="3733920" y="4648320"/>
            <a:chExt cx="1828800" cy="360"/>
          </a:xfrm>
        </p:grpSpPr>
        <p:sp>
          <p:nvSpPr>
            <p:cNvPr id="188" name="Line 6"/>
            <p:cNvSpPr/>
            <p:nvPr/>
          </p:nvSpPr>
          <p:spPr>
            <a:xfrm>
              <a:off x="373392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733920" y="4648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201080" y="4572000"/>
            <a:ext cx="1763640" cy="9360"/>
            <a:chOff x="7201080" y="4572000"/>
            <a:chExt cx="1763640" cy="9360"/>
          </a:xfrm>
        </p:grpSpPr>
        <p:sp>
          <p:nvSpPr>
            <p:cNvPr id="191" name="Line 7"/>
            <p:cNvSpPr/>
            <p:nvPr/>
          </p:nvSpPr>
          <p:spPr>
            <a:xfrm>
              <a:off x="7201080" y="4572000"/>
              <a:ext cx="1763640" cy="9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201080" y="4572000"/>
              <a:ext cx="176364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pic_6654"/>
          <p:cNvPicPr/>
          <p:nvPr/>
        </p:nvPicPr>
        <p:blipFill>
          <a:blip r:embed="rId1"/>
          <a:srcRect l="9302" t="50005" r="776" b="8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涛涛的家乡在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海边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他画的海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蓝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。一艘艘船上装满了鱼和虾。那个在海滩上赤着脚捡贝壳的孩子，就是涛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pic_6655"/>
          <p:cNvPicPr/>
          <p:nvPr/>
        </p:nvPicPr>
        <p:blipFill>
          <a:blip r:embed="rId1">
            <a:lum contrast="36000"/>
          </a:blip>
          <a:srcRect l="7749" t="4083" r="6980" b="70414"/>
          <a:stretch/>
        </p:blipFill>
        <p:spPr>
          <a:xfrm>
            <a:off x="0" y="3049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5791320"/>
            <a:ext cx="9144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pic_6655"/>
          <p:cNvPicPr/>
          <p:nvPr/>
        </p:nvPicPr>
        <p:blipFill>
          <a:blip r:embed="rId1"/>
          <a:srcRect l="7749" t="4083" r="6980" b="704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5791320"/>
            <a:ext cx="9144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1219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山的家乡在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山里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他画的山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，水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清。房前屋后都是又高又大的树。画上的山山，提着小竹蓝，正要到树林里去采蘑菇呢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pic_6655"/>
          <p:cNvPicPr/>
          <p:nvPr/>
        </p:nvPicPr>
        <p:blipFill>
          <a:blip r:embed="rId1">
            <a:lum contrast="48000"/>
          </a:blip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8200"/>
          <p:cNvSpPr/>
          <p:nvPr/>
        </p:nvSpPr>
        <p:spPr>
          <a:xfrm>
            <a:off x="1260360" y="11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ic_6655"/>
          <p:cNvPicPr/>
          <p:nvPr/>
        </p:nvPicPr>
        <p:blipFill>
          <a:blip r:embed="rId1">
            <a:lum contrast="48000"/>
          </a:blip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pic_6655"/>
          <p:cNvPicPr/>
          <p:nvPr/>
        </p:nvPicPr>
        <p:blipFill>
          <a:blip r:embed="rId2"/>
          <a:srcRect l="12400" t="65309" r="6980" b="7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平的家乡在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平原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。她画的平原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坦，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那么</a:t>
            </a: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广。有金黄的稻子，雪白的棉花，还有一大片碧绿的菜地。屋前有鸡、鸭，屋后有翠竹。正在田野上奔跑的小女孩就是平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"/>
          <p:cNvSpPr/>
          <p:nvPr/>
        </p:nvSpPr>
        <p:spPr>
          <a:xfrm>
            <a:off x="0" y="0"/>
            <a:ext cx="2895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读读想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152388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青青的家乡在哪儿？她画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京京的家乡在哪儿？他画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你的家乡在哪儿？准备画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7067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286000" y="304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画家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371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涛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0880" y="2362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山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9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4648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青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80880" y="5638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京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76720" y="5715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城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76720" y="4572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200400" y="3429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平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352680" y="2286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山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352680" y="1295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海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943600" y="12952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捡贝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94360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采蘑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6019920" y="34290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奔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943600" y="44956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骑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6019920" y="5791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去科技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7067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Oval 3"/>
          <p:cNvSpPr/>
          <p:nvPr/>
        </p:nvSpPr>
        <p:spPr>
          <a:xfrm>
            <a:off x="0" y="380880"/>
            <a:ext cx="2590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09480" y="22399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宽  虾  脚  捡  贝  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原  奔  密  匹  市  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31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