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15236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FD4A-2CA9-4B17-87DA-E65E1B0D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1036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360" y="3964320"/>
            <a:ext cx="1036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A6DC-39E4-4469-B5E2-D1CAB4E1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6360" y="396432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89960" y="396432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A16E-21CC-4BAC-A1E5-B6DAD6F9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82400" y="160020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88440" y="160020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6360" y="396432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82400" y="396432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588440" y="396432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B871-D0BA-4541-A6DF-01170985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2E29-3BA3-484D-A42D-0DB6C22B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6360" y="1600200"/>
            <a:ext cx="1036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81D3-8595-4AD4-A462-5A8F0E60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103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B3AE-C320-451D-B663-7817CA1B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11FB-8D3C-4DEF-B248-637CF687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D6A6-30A0-42D0-AE39-5EAC5634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6360" y="274320"/>
            <a:ext cx="1036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FFFE-7A36-4FDC-9625-93A087F9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6360" y="396432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1D74-3D90-42D1-9AA4-8E23D362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6360" y="1600200"/>
            <a:ext cx="1036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7CB-C672-4AD9-BB01-9452C283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889960" y="396432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AE17-D8E9-4D45-93C4-88C60BEF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6360" y="3964320"/>
            <a:ext cx="1036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F512-C54A-40F0-BAAE-FAE32656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1036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6360" y="3964320"/>
            <a:ext cx="1036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5C1B-5360-4F59-A74D-EB3096A3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6360" y="396432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889960" y="396432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107A-D452-428F-A0DD-6BDBEAB5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82400" y="160020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88440" y="160020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6360" y="396432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82400" y="396432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588440" y="396432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6D0B-68A4-4C62-8B41-72270942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103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60A-634D-4D1B-B55E-219F60C4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88EC-167E-4172-B222-CED5D1B2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1138-9216-4C43-B1BA-312146FF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6360" y="274320"/>
            <a:ext cx="1036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47D9-896E-4BBA-BA0F-10992713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6360" y="396432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A5BE-0BA0-4F8A-A819-4F492D5B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89960" y="396432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4521-415B-466A-A538-58C61978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6360" y="3964320"/>
            <a:ext cx="1036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BA3-F3ED-4FA6-A613-35665943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6360" y="1600200"/>
            <a:ext cx="103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6000" y="6244920"/>
            <a:ext cx="26874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36960" y="6244920"/>
            <a:ext cx="3648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8040" y="6244920"/>
            <a:ext cx="26877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4A25-16A0-4859-B835-5260F88A7D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CDB3-A4B5-4AF3-B3FA-3346F755F11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525F-17E3-4856-9B9F-601CD771DB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63640" y="2130120"/>
            <a:ext cx="9794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28720" y="3886200"/>
            <a:ext cx="8064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标题 1"/>
          <p:cNvSpPr/>
          <p:nvPr/>
        </p:nvSpPr>
        <p:spPr>
          <a:xfrm>
            <a:off x="863640" y="1847880"/>
            <a:ext cx="9794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互联网企业介绍</a:t>
            </a:r>
            <a:r>
              <a:rPr b="0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0" y="0"/>
            <a:ext cx="114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品牌营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15"/>
          <p:cNvSpPr/>
          <p:nvPr/>
        </p:nvSpPr>
        <p:spPr>
          <a:xfrm>
            <a:off x="351000" y="1219320"/>
            <a:ext cx="10896480" cy="4952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7"/>
          <p:cNvSpPr/>
          <p:nvPr/>
        </p:nvSpPr>
        <p:spPr>
          <a:xfrm>
            <a:off x="4797360" y="17524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故事与品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7"/>
          <p:cNvSpPr/>
          <p:nvPr/>
        </p:nvSpPr>
        <p:spPr>
          <a:xfrm>
            <a:off x="1265400" y="2895480"/>
            <a:ext cx="93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营销推广从故事讲起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《管理者的烦恼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0"/>
            <a:ext cx="114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故事—管理者的烦恼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15"/>
          <p:cNvSpPr/>
          <p:nvPr/>
        </p:nvSpPr>
        <p:spPr>
          <a:xfrm>
            <a:off x="4389480" y="1219320"/>
            <a:ext cx="6858000" cy="4952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7"/>
          <p:cNvSpPr/>
          <p:nvPr/>
        </p:nvSpPr>
        <p:spPr>
          <a:xfrm>
            <a:off x="4998960" y="167652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宛西制药是一家大型的浓缩丸生产基地。现已控股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家子公司，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多个分支机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但是，总部对分支机构管理能力比较弱，引起了公司高层的注意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2010519165127323"/>
          <p:cNvPicPr/>
          <p:nvPr/>
        </p:nvPicPr>
        <p:blipFill>
          <a:blip r:embed="rId1"/>
          <a:stretch/>
        </p:blipFill>
        <p:spPr>
          <a:xfrm>
            <a:off x="198360" y="20574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0"/>
            <a:ext cx="114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分析部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7"/>
          <p:cNvSpPr/>
          <p:nvPr/>
        </p:nvSpPr>
        <p:spPr>
          <a:xfrm>
            <a:off x="1189080" y="3884760"/>
            <a:ext cx="944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有什么办法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可以让更多的“宛西制药”进行有效管理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有什么办法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把有价值的方法推荐给更多的“宛西制药”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7"/>
          <p:cNvSpPr/>
          <p:nvPr/>
        </p:nvSpPr>
        <p:spPr>
          <a:xfrm>
            <a:off x="1265400" y="167652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这个故事不仅仅发生在宛西制药身上，而是普遍发生在企业这个群体之间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0"/>
            <a:ext cx="114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故事—管理者的烦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7"/>
          <p:cNvSpPr/>
          <p:nvPr/>
        </p:nvSpPr>
        <p:spPr>
          <a:xfrm>
            <a:off x="1341360" y="3733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试用金蝶友商在线会计后，他发现不仅操作极为简单、不需要安装，而且只要有网络，随时随地都可以查看并工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7"/>
          <p:cNvSpPr/>
          <p:nvPr/>
        </p:nvSpPr>
        <p:spPr>
          <a:xfrm>
            <a:off x="1265400" y="1676520"/>
            <a:ext cx="9372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宛西制药管理者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偶然间”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在“财务与会计”杂志上看到了一则广告——金蝶旗下网站友商网（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www.youshang.com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）为广大中小企业提供的在线管理服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7"/>
          <p:cNvSpPr/>
          <p:nvPr/>
        </p:nvSpPr>
        <p:spPr>
          <a:xfrm>
            <a:off x="351000" y="914400"/>
            <a:ext cx="944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故事继续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圆角矩形 15"/>
          <p:cNvSpPr/>
          <p:nvPr/>
        </p:nvSpPr>
        <p:spPr>
          <a:xfrm>
            <a:off x="1447920" y="1523880"/>
            <a:ext cx="3352680" cy="259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a6a6a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114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品牌营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2971800" y="460224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事件营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"/>
          <p:cNvSpPr/>
          <p:nvPr/>
        </p:nvSpPr>
        <p:spPr>
          <a:xfrm>
            <a:off x="2133720" y="1600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软文营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7"/>
          <p:cNvSpPr/>
          <p:nvPr/>
        </p:nvSpPr>
        <p:spPr>
          <a:xfrm>
            <a:off x="2133720" y="2133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博客营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7"/>
          <p:cNvSpPr/>
          <p:nvPr/>
        </p:nvSpPr>
        <p:spPr>
          <a:xfrm>
            <a:off x="2133720" y="2743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论坛营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1676520" y="33066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短信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邮件营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7"/>
          <p:cNvSpPr/>
          <p:nvPr/>
        </p:nvSpPr>
        <p:spPr>
          <a:xfrm>
            <a:off x="7467480" y="3429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二次营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"/>
          <p:cNvSpPr/>
          <p:nvPr/>
        </p:nvSpPr>
        <p:spPr>
          <a:xfrm>
            <a:off x="5075280" y="55166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S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7"/>
          <p:cNvSpPr/>
          <p:nvPr/>
        </p:nvSpPr>
        <p:spPr>
          <a:xfrm>
            <a:off x="7848720" y="16304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7"/>
          <p:cNvSpPr/>
          <p:nvPr/>
        </p:nvSpPr>
        <p:spPr>
          <a:xfrm>
            <a:off x="7467480" y="2209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微博营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7"/>
          <p:cNvSpPr/>
          <p:nvPr/>
        </p:nvSpPr>
        <p:spPr>
          <a:xfrm>
            <a:off x="6477120" y="460224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线下营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7"/>
          <p:cNvSpPr/>
          <p:nvPr/>
        </p:nvSpPr>
        <p:spPr>
          <a:xfrm>
            <a:off x="7467480" y="2819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电话营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15"/>
          <p:cNvSpPr/>
          <p:nvPr/>
        </p:nvSpPr>
        <p:spPr>
          <a:xfrm>
            <a:off x="6629400" y="1523880"/>
            <a:ext cx="3352680" cy="259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a6a6a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4465800" y="2666880"/>
            <a:ext cx="304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长尾效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品牌口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5377"/>
          <p:cNvSpPr/>
          <p:nvPr/>
        </p:nvSpPr>
        <p:spPr>
          <a:xfrm>
            <a:off x="2484360" y="41767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0" y="0"/>
            <a:ext cx="114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品牌营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角矩形 17"/>
          <p:cNvSpPr/>
          <p:nvPr/>
        </p:nvSpPr>
        <p:spPr>
          <a:xfrm>
            <a:off x="7711920" y="1905120"/>
            <a:ext cx="3154680" cy="1828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16"/>
          <p:cNvSpPr/>
          <p:nvPr/>
        </p:nvSpPr>
        <p:spPr>
          <a:xfrm>
            <a:off x="3946680" y="1905120"/>
            <a:ext cx="3338280" cy="1828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圆角矩形 15"/>
          <p:cNvSpPr/>
          <p:nvPr/>
        </p:nvSpPr>
        <p:spPr>
          <a:xfrm>
            <a:off x="480960" y="1905120"/>
            <a:ext cx="3029040" cy="1828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7804080" y="196992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Part3: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传播规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4"/>
          <p:cNvSpPr/>
          <p:nvPr/>
        </p:nvSpPr>
        <p:spPr>
          <a:xfrm>
            <a:off x="894960" y="1969920"/>
            <a:ext cx="238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Part1: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背景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5"/>
          <p:cNvSpPr/>
          <p:nvPr/>
        </p:nvSpPr>
        <p:spPr>
          <a:xfrm>
            <a:off x="4317480" y="1969920"/>
            <a:ext cx="238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Part2: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传播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7"/>
          <p:cNvSpPr/>
          <p:nvPr/>
        </p:nvSpPr>
        <p:spPr>
          <a:xfrm>
            <a:off x="1050840" y="254160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任务解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目标群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8"/>
          <p:cNvSpPr/>
          <p:nvPr/>
        </p:nvSpPr>
        <p:spPr>
          <a:xfrm>
            <a:off x="4444920" y="254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族群定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传播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9"/>
          <p:cNvSpPr/>
          <p:nvPr/>
        </p:nvSpPr>
        <p:spPr>
          <a:xfrm>
            <a:off x="8231040" y="254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怎么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说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1"/>
          <p:cNvSpPr/>
          <p:nvPr/>
        </p:nvSpPr>
        <p:spPr>
          <a:xfrm>
            <a:off x="884160" y="4152960"/>
            <a:ext cx="2214720" cy="45972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2"/>
          <p:cNvSpPr/>
          <p:nvPr/>
        </p:nvSpPr>
        <p:spPr>
          <a:xfrm>
            <a:off x="4313160" y="4152960"/>
            <a:ext cx="2643120" cy="45972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策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7754760" y="4152960"/>
            <a:ext cx="2883240" cy="45972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行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下箭头 18"/>
          <p:cNvSpPr/>
          <p:nvPr/>
        </p:nvSpPr>
        <p:spPr>
          <a:xfrm>
            <a:off x="1689120" y="3757680"/>
            <a:ext cx="6429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下箭头 19"/>
          <p:cNvSpPr/>
          <p:nvPr/>
        </p:nvSpPr>
        <p:spPr>
          <a:xfrm>
            <a:off x="5303880" y="3757680"/>
            <a:ext cx="6429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下箭头 20"/>
          <p:cNvSpPr/>
          <p:nvPr/>
        </p:nvSpPr>
        <p:spPr>
          <a:xfrm>
            <a:off x="8885160" y="3757680"/>
            <a:ext cx="6429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4237200" y="510552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赋予场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WHO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？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HOW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7"/>
          <p:cNvSpPr/>
          <p:nvPr/>
        </p:nvSpPr>
        <p:spPr>
          <a:xfrm>
            <a:off x="8352000" y="52578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7"/>
          <p:cNvSpPr/>
          <p:nvPr/>
        </p:nvSpPr>
        <p:spPr>
          <a:xfrm>
            <a:off x="1341360" y="5029200"/>
            <a:ext cx="121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分析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0" y="0"/>
            <a:ext cx="114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品牌营销——期待效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6890400" y="1547640"/>
            <a:ext cx="219240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让产品说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产品和受众的点对点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855360" y="4267080"/>
            <a:ext cx="146088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用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让产品“驻”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与受众保持互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8657280" y="4191120"/>
            <a:ext cx="219240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市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让受众传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提升受众的人际口碑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27"/>
          <p:cNvSpPr/>
          <p:nvPr/>
        </p:nvSpPr>
        <p:spPr>
          <a:xfrm flipH="1" rot="6051600">
            <a:off x="6439320" y="2715480"/>
            <a:ext cx="863640" cy="1168200"/>
          </a:xfrm>
          <a:custGeom>
            <a:avLst/>
            <a:gdLst/>
            <a:ahLst/>
            <a:rect l="l" t="t" r="r" b="b"/>
            <a:pathLst>
              <a:path w="1475" h="1760">
                <a:moveTo>
                  <a:pt x="595" y="1173"/>
                </a:moveTo>
                <a:lnTo>
                  <a:pt x="593" y="1142"/>
                </a:lnTo>
                <a:lnTo>
                  <a:pt x="592" y="1112"/>
                </a:lnTo>
                <a:lnTo>
                  <a:pt x="585" y="1083"/>
                </a:lnTo>
                <a:lnTo>
                  <a:pt x="581" y="1054"/>
                </a:lnTo>
                <a:lnTo>
                  <a:pt x="575" y="1027"/>
                </a:lnTo>
                <a:lnTo>
                  <a:pt x="567" y="998"/>
                </a:lnTo>
                <a:lnTo>
                  <a:pt x="559" y="969"/>
                </a:lnTo>
                <a:lnTo>
                  <a:pt x="547" y="944"/>
                </a:lnTo>
                <a:lnTo>
                  <a:pt x="537" y="918"/>
                </a:lnTo>
                <a:lnTo>
                  <a:pt x="522" y="891"/>
                </a:lnTo>
                <a:lnTo>
                  <a:pt x="508" y="867"/>
                </a:lnTo>
                <a:lnTo>
                  <a:pt x="494" y="843"/>
                </a:lnTo>
                <a:lnTo>
                  <a:pt x="478" y="822"/>
                </a:lnTo>
                <a:lnTo>
                  <a:pt x="461" y="798"/>
                </a:lnTo>
                <a:lnTo>
                  <a:pt x="440" y="777"/>
                </a:lnTo>
                <a:lnTo>
                  <a:pt x="421" y="756"/>
                </a:lnTo>
                <a:lnTo>
                  <a:pt x="402" y="737"/>
                </a:lnTo>
                <a:lnTo>
                  <a:pt x="380" y="720"/>
                </a:lnTo>
                <a:lnTo>
                  <a:pt x="358" y="702"/>
                </a:lnTo>
                <a:lnTo>
                  <a:pt x="334" y="685"/>
                </a:lnTo>
                <a:lnTo>
                  <a:pt x="312" y="669"/>
                </a:lnTo>
                <a:lnTo>
                  <a:pt x="286" y="657"/>
                </a:lnTo>
                <a:lnTo>
                  <a:pt x="261" y="643"/>
                </a:lnTo>
                <a:lnTo>
                  <a:pt x="237" y="630"/>
                </a:lnTo>
                <a:lnTo>
                  <a:pt x="208" y="622"/>
                </a:lnTo>
                <a:lnTo>
                  <a:pt x="182" y="610"/>
                </a:lnTo>
                <a:lnTo>
                  <a:pt x="153" y="604"/>
                </a:lnTo>
                <a:lnTo>
                  <a:pt x="126" y="598"/>
                </a:lnTo>
                <a:lnTo>
                  <a:pt x="97" y="592"/>
                </a:lnTo>
                <a:lnTo>
                  <a:pt x="66" y="589"/>
                </a:lnTo>
                <a:lnTo>
                  <a:pt x="37" y="588"/>
                </a:lnTo>
                <a:lnTo>
                  <a:pt x="8" y="585"/>
                </a:lnTo>
                <a:lnTo>
                  <a:pt x="7" y="585"/>
                </a:lnTo>
                <a:lnTo>
                  <a:pt x="0" y="0"/>
                </a:lnTo>
                <a:lnTo>
                  <a:pt x="8" y="0"/>
                </a:lnTo>
                <a:lnTo>
                  <a:pt x="37" y="0"/>
                </a:lnTo>
                <a:lnTo>
                  <a:pt x="66" y="0"/>
                </a:lnTo>
                <a:lnTo>
                  <a:pt x="97" y="2"/>
                </a:lnTo>
                <a:lnTo>
                  <a:pt x="127" y="4"/>
                </a:lnTo>
                <a:lnTo>
                  <a:pt x="156" y="8"/>
                </a:lnTo>
                <a:lnTo>
                  <a:pt x="186" y="12"/>
                </a:lnTo>
                <a:lnTo>
                  <a:pt x="214" y="16"/>
                </a:lnTo>
                <a:lnTo>
                  <a:pt x="243" y="21"/>
                </a:lnTo>
                <a:lnTo>
                  <a:pt x="272" y="27"/>
                </a:lnTo>
                <a:lnTo>
                  <a:pt x="299" y="37"/>
                </a:lnTo>
                <a:lnTo>
                  <a:pt x="327" y="44"/>
                </a:lnTo>
                <a:lnTo>
                  <a:pt x="355" y="51"/>
                </a:lnTo>
                <a:lnTo>
                  <a:pt x="384" y="59"/>
                </a:lnTo>
                <a:lnTo>
                  <a:pt x="410" y="70"/>
                </a:lnTo>
                <a:lnTo>
                  <a:pt x="439" y="80"/>
                </a:lnTo>
                <a:lnTo>
                  <a:pt x="465" y="91"/>
                </a:lnTo>
                <a:lnTo>
                  <a:pt x="490" y="102"/>
                </a:lnTo>
                <a:lnTo>
                  <a:pt x="516" y="114"/>
                </a:lnTo>
                <a:lnTo>
                  <a:pt x="541" y="128"/>
                </a:lnTo>
                <a:lnTo>
                  <a:pt x="567" y="141"/>
                </a:lnTo>
                <a:lnTo>
                  <a:pt x="592" y="153"/>
                </a:lnTo>
                <a:lnTo>
                  <a:pt x="616" y="169"/>
                </a:lnTo>
                <a:lnTo>
                  <a:pt x="640" y="182"/>
                </a:lnTo>
                <a:lnTo>
                  <a:pt x="662" y="200"/>
                </a:lnTo>
                <a:lnTo>
                  <a:pt x="686" y="215"/>
                </a:lnTo>
                <a:lnTo>
                  <a:pt x="710" y="233"/>
                </a:lnTo>
                <a:lnTo>
                  <a:pt x="755" y="267"/>
                </a:lnTo>
                <a:lnTo>
                  <a:pt x="798" y="305"/>
                </a:lnTo>
                <a:lnTo>
                  <a:pt x="836" y="341"/>
                </a:lnTo>
                <a:lnTo>
                  <a:pt x="875" y="382"/>
                </a:lnTo>
                <a:lnTo>
                  <a:pt x="911" y="426"/>
                </a:lnTo>
                <a:lnTo>
                  <a:pt x="947" y="469"/>
                </a:lnTo>
                <a:lnTo>
                  <a:pt x="965" y="494"/>
                </a:lnTo>
                <a:lnTo>
                  <a:pt x="979" y="515"/>
                </a:lnTo>
                <a:lnTo>
                  <a:pt x="995" y="538"/>
                </a:lnTo>
                <a:lnTo>
                  <a:pt x="1009" y="563"/>
                </a:lnTo>
                <a:lnTo>
                  <a:pt x="1025" y="588"/>
                </a:lnTo>
                <a:lnTo>
                  <a:pt x="1038" y="613"/>
                </a:lnTo>
                <a:lnTo>
                  <a:pt x="1052" y="636"/>
                </a:lnTo>
                <a:lnTo>
                  <a:pt x="1064" y="662"/>
                </a:lnTo>
                <a:lnTo>
                  <a:pt x="1077" y="690"/>
                </a:lnTo>
                <a:lnTo>
                  <a:pt x="1089" y="716"/>
                </a:lnTo>
                <a:lnTo>
                  <a:pt x="1099" y="741"/>
                </a:lnTo>
                <a:lnTo>
                  <a:pt x="1110" y="767"/>
                </a:lnTo>
                <a:lnTo>
                  <a:pt x="1119" y="796"/>
                </a:lnTo>
                <a:lnTo>
                  <a:pt x="1128" y="822"/>
                </a:lnTo>
                <a:lnTo>
                  <a:pt x="1136" y="850"/>
                </a:lnTo>
                <a:lnTo>
                  <a:pt x="1142" y="879"/>
                </a:lnTo>
                <a:lnTo>
                  <a:pt x="1152" y="907"/>
                </a:lnTo>
                <a:lnTo>
                  <a:pt x="1155" y="934"/>
                </a:lnTo>
                <a:lnTo>
                  <a:pt x="1162" y="963"/>
                </a:lnTo>
                <a:lnTo>
                  <a:pt x="1166" y="994"/>
                </a:lnTo>
                <a:lnTo>
                  <a:pt x="1171" y="1021"/>
                </a:lnTo>
                <a:lnTo>
                  <a:pt x="1175" y="1053"/>
                </a:lnTo>
                <a:lnTo>
                  <a:pt x="1176" y="1082"/>
                </a:lnTo>
                <a:lnTo>
                  <a:pt x="1180" y="1112"/>
                </a:lnTo>
                <a:lnTo>
                  <a:pt x="1180" y="1142"/>
                </a:lnTo>
                <a:lnTo>
                  <a:pt x="1180" y="1173"/>
                </a:lnTo>
                <a:lnTo>
                  <a:pt x="1183" y="1173"/>
                </a:lnTo>
                <a:lnTo>
                  <a:pt x="1475" y="1173"/>
                </a:lnTo>
                <a:lnTo>
                  <a:pt x="889" y="1760"/>
                </a:lnTo>
                <a:lnTo>
                  <a:pt x="302" y="1173"/>
                </a:lnTo>
                <a:lnTo>
                  <a:pt x="595" y="1173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764718"/>
              </a:gs>
            </a:gsLst>
            <a:lin ang="33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29"/>
          <p:cNvSpPr/>
          <p:nvPr/>
        </p:nvSpPr>
        <p:spPr>
          <a:xfrm flipH="1" rot="2965800">
            <a:off x="5022000" y="4959720"/>
            <a:ext cx="970200" cy="1101960"/>
          </a:xfrm>
          <a:custGeom>
            <a:avLst/>
            <a:gdLst/>
            <a:ahLst/>
            <a:rect l="l" t="t" r="r" b="b"/>
            <a:pathLst>
              <a:path w="1471" h="1760">
                <a:moveTo>
                  <a:pt x="881" y="587"/>
                </a:moveTo>
                <a:lnTo>
                  <a:pt x="881" y="617"/>
                </a:lnTo>
                <a:lnTo>
                  <a:pt x="882" y="646"/>
                </a:lnTo>
                <a:lnTo>
                  <a:pt x="886" y="676"/>
                </a:lnTo>
                <a:lnTo>
                  <a:pt x="892" y="705"/>
                </a:lnTo>
                <a:lnTo>
                  <a:pt x="897" y="732"/>
                </a:lnTo>
                <a:lnTo>
                  <a:pt x="906" y="761"/>
                </a:lnTo>
                <a:lnTo>
                  <a:pt x="915" y="790"/>
                </a:lnTo>
                <a:lnTo>
                  <a:pt x="925" y="816"/>
                </a:lnTo>
                <a:lnTo>
                  <a:pt x="936" y="842"/>
                </a:lnTo>
                <a:lnTo>
                  <a:pt x="950" y="867"/>
                </a:lnTo>
                <a:lnTo>
                  <a:pt x="965" y="892"/>
                </a:lnTo>
                <a:lnTo>
                  <a:pt x="980" y="915"/>
                </a:lnTo>
                <a:lnTo>
                  <a:pt x="995" y="937"/>
                </a:lnTo>
                <a:lnTo>
                  <a:pt x="1013" y="958"/>
                </a:lnTo>
                <a:lnTo>
                  <a:pt x="1031" y="980"/>
                </a:lnTo>
                <a:lnTo>
                  <a:pt x="1052" y="1001"/>
                </a:lnTo>
                <a:lnTo>
                  <a:pt x="1072" y="1019"/>
                </a:lnTo>
                <a:lnTo>
                  <a:pt x="1093" y="1040"/>
                </a:lnTo>
                <a:lnTo>
                  <a:pt x="1115" y="1056"/>
                </a:lnTo>
                <a:lnTo>
                  <a:pt x="1140" y="1073"/>
                </a:lnTo>
                <a:lnTo>
                  <a:pt x="1162" y="1087"/>
                </a:lnTo>
                <a:lnTo>
                  <a:pt x="1186" y="1103"/>
                </a:lnTo>
                <a:lnTo>
                  <a:pt x="1211" y="1116"/>
                </a:lnTo>
                <a:lnTo>
                  <a:pt x="1237" y="1128"/>
                </a:lnTo>
                <a:lnTo>
                  <a:pt x="1265" y="1138"/>
                </a:lnTo>
                <a:lnTo>
                  <a:pt x="1291" y="1146"/>
                </a:lnTo>
                <a:lnTo>
                  <a:pt x="1318" y="1154"/>
                </a:lnTo>
                <a:lnTo>
                  <a:pt x="1347" y="1162"/>
                </a:lnTo>
                <a:lnTo>
                  <a:pt x="1376" y="1166"/>
                </a:lnTo>
                <a:lnTo>
                  <a:pt x="1406" y="1171"/>
                </a:lnTo>
                <a:lnTo>
                  <a:pt x="1437" y="1172"/>
                </a:lnTo>
                <a:lnTo>
                  <a:pt x="1467" y="1172"/>
                </a:lnTo>
                <a:lnTo>
                  <a:pt x="1470" y="1172"/>
                </a:lnTo>
                <a:lnTo>
                  <a:pt x="1471" y="1760"/>
                </a:lnTo>
                <a:lnTo>
                  <a:pt x="1467" y="1760"/>
                </a:lnTo>
                <a:lnTo>
                  <a:pt x="1437" y="1760"/>
                </a:lnTo>
                <a:lnTo>
                  <a:pt x="1406" y="1757"/>
                </a:lnTo>
                <a:lnTo>
                  <a:pt x="1376" y="1757"/>
                </a:lnTo>
                <a:lnTo>
                  <a:pt x="1346" y="1753"/>
                </a:lnTo>
                <a:lnTo>
                  <a:pt x="1317" y="1752"/>
                </a:lnTo>
                <a:lnTo>
                  <a:pt x="1287" y="1745"/>
                </a:lnTo>
                <a:lnTo>
                  <a:pt x="1258" y="1741"/>
                </a:lnTo>
                <a:lnTo>
                  <a:pt x="1230" y="1735"/>
                </a:lnTo>
                <a:lnTo>
                  <a:pt x="1202" y="1730"/>
                </a:lnTo>
                <a:lnTo>
                  <a:pt x="1173" y="1723"/>
                </a:lnTo>
                <a:lnTo>
                  <a:pt x="1146" y="1717"/>
                </a:lnTo>
                <a:lnTo>
                  <a:pt x="1117" y="1708"/>
                </a:lnTo>
                <a:lnTo>
                  <a:pt x="1089" y="1698"/>
                </a:lnTo>
                <a:lnTo>
                  <a:pt x="1062" y="1688"/>
                </a:lnTo>
                <a:lnTo>
                  <a:pt x="1036" y="1679"/>
                </a:lnTo>
                <a:lnTo>
                  <a:pt x="1009" y="1668"/>
                </a:lnTo>
                <a:lnTo>
                  <a:pt x="983" y="1658"/>
                </a:lnTo>
                <a:lnTo>
                  <a:pt x="955" y="1644"/>
                </a:lnTo>
                <a:lnTo>
                  <a:pt x="932" y="1632"/>
                </a:lnTo>
                <a:lnTo>
                  <a:pt x="906" y="1619"/>
                </a:lnTo>
                <a:lnTo>
                  <a:pt x="882" y="1604"/>
                </a:lnTo>
                <a:lnTo>
                  <a:pt x="859" y="1590"/>
                </a:lnTo>
                <a:lnTo>
                  <a:pt x="834" y="1574"/>
                </a:lnTo>
                <a:lnTo>
                  <a:pt x="811" y="1560"/>
                </a:lnTo>
                <a:lnTo>
                  <a:pt x="787" y="1544"/>
                </a:lnTo>
                <a:lnTo>
                  <a:pt x="762" y="1527"/>
                </a:lnTo>
                <a:lnTo>
                  <a:pt x="719" y="1492"/>
                </a:lnTo>
                <a:lnTo>
                  <a:pt x="677" y="1456"/>
                </a:lnTo>
                <a:lnTo>
                  <a:pt x="636" y="1415"/>
                </a:lnTo>
                <a:lnTo>
                  <a:pt x="598" y="1375"/>
                </a:lnTo>
                <a:lnTo>
                  <a:pt x="560" y="1333"/>
                </a:lnTo>
                <a:lnTo>
                  <a:pt x="526" y="1288"/>
                </a:lnTo>
                <a:lnTo>
                  <a:pt x="508" y="1266"/>
                </a:lnTo>
                <a:lnTo>
                  <a:pt x="493" y="1241"/>
                </a:lnTo>
                <a:lnTo>
                  <a:pt x="478" y="1219"/>
                </a:lnTo>
                <a:lnTo>
                  <a:pt x="463" y="1194"/>
                </a:lnTo>
                <a:lnTo>
                  <a:pt x="446" y="1171"/>
                </a:lnTo>
                <a:lnTo>
                  <a:pt x="435" y="1146"/>
                </a:lnTo>
                <a:lnTo>
                  <a:pt x="422" y="1120"/>
                </a:lnTo>
                <a:lnTo>
                  <a:pt x="409" y="1096"/>
                </a:lnTo>
                <a:lnTo>
                  <a:pt x="395" y="1070"/>
                </a:lnTo>
                <a:lnTo>
                  <a:pt x="384" y="1044"/>
                </a:lnTo>
                <a:lnTo>
                  <a:pt x="373" y="1018"/>
                </a:lnTo>
                <a:lnTo>
                  <a:pt x="363" y="989"/>
                </a:lnTo>
                <a:lnTo>
                  <a:pt x="355" y="965"/>
                </a:lnTo>
                <a:lnTo>
                  <a:pt x="345" y="936"/>
                </a:lnTo>
                <a:lnTo>
                  <a:pt x="337" y="907"/>
                </a:lnTo>
                <a:lnTo>
                  <a:pt x="330" y="881"/>
                </a:lnTo>
                <a:lnTo>
                  <a:pt x="322" y="852"/>
                </a:lnTo>
                <a:lnTo>
                  <a:pt x="316" y="824"/>
                </a:lnTo>
                <a:lnTo>
                  <a:pt x="311" y="794"/>
                </a:lnTo>
                <a:lnTo>
                  <a:pt x="305" y="765"/>
                </a:lnTo>
                <a:lnTo>
                  <a:pt x="302" y="736"/>
                </a:lnTo>
                <a:lnTo>
                  <a:pt x="298" y="707"/>
                </a:lnTo>
                <a:lnTo>
                  <a:pt x="295" y="676"/>
                </a:lnTo>
                <a:lnTo>
                  <a:pt x="294" y="649"/>
                </a:lnTo>
                <a:lnTo>
                  <a:pt x="294" y="617"/>
                </a:lnTo>
                <a:lnTo>
                  <a:pt x="294" y="587"/>
                </a:lnTo>
                <a:lnTo>
                  <a:pt x="0" y="587"/>
                </a:lnTo>
                <a:lnTo>
                  <a:pt x="587" y="0"/>
                </a:lnTo>
                <a:lnTo>
                  <a:pt x="1173" y="587"/>
                </a:lnTo>
                <a:lnTo>
                  <a:pt x="881" y="587"/>
                </a:lnTo>
                <a:close/>
              </a:path>
            </a:pathLst>
          </a:custGeom>
          <a:gradFill rotWithShape="0">
            <a:gsLst>
              <a:gs pos="0">
                <a:srgbClr val="2f5e76"/>
              </a:gs>
              <a:gs pos="100000">
                <a:srgbClr val="66ccff"/>
              </a:gs>
            </a:gsLst>
            <a:lin ang="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0097-3874g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631960" y="400536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2008-04-23_123504"/>
          <p:cNvPicPr/>
          <p:nvPr/>
        </p:nvPicPr>
        <p:blipFill>
          <a:blip r:embed="rId2"/>
          <a:srcRect l="0" t="0" r="-85" b="0"/>
          <a:stretch/>
        </p:blipFill>
        <p:spPr>
          <a:xfrm>
            <a:off x="4689360" y="1752480"/>
            <a:ext cx="1511280" cy="150336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10"/>
          <p:cNvGrpSpPr/>
          <p:nvPr/>
        </p:nvGrpSpPr>
        <p:grpSpPr>
          <a:xfrm>
            <a:off x="6442200" y="4114800"/>
            <a:ext cx="1510920" cy="1152000"/>
            <a:chOff x="6442200" y="4114800"/>
            <a:chExt cx="1510920" cy="1152000"/>
          </a:xfrm>
        </p:grpSpPr>
        <p:grpSp>
          <p:nvGrpSpPr>
            <p:cNvPr id="218" name="Group 11"/>
            <p:cNvGrpSpPr/>
            <p:nvPr/>
          </p:nvGrpSpPr>
          <p:grpSpPr>
            <a:xfrm>
              <a:off x="6442200" y="4453200"/>
              <a:ext cx="1510920" cy="813600"/>
              <a:chOff x="6442200" y="4453200"/>
              <a:chExt cx="1510920" cy="813600"/>
            </a:xfrm>
          </p:grpSpPr>
          <p:sp>
            <p:nvSpPr>
              <p:cNvPr id="219" name="Oval 16"/>
              <p:cNvSpPr/>
              <p:nvPr/>
            </p:nvSpPr>
            <p:spPr>
              <a:xfrm>
                <a:off x="6442200" y="4543560"/>
                <a:ext cx="1510920" cy="723240"/>
              </a:xfrm>
              <a:prstGeom prst="ellipse">
                <a:avLst/>
              </a:prstGeom>
              <a:gradFill rotWithShape="0">
                <a:gsLst>
                  <a:gs pos="0">
                    <a:srgbClr val="777777"/>
                  </a:gs>
                  <a:gs pos="50000">
                    <a:srgbClr val="b2b2b2"/>
                  </a:gs>
                  <a:gs pos="100000">
                    <a:srgbClr val="77777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17"/>
              <p:cNvSpPr/>
              <p:nvPr/>
            </p:nvSpPr>
            <p:spPr>
              <a:xfrm>
                <a:off x="6442200" y="4453200"/>
                <a:ext cx="1510920" cy="723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b2b2b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1" name="Picture 18" descr="고객아이콘"/>
            <p:cNvPicPr/>
            <p:nvPr/>
          </p:nvPicPr>
          <p:blipFill>
            <a:blip r:embed="rId3"/>
            <a:stretch/>
          </p:blipFill>
          <p:spPr>
            <a:xfrm>
              <a:off x="6442200" y="4297680"/>
              <a:ext cx="578160" cy="85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19" descr="고객아이콘2"/>
            <p:cNvPicPr/>
            <p:nvPr/>
          </p:nvPicPr>
          <p:blipFill>
            <a:blip r:embed="rId4"/>
            <a:stretch/>
          </p:blipFill>
          <p:spPr>
            <a:xfrm>
              <a:off x="6919920" y="4114800"/>
              <a:ext cx="579960" cy="86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0" descr="고객아이콘"/>
            <p:cNvPicPr/>
            <p:nvPr/>
          </p:nvPicPr>
          <p:blipFill>
            <a:blip r:embed="rId5"/>
            <a:stretch/>
          </p:blipFill>
          <p:spPr>
            <a:xfrm>
              <a:off x="7297920" y="4297680"/>
              <a:ext cx="577800" cy="85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Freeform 33"/>
          <p:cNvSpPr/>
          <p:nvPr/>
        </p:nvSpPr>
        <p:spPr>
          <a:xfrm flipH="1" rot="16405800">
            <a:off x="3330720" y="2809800"/>
            <a:ext cx="1214640" cy="1090440"/>
          </a:xfrm>
          <a:custGeom>
            <a:avLst/>
            <a:gdLst/>
            <a:ahLst/>
            <a:rect l="l" t="t" r="r" b="b"/>
            <a:pathLst>
              <a:path w="1760" h="1470">
                <a:moveTo>
                  <a:pt x="1173" y="879"/>
                </a:moveTo>
                <a:lnTo>
                  <a:pt x="1143" y="879"/>
                </a:lnTo>
                <a:lnTo>
                  <a:pt x="1112" y="883"/>
                </a:lnTo>
                <a:lnTo>
                  <a:pt x="1082" y="885"/>
                </a:lnTo>
                <a:lnTo>
                  <a:pt x="1053" y="892"/>
                </a:lnTo>
                <a:lnTo>
                  <a:pt x="1024" y="898"/>
                </a:lnTo>
                <a:lnTo>
                  <a:pt x="997" y="905"/>
                </a:lnTo>
                <a:lnTo>
                  <a:pt x="971" y="915"/>
                </a:lnTo>
                <a:lnTo>
                  <a:pt x="943" y="924"/>
                </a:lnTo>
                <a:lnTo>
                  <a:pt x="917" y="937"/>
                </a:lnTo>
                <a:lnTo>
                  <a:pt x="892" y="951"/>
                </a:lnTo>
                <a:lnTo>
                  <a:pt x="868" y="964"/>
                </a:lnTo>
                <a:lnTo>
                  <a:pt x="846" y="979"/>
                </a:lnTo>
                <a:lnTo>
                  <a:pt x="821" y="996"/>
                </a:lnTo>
                <a:lnTo>
                  <a:pt x="799" y="1013"/>
                </a:lnTo>
                <a:lnTo>
                  <a:pt x="778" y="1031"/>
                </a:lnTo>
                <a:lnTo>
                  <a:pt x="758" y="1050"/>
                </a:lnTo>
                <a:lnTo>
                  <a:pt x="737" y="1071"/>
                </a:lnTo>
                <a:lnTo>
                  <a:pt x="719" y="1093"/>
                </a:lnTo>
                <a:lnTo>
                  <a:pt x="701" y="1114"/>
                </a:lnTo>
                <a:lnTo>
                  <a:pt x="686" y="1137"/>
                </a:lnTo>
                <a:lnTo>
                  <a:pt x="671" y="1162"/>
                </a:lnTo>
                <a:lnTo>
                  <a:pt x="656" y="1186"/>
                </a:lnTo>
                <a:lnTo>
                  <a:pt x="642" y="1212"/>
                </a:lnTo>
                <a:lnTo>
                  <a:pt x="631" y="1238"/>
                </a:lnTo>
                <a:lnTo>
                  <a:pt x="621" y="1264"/>
                </a:lnTo>
                <a:lnTo>
                  <a:pt x="612" y="1293"/>
                </a:lnTo>
                <a:lnTo>
                  <a:pt x="603" y="1317"/>
                </a:lnTo>
                <a:lnTo>
                  <a:pt x="598" y="1346"/>
                </a:lnTo>
                <a:lnTo>
                  <a:pt x="592" y="1376"/>
                </a:lnTo>
                <a:lnTo>
                  <a:pt x="588" y="1405"/>
                </a:lnTo>
                <a:lnTo>
                  <a:pt x="587" y="1436"/>
                </a:lnTo>
                <a:lnTo>
                  <a:pt x="587" y="1466"/>
                </a:lnTo>
                <a:lnTo>
                  <a:pt x="587" y="1469"/>
                </a:lnTo>
                <a:lnTo>
                  <a:pt x="0" y="1470"/>
                </a:lnTo>
                <a:lnTo>
                  <a:pt x="0" y="1466"/>
                </a:lnTo>
                <a:lnTo>
                  <a:pt x="0" y="1436"/>
                </a:lnTo>
                <a:lnTo>
                  <a:pt x="0" y="1405"/>
                </a:lnTo>
                <a:lnTo>
                  <a:pt x="1" y="1375"/>
                </a:lnTo>
                <a:lnTo>
                  <a:pt x="4" y="1346"/>
                </a:lnTo>
                <a:lnTo>
                  <a:pt x="8" y="1316"/>
                </a:lnTo>
                <a:lnTo>
                  <a:pt x="11" y="1289"/>
                </a:lnTo>
                <a:lnTo>
                  <a:pt x="17" y="1257"/>
                </a:lnTo>
                <a:lnTo>
                  <a:pt x="21" y="1230"/>
                </a:lnTo>
                <a:lnTo>
                  <a:pt x="28" y="1201"/>
                </a:lnTo>
                <a:lnTo>
                  <a:pt x="36" y="1172"/>
                </a:lnTo>
                <a:lnTo>
                  <a:pt x="43" y="1144"/>
                </a:lnTo>
                <a:lnTo>
                  <a:pt x="51" y="1115"/>
                </a:lnTo>
                <a:lnTo>
                  <a:pt x="61" y="1089"/>
                </a:lnTo>
                <a:lnTo>
                  <a:pt x="69" y="1062"/>
                </a:lnTo>
                <a:lnTo>
                  <a:pt x="79" y="1035"/>
                </a:lnTo>
                <a:lnTo>
                  <a:pt x="90" y="1009"/>
                </a:lnTo>
                <a:lnTo>
                  <a:pt x="101" y="983"/>
                </a:lnTo>
                <a:lnTo>
                  <a:pt x="115" y="957"/>
                </a:lnTo>
                <a:lnTo>
                  <a:pt x="128" y="931"/>
                </a:lnTo>
                <a:lnTo>
                  <a:pt x="141" y="907"/>
                </a:lnTo>
                <a:lnTo>
                  <a:pt x="152" y="881"/>
                </a:lnTo>
                <a:lnTo>
                  <a:pt x="169" y="857"/>
                </a:lnTo>
                <a:lnTo>
                  <a:pt x="184" y="834"/>
                </a:lnTo>
                <a:lnTo>
                  <a:pt x="199" y="810"/>
                </a:lnTo>
                <a:lnTo>
                  <a:pt x="214" y="787"/>
                </a:lnTo>
                <a:lnTo>
                  <a:pt x="232" y="763"/>
                </a:lnTo>
                <a:lnTo>
                  <a:pt x="266" y="719"/>
                </a:lnTo>
                <a:lnTo>
                  <a:pt x="304" y="676"/>
                </a:lnTo>
                <a:lnTo>
                  <a:pt x="342" y="636"/>
                </a:lnTo>
                <a:lnTo>
                  <a:pt x="381" y="598"/>
                </a:lnTo>
                <a:lnTo>
                  <a:pt x="425" y="561"/>
                </a:lnTo>
                <a:lnTo>
                  <a:pt x="468" y="526"/>
                </a:lnTo>
                <a:lnTo>
                  <a:pt x="493" y="509"/>
                </a:lnTo>
                <a:lnTo>
                  <a:pt x="517" y="494"/>
                </a:lnTo>
                <a:lnTo>
                  <a:pt x="537" y="477"/>
                </a:lnTo>
                <a:lnTo>
                  <a:pt x="562" y="464"/>
                </a:lnTo>
                <a:lnTo>
                  <a:pt x="588" y="448"/>
                </a:lnTo>
                <a:lnTo>
                  <a:pt x="612" y="435"/>
                </a:lnTo>
                <a:lnTo>
                  <a:pt x="638" y="420"/>
                </a:lnTo>
                <a:lnTo>
                  <a:pt x="661" y="410"/>
                </a:lnTo>
                <a:lnTo>
                  <a:pt x="689" y="396"/>
                </a:lnTo>
                <a:lnTo>
                  <a:pt x="715" y="385"/>
                </a:lnTo>
                <a:lnTo>
                  <a:pt x="740" y="375"/>
                </a:lnTo>
                <a:lnTo>
                  <a:pt x="768" y="363"/>
                </a:lnTo>
                <a:lnTo>
                  <a:pt x="795" y="355"/>
                </a:lnTo>
                <a:lnTo>
                  <a:pt x="823" y="346"/>
                </a:lnTo>
                <a:lnTo>
                  <a:pt x="852" y="337"/>
                </a:lnTo>
                <a:lnTo>
                  <a:pt x="879" y="328"/>
                </a:lnTo>
                <a:lnTo>
                  <a:pt x="908" y="323"/>
                </a:lnTo>
                <a:lnTo>
                  <a:pt x="936" y="316"/>
                </a:lnTo>
                <a:lnTo>
                  <a:pt x="964" y="312"/>
                </a:lnTo>
                <a:lnTo>
                  <a:pt x="993" y="306"/>
                </a:lnTo>
                <a:lnTo>
                  <a:pt x="1023" y="302"/>
                </a:lnTo>
                <a:lnTo>
                  <a:pt x="1052" y="298"/>
                </a:lnTo>
                <a:lnTo>
                  <a:pt x="1082" y="295"/>
                </a:lnTo>
                <a:lnTo>
                  <a:pt x="1112" y="294"/>
                </a:lnTo>
                <a:lnTo>
                  <a:pt x="1143" y="294"/>
                </a:lnTo>
                <a:lnTo>
                  <a:pt x="1172" y="291"/>
                </a:lnTo>
                <a:lnTo>
                  <a:pt x="1173" y="291"/>
                </a:lnTo>
                <a:lnTo>
                  <a:pt x="1173" y="0"/>
                </a:lnTo>
                <a:lnTo>
                  <a:pt x="1760" y="585"/>
                </a:lnTo>
                <a:lnTo>
                  <a:pt x="1173" y="1172"/>
                </a:lnTo>
                <a:lnTo>
                  <a:pt x="1173" y="87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13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8" descr="(QU6_)RO({A)SAF)2)X3C%M"/>
          <p:cNvPicPr/>
          <p:nvPr/>
        </p:nvPicPr>
        <p:blipFill>
          <a:blip r:embed="rId6"/>
          <a:stretch/>
        </p:blipFill>
        <p:spPr>
          <a:xfrm>
            <a:off x="4827600" y="3352680"/>
            <a:ext cx="10857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0" y="0"/>
            <a:ext cx="1152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互联网产品运营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总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063800" y="10699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三个运营维度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875240" y="2387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产品生命周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875240" y="4627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运营执行层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875240" y="3505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运营分析层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6423120" y="2041560"/>
            <a:ext cx="2619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以市场为运营导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以用户为运营中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以数据为运营基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内功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产品改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外功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品牌营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8194"/>
          <p:cNvSpPr/>
          <p:nvPr/>
        </p:nvSpPr>
        <p:spPr>
          <a:xfrm>
            <a:off x="1417680" y="16765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500" fill="hold"/>
                                        <p:tgtEl>
                                          <p:spTgt spid="230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0" dur="500" fill="hold"/>
                                        <p:tgtEl>
                                          <p:spTgt spid="230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2" dur="500" fill="hold"/>
                                        <p:tgtEl>
                                          <p:spTgt spid="229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C936-C6CD-4B2F-9A14-3A357A625E9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0" y="0"/>
            <a:ext cx="1152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互联网产品运营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结束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277440" y="18302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简单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874880" y="3457440"/>
            <a:ext cx="400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细黑"/>
              </a:rPr>
              <a:t>创意改变生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6401520" y="18288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困难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3932280" y="458640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细黑"/>
              </a:rPr>
              <a:t>执行改变创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0"/>
            <a:ext cx="1147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互联网产品运营模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44"/>
          <p:cNvSpPr/>
          <p:nvPr/>
        </p:nvSpPr>
        <p:spPr>
          <a:xfrm>
            <a:off x="0" y="5410080"/>
            <a:ext cx="11171160" cy="0"/>
          </a:xfrm>
          <a:prstGeom prst="line">
            <a:avLst/>
          </a:prstGeom>
          <a:ln w="34920">
            <a:solidFill>
              <a:srgbClr val="000000">
                <a:alpha val="57000"/>
              </a:srgbClr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48"/>
          <p:cNvSpPr/>
          <p:nvPr/>
        </p:nvSpPr>
        <p:spPr>
          <a:xfrm>
            <a:off x="2484360" y="1598760"/>
            <a:ext cx="0" cy="4286160"/>
          </a:xfrm>
          <a:prstGeom prst="line">
            <a:avLst/>
          </a:prstGeom>
          <a:ln w="25560">
            <a:solidFill>
              <a:srgbClr val="000000">
                <a:alpha val="57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48"/>
          <p:cNvSpPr/>
          <p:nvPr/>
        </p:nvSpPr>
        <p:spPr>
          <a:xfrm>
            <a:off x="4618080" y="1674720"/>
            <a:ext cx="0" cy="4286520"/>
          </a:xfrm>
          <a:prstGeom prst="line">
            <a:avLst/>
          </a:prstGeom>
          <a:ln w="25560">
            <a:solidFill>
              <a:srgbClr val="000000">
                <a:alpha val="57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48"/>
          <p:cNvSpPr/>
          <p:nvPr/>
        </p:nvSpPr>
        <p:spPr>
          <a:xfrm>
            <a:off x="6751800" y="1674720"/>
            <a:ext cx="0" cy="4286520"/>
          </a:xfrm>
          <a:prstGeom prst="line">
            <a:avLst/>
          </a:prstGeom>
          <a:ln w="25560">
            <a:solidFill>
              <a:srgbClr val="000000">
                <a:alpha val="57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48"/>
          <p:cNvSpPr/>
          <p:nvPr/>
        </p:nvSpPr>
        <p:spPr>
          <a:xfrm>
            <a:off x="8809200" y="1598760"/>
            <a:ext cx="0" cy="4286160"/>
          </a:xfrm>
          <a:prstGeom prst="line">
            <a:avLst/>
          </a:prstGeom>
          <a:ln w="25560">
            <a:solidFill>
              <a:srgbClr val="000000">
                <a:alpha val="57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5"/>
          <p:cNvSpPr/>
          <p:nvPr/>
        </p:nvSpPr>
        <p:spPr>
          <a:xfrm>
            <a:off x="579600" y="5486400"/>
            <a:ext cx="1676160" cy="5814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准备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5"/>
          <p:cNvSpPr/>
          <p:nvPr/>
        </p:nvSpPr>
        <p:spPr>
          <a:xfrm>
            <a:off x="2712960" y="5486400"/>
            <a:ext cx="1676520" cy="5814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引入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5"/>
          <p:cNvSpPr/>
          <p:nvPr/>
        </p:nvSpPr>
        <p:spPr>
          <a:xfrm>
            <a:off x="4846680" y="5486400"/>
            <a:ext cx="1676520" cy="5814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发展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5"/>
          <p:cNvSpPr/>
          <p:nvPr/>
        </p:nvSpPr>
        <p:spPr>
          <a:xfrm>
            <a:off x="6904080" y="5486400"/>
            <a:ext cx="1676520" cy="5814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成熟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5"/>
          <p:cNvSpPr/>
          <p:nvPr/>
        </p:nvSpPr>
        <p:spPr>
          <a:xfrm>
            <a:off x="8961480" y="5486400"/>
            <a:ext cx="1676520" cy="5814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衰退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5"/>
          <p:cNvSpPr/>
          <p:nvPr/>
        </p:nvSpPr>
        <p:spPr>
          <a:xfrm>
            <a:off x="579600" y="2521080"/>
            <a:ext cx="10134360" cy="703440"/>
          </a:xfrm>
          <a:prstGeom prst="rect">
            <a:avLst/>
          </a:prstGeom>
          <a:solidFill>
            <a:srgbClr val="ffcc00">
              <a:alpha val="80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竞争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5"/>
          <p:cNvSpPr/>
          <p:nvPr/>
        </p:nvSpPr>
        <p:spPr>
          <a:xfrm>
            <a:off x="579600" y="1758960"/>
            <a:ext cx="10134360" cy="703440"/>
          </a:xfrm>
          <a:prstGeom prst="rect">
            <a:avLst/>
          </a:prstGeom>
          <a:solidFill>
            <a:srgbClr val="ff9900">
              <a:alpha val="80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产品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5"/>
          <p:cNvSpPr/>
          <p:nvPr/>
        </p:nvSpPr>
        <p:spPr>
          <a:xfrm>
            <a:off x="579600" y="3282840"/>
            <a:ext cx="10134360" cy="703440"/>
          </a:xfrm>
          <a:prstGeom prst="rect">
            <a:avLst/>
          </a:prstGeom>
          <a:solidFill>
            <a:srgbClr val="ff6600">
              <a:alpha val="80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合作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5"/>
          <p:cNvSpPr/>
          <p:nvPr/>
        </p:nvSpPr>
        <p:spPr>
          <a:xfrm>
            <a:off x="579600" y="4044960"/>
            <a:ext cx="10134360" cy="703440"/>
          </a:xfrm>
          <a:prstGeom prst="rect">
            <a:avLst/>
          </a:prstGeom>
          <a:solidFill>
            <a:srgbClr val="993300">
              <a:alpha val="80000"/>
            </a:srgbClr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用户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48"/>
          <p:cNvSpPr/>
          <p:nvPr/>
        </p:nvSpPr>
        <p:spPr>
          <a:xfrm flipH="1">
            <a:off x="6751800" y="2362320"/>
            <a:ext cx="3200400" cy="0"/>
          </a:xfrm>
          <a:prstGeom prst="line">
            <a:avLst/>
          </a:prstGeom>
          <a:ln w="25560">
            <a:solidFill>
              <a:srgbClr val="000000">
                <a:alpha val="57000"/>
              </a:srgbClr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10470960" y="21337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一次曲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10309320" y="3200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二次曲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0"/>
            <a:ext cx="1152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互联网产品运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918600" y="1944720"/>
            <a:ext cx="310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细黑"/>
              </a:rPr>
              <a:t>以市场为运营导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以用户为运营中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以数据为运营基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51000" y="4343400"/>
            <a:ext cx="1066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内功</a:t>
            </a: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产品改进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外功</a:t>
            </a: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品牌营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0"/>
            <a:ext cx="1152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以市场为运营导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179800" y="3138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竞争分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179800" y="46465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态势分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下箭头 18"/>
          <p:cNvSpPr/>
          <p:nvPr/>
        </p:nvSpPr>
        <p:spPr>
          <a:xfrm>
            <a:off x="2637000" y="2550960"/>
            <a:ext cx="6858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下箭头 18"/>
          <p:cNvSpPr/>
          <p:nvPr/>
        </p:nvSpPr>
        <p:spPr>
          <a:xfrm>
            <a:off x="2637000" y="4075200"/>
            <a:ext cx="685800" cy="533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984320" y="1523880"/>
            <a:ext cx="203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ITTA-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 15"/>
          <p:cNvSpPr/>
          <p:nvPr/>
        </p:nvSpPr>
        <p:spPr>
          <a:xfrm>
            <a:off x="4846680" y="1219320"/>
            <a:ext cx="6477120" cy="4952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751800" y="297180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消费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8580600" y="160020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供应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5227560" y="19051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竞争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5380200" y="441972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后来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8961480" y="35812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替代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2179800" y="31240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细黑"/>
                <a:ea typeface="华文细黑"/>
              </a:rPr>
              <a:t>竞争分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1984320" y="1538280"/>
            <a:ext cx="203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细黑"/>
                <a:ea typeface="华文细黑"/>
              </a:rPr>
              <a:t>ITTA-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5608800" y="129528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Id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8123400" y="205740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Te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5303880" y="31240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Ti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8352000" y="358128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6980400" y="487692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2211840" y="46483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细黑"/>
                <a:ea typeface="华文细黑"/>
              </a:rPr>
              <a:t>态势分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2"/>
          <p:cNvSpPr/>
          <p:nvPr/>
        </p:nvSpPr>
        <p:spPr>
          <a:xfrm>
            <a:off x="5913360" y="22240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机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8656560" y="22240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风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4"/>
          <p:cNvSpPr/>
          <p:nvPr/>
        </p:nvSpPr>
        <p:spPr>
          <a:xfrm>
            <a:off x="5837400" y="405288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优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8580600" y="405288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劣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0"/>
            <a:ext cx="1152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互联网产品运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18600" y="1944720"/>
            <a:ext cx="310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以市场为运营导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细黑"/>
              </a:rPr>
              <a:t>以用户为运营中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以数据为运营基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51000" y="4343400"/>
            <a:ext cx="1066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内功</a:t>
            </a: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产品改进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外功</a:t>
            </a: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品牌营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8194"/>
          <p:cNvSpPr/>
          <p:nvPr/>
        </p:nvSpPr>
        <p:spPr>
          <a:xfrm>
            <a:off x="1494000" y="15238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0"/>
            <a:ext cx="114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以用户为运营中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891080" y="1496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目标群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8199720" y="1219320"/>
            <a:ext cx="164376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满足需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完善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提升体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下箭头 18"/>
          <p:cNvSpPr/>
          <p:nvPr/>
        </p:nvSpPr>
        <p:spPr>
          <a:xfrm>
            <a:off x="2408400" y="2438280"/>
            <a:ext cx="68580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272680" y="30481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用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6720" y="4419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客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下箭头 18"/>
          <p:cNvSpPr/>
          <p:nvPr/>
        </p:nvSpPr>
        <p:spPr>
          <a:xfrm>
            <a:off x="2408400" y="3886200"/>
            <a:ext cx="68580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"/>
          <p:cNvGrpSpPr/>
          <p:nvPr/>
        </p:nvGrpSpPr>
        <p:grpSpPr>
          <a:xfrm>
            <a:off x="4313160" y="1371600"/>
            <a:ext cx="1035000" cy="1089000"/>
            <a:chOff x="4313160" y="1371600"/>
            <a:chExt cx="1035000" cy="1089000"/>
          </a:xfrm>
        </p:grpSpPr>
        <p:pic>
          <p:nvPicPr>
            <p:cNvPr id="143" name="Picture 10" descr="slide0067_image123"/>
            <p:cNvPicPr/>
            <p:nvPr/>
          </p:nvPicPr>
          <p:blipFill>
            <a:blip r:embed="rId1"/>
            <a:stretch/>
          </p:blipFill>
          <p:spPr>
            <a:xfrm>
              <a:off x="4313160" y="1371600"/>
              <a:ext cx="577800" cy="8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1" descr="slide0067_image123"/>
            <p:cNvPicPr/>
            <p:nvPr/>
          </p:nvPicPr>
          <p:blipFill>
            <a:blip r:embed="rId2"/>
            <a:stretch/>
          </p:blipFill>
          <p:spPr>
            <a:xfrm>
              <a:off x="4770360" y="1371600"/>
              <a:ext cx="577800" cy="8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2" descr="slide0067_image123"/>
            <p:cNvPicPr/>
            <p:nvPr/>
          </p:nvPicPr>
          <p:blipFill>
            <a:blip r:embed="rId3"/>
            <a:stretch/>
          </p:blipFill>
          <p:spPr>
            <a:xfrm>
              <a:off x="4541760" y="1600200"/>
              <a:ext cx="577800" cy="86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13"/>
          <p:cNvGrpSpPr/>
          <p:nvPr/>
        </p:nvGrpSpPr>
        <p:grpSpPr>
          <a:xfrm>
            <a:off x="4313160" y="3048120"/>
            <a:ext cx="1111320" cy="860400"/>
            <a:chOff x="4313160" y="3048120"/>
            <a:chExt cx="1111320" cy="860400"/>
          </a:xfrm>
        </p:grpSpPr>
        <p:pic>
          <p:nvPicPr>
            <p:cNvPr id="147" name="Picture 14" descr="slide0067_image123"/>
            <p:cNvPicPr/>
            <p:nvPr/>
          </p:nvPicPr>
          <p:blipFill>
            <a:blip r:embed="rId4"/>
            <a:stretch/>
          </p:blipFill>
          <p:spPr>
            <a:xfrm>
              <a:off x="4313160" y="3048120"/>
              <a:ext cx="577800" cy="8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5" descr="slide0067_image123"/>
            <p:cNvPicPr/>
            <p:nvPr/>
          </p:nvPicPr>
          <p:blipFill>
            <a:blip r:embed="rId5"/>
            <a:stretch/>
          </p:blipFill>
          <p:spPr>
            <a:xfrm>
              <a:off x="4846680" y="3048120"/>
              <a:ext cx="577800" cy="860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Picture 16" descr="slide0067_image123"/>
          <p:cNvPicPr/>
          <p:nvPr/>
        </p:nvPicPr>
        <p:blipFill>
          <a:blip r:embed="rId6"/>
          <a:stretch/>
        </p:blipFill>
        <p:spPr>
          <a:xfrm>
            <a:off x="4573440" y="4397400"/>
            <a:ext cx="5781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0"/>
            <a:ext cx="1152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互联网产品运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918600" y="1944720"/>
            <a:ext cx="310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以市场为运营导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以用户为运营中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细黑"/>
              </a:rPr>
              <a:t>以数据为运营基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26960" y="4343400"/>
            <a:ext cx="1066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内功</a:t>
            </a: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产品改进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外功</a:t>
            </a: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品牌营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0"/>
            <a:ext cx="114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以数据为运营基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4573080" y="914400"/>
            <a:ext cx="2407320" cy="63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用户数据</a:t>
            </a:r>
            <a:r>
              <a:rPr b="0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规模、特性、行为、转化率、反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产品数据</a:t>
            </a:r>
            <a:r>
              <a:rPr b="0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访问量、热点分析、性能数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市场数据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行业报告、竞争对手情况、合作资料列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其它</a:t>
            </a: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SEO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数据、满意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	</a:t>
            </a:r>
            <a:r>
              <a:rPr b="0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0" y="0"/>
            <a:ext cx="1152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互联网产品运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994920" y="1943280"/>
            <a:ext cx="310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以市场为运营导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以用户为运营中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细黑"/>
              </a:rPr>
              <a:t>以数据为运营基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51000" y="4343400"/>
            <a:ext cx="1066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细黑"/>
                <a:ea typeface="华文细黑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细黑"/>
              </a:rPr>
              <a:t>内功</a:t>
            </a:r>
            <a:r>
              <a:rPr b="1" lang="zh-CN" sz="4800" spc="-1" strike="noStrike">
                <a:solidFill>
                  <a:srgbClr val="ff0000"/>
                </a:solidFill>
                <a:latin typeface="华文细黑"/>
                <a:ea typeface="华文细黑"/>
              </a:rPr>
              <a:t>”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细黑"/>
              </a:rPr>
              <a:t>产品改进、</a:t>
            </a:r>
            <a:r>
              <a:rPr b="1" lang="zh-CN" sz="4800" spc="-1" strike="noStrike">
                <a:solidFill>
                  <a:srgbClr val="ff0000"/>
                </a:solidFill>
                <a:latin typeface="华文细黑"/>
                <a:ea typeface="华文细黑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细黑"/>
              </a:rPr>
              <a:t>外功</a:t>
            </a:r>
            <a:r>
              <a:rPr b="1" lang="zh-CN" sz="4800" spc="-1" strike="noStrike">
                <a:solidFill>
                  <a:srgbClr val="ff0000"/>
                </a:solidFill>
                <a:latin typeface="华文细黑"/>
                <a:ea typeface="华文细黑"/>
              </a:rPr>
              <a:t>”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细黑"/>
              </a:rPr>
              <a:t>品牌营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8T05:32:00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29:36Z</dcterms:modified>
  <cp:revision>14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NXTAG2">
    <vt:lpwstr>0008008e05000000000001024140</vt:lpwstr>
  </property>
  <property fmtid="{D5CDD505-2E9C-101B-9397-08002B2CF9AE}" pid="4" name="Version">
    <vt:r8>1</vt:r8>
  </property>
</Properties>
</file>