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7.jpeg" ContentType="image/jpeg"/>
  <Override PartName="/ppt/media/image18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83B3-D2AF-451B-89C6-3D3CD645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30F1-FF4F-4FF5-ABDA-859F70ED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E963-DE8C-4354-A1AD-3AC7AF3F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85C9-C16F-4564-880B-A2F3F7A5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5AA59-761B-435F-90DB-E8620D7C4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79CB-B814-47BE-A267-A83AA63C7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7C250-F871-4A38-AA4A-F1F406E9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B664-2833-43DE-A9B7-66D7FBCD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31517-DCC1-4A5B-A0B5-5DAF48FB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5391-76AB-4FF0-BC5F-4B48DBD1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C96D-9A56-432C-9D80-3BEE6F55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203A-6EF0-4233-BE1A-09E87CDF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393B7-0DFA-470F-8B0C-9FD3954B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CEC3-B948-4B1A-90AF-37FC6CEE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4273-69EE-47D6-9935-AE37921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715DC-B0CD-4945-B78C-C2D4BE7D6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B17A-676C-46AD-9901-22153B1E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8E489-8B65-4668-930E-F12A3B8F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A1D0D-F62A-4928-8052-678040C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B7EAB-4D34-4EED-B238-8FADE396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69B52-50A5-4715-B991-182FF95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0AA47-9F03-46B8-8D5A-686AA0767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45CF-8509-482E-8788-66A27073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D1B8-778C-4859-999F-4CFC0015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F5433-4CF6-4EE5-8A92-D4193C5E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EA975-647A-409A-818D-6E1A6FA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3F7BE-D671-4CC4-BF55-79BE9D62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0F9CE8-05C5-42DE-B629-CB7EA0A4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7CFD2-B85F-42BF-82F5-2A2431A8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705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563D9-48C4-4591-AAC5-4A6E516F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77E9-9571-45CB-AD2C-97C910F75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606F-0C19-458E-A808-93A1C5F31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900A-E1CF-459D-8574-BE77287F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8A93-D624-403A-A463-F05EFD17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05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018C-28C9-4A31-ACDB-8FAF7CBA7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05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6E4-25F0-4533-840D-6C717566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248F-9735-4135-8A1B-183A94953F7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F001-F92E-4CB3-991B-5A8C8C67734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9"/>
          <p:cNvSpPr/>
          <p:nvPr/>
        </p:nvSpPr>
        <p:spPr>
          <a:xfrm>
            <a:off x="4260600" y="6504120"/>
            <a:ext cx="107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浪微博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@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敌的面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矩形 12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df33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矩形 1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91A3-61BF-4872-B950-37AB550DD1D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E1165-D820-4B78-8355-41218464389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fd8"/>
                </a:solidFill>
                <a:latin typeface="微软雅黑"/>
              </a:rPr>
              <a:t>Click to edit the title text format</a:t>
            </a:r>
            <a:endParaRPr b="1" lang="en-US" sz="28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1" marL="457200" indent="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2" marL="9144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3" marL="1371600" indent="-4572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4" marL="1828800" indent="-9144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A82E-77EA-4C80-91F7-281D598E887F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9D0F-FEA4-4CCE-9AAE-B6430AC9E1D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-19080" y="3706920"/>
            <a:ext cx="9182160" cy="3062160"/>
          </a:xfrm>
          <a:custGeom>
            <a:avLst/>
            <a:gdLst/>
            <a:ahLst/>
            <a:rect l="l" t="t" r="r" b="b"/>
            <a:pathLst>
              <a:path w="9182100" h="3329044">
                <a:moveTo>
                  <a:pt x="19050" y="0"/>
                </a:moveTo>
                <a:lnTo>
                  <a:pt x="572664" y="0"/>
                </a:lnTo>
                <a:cubicBezTo>
                  <a:pt x="1535177" y="220234"/>
                  <a:pt x="2978131" y="360040"/>
                  <a:pt x="4591050" y="360040"/>
                </a:cubicBezTo>
                <a:cubicBezTo>
                  <a:pt x="6203970" y="360040"/>
                  <a:pt x="7646923" y="220234"/>
                  <a:pt x="8609436" y="0"/>
                </a:cubicBezTo>
                <a:lnTo>
                  <a:pt x="9163050" y="0"/>
                </a:lnTo>
                <a:lnTo>
                  <a:pt x="9182100" y="3287638"/>
                </a:lnTo>
                <a:lnTo>
                  <a:pt x="0" y="3329044"/>
                </a:lnTo>
                <a:cubicBezTo>
                  <a:pt x="0" y="1826004"/>
                  <a:pt x="19050" y="1503040"/>
                  <a:pt x="1905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3"/>
          <p:cNvSpPr/>
          <p:nvPr/>
        </p:nvSpPr>
        <p:spPr>
          <a:xfrm>
            <a:off x="-19080" y="3789360"/>
            <a:ext cx="9177480" cy="3095640"/>
          </a:xfrm>
          <a:custGeom>
            <a:avLst/>
            <a:gdLst/>
            <a:ahLst/>
            <a:rect l="l" t="t" r="r" b="b"/>
            <a:pathLst>
              <a:path w="9177338" h="3096344">
                <a:moveTo>
                  <a:pt x="23813" y="0"/>
                </a:moveTo>
                <a:lnTo>
                  <a:pt x="577427" y="0"/>
                </a:lnTo>
                <a:cubicBezTo>
                  <a:pt x="1539940" y="202649"/>
                  <a:pt x="2982894" y="331292"/>
                  <a:pt x="4595813" y="331292"/>
                </a:cubicBezTo>
                <a:cubicBezTo>
                  <a:pt x="6208733" y="331292"/>
                  <a:pt x="7651686" y="202649"/>
                  <a:pt x="8614199" y="0"/>
                </a:cubicBezTo>
                <a:lnTo>
                  <a:pt x="9167813" y="0"/>
                </a:lnTo>
                <a:lnTo>
                  <a:pt x="9177338" y="3006080"/>
                </a:lnTo>
                <a:lnTo>
                  <a:pt x="9163050" y="3006169"/>
                </a:lnTo>
                <a:lnTo>
                  <a:pt x="9163050" y="3096344"/>
                </a:lnTo>
                <a:lnTo>
                  <a:pt x="0" y="3096344"/>
                </a:lnTo>
                <a:lnTo>
                  <a:pt x="0" y="2616937"/>
                </a:lnTo>
                <a:lnTo>
                  <a:pt x="5512" y="2616937"/>
                </a:lnTo>
                <a:cubicBezTo>
                  <a:pt x="8979" y="1595320"/>
                  <a:pt x="23813" y="1220431"/>
                  <a:pt x="23813" y="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df331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400" y="4343400"/>
            <a:ext cx="8929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</a:rPr>
              <a:t>集团公司安全生产领导幻灯片下载</a:t>
            </a:r>
            <a:endParaRPr b="1" lang="en-US" sz="40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30" name="矩形 1"/>
          <p:cNvSpPr/>
          <p:nvPr/>
        </p:nvSpPr>
        <p:spPr>
          <a:xfrm>
            <a:off x="900000" y="54770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据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华人民共和国安全生产法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《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川省安全生产条例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》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编制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2"/>
          <p:cNvSpPr/>
          <p:nvPr/>
        </p:nvSpPr>
        <p:spPr>
          <a:xfrm>
            <a:off x="2286000" y="60213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09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3"/>
          <p:cNvSpPr/>
          <p:nvPr/>
        </p:nvSpPr>
        <p:spPr>
          <a:xfrm>
            <a:off x="0" y="1952640"/>
            <a:ext cx="680400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标题 1"/>
          <p:cNvSpPr/>
          <p:nvPr/>
        </p:nvSpPr>
        <p:spPr>
          <a:xfrm>
            <a:off x="144360" y="1952640"/>
            <a:ext cx="6443640" cy="14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依法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公司安全生产管理各项工作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5"/>
          <p:cNvSpPr/>
          <p:nvPr/>
        </p:nvSpPr>
        <p:spPr>
          <a:xfrm>
            <a:off x="8459640" y="1952640"/>
            <a:ext cx="627120" cy="1692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508720" y="1389240"/>
            <a:ext cx="1201680" cy="1126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73" name="Picture 8" descr="eyesight"/>
          <p:cNvPicPr/>
          <p:nvPr/>
        </p:nvPicPr>
        <p:blipFill>
          <a:blip r:embed="rId2"/>
          <a:srcRect l="29449" t="0" r="0" b="0"/>
          <a:stretch/>
        </p:blipFill>
        <p:spPr>
          <a:xfrm>
            <a:off x="6875640" y="1952640"/>
            <a:ext cx="1520640" cy="1692360"/>
          </a:xfrm>
          <a:prstGeom prst="rect">
            <a:avLst/>
          </a:prstGeom>
          <a:ln w="0">
            <a:noFill/>
          </a:ln>
        </p:spPr>
      </p:pic>
      <p:pic>
        <p:nvPicPr>
          <p:cNvPr id="174" name="TextBox 26" descr=""/>
          <p:cNvPicPr/>
          <p:nvPr/>
        </p:nvPicPr>
        <p:blipFill>
          <a:blip r:embed="rId3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3"/>
          <p:cNvSpPr/>
          <p:nvPr/>
        </p:nvSpPr>
        <p:spPr>
          <a:xfrm>
            <a:off x="1893240" y="5877000"/>
            <a:ext cx="3716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安全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2413080" y="2276640"/>
            <a:ext cx="675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23840" y="1916280"/>
            <a:ext cx="202392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​​ 27"/>
          <p:cNvSpPr/>
          <p:nvPr/>
        </p:nvSpPr>
        <p:spPr>
          <a:xfrm>
            <a:off x="1476360" y="1643040"/>
            <a:ext cx="6264360" cy="2376360"/>
          </a:xfrm>
          <a:prstGeom prst="rect">
            <a:avLst/>
          </a:prstGeom>
          <a:solidFill>
            <a:srgbClr val="f2f2f2"/>
          </a:solidFill>
          <a:ln w="1260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​​ 6"/>
          <p:cNvSpPr/>
          <p:nvPr/>
        </p:nvSpPr>
        <p:spPr>
          <a:xfrm>
            <a:off x="0" y="4883040"/>
            <a:ext cx="9144000" cy="144720"/>
          </a:xfrm>
          <a:prstGeom prst="rect">
            <a:avLst/>
          </a:prstGeom>
          <a:gradFill rotWithShape="0">
            <a:gsLst>
              <a:gs pos="0">
                <a:srgbClr val="d9d9d9"/>
              </a:gs>
              <a:gs pos="100000">
                <a:srgbClr val="d9d9d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​​ 7"/>
          <p:cNvSpPr/>
          <p:nvPr/>
        </p:nvSpPr>
        <p:spPr>
          <a:xfrm>
            <a:off x="263520" y="4869000"/>
            <a:ext cx="873000" cy="144360"/>
          </a:xfrm>
          <a:prstGeom prst="rect">
            <a:avLst/>
          </a:prstGeom>
          <a:gradFill rotWithShape="0">
            <a:gsLst>
              <a:gs pos="0">
                <a:srgbClr val="ffd03b"/>
              </a:gs>
              <a:gs pos="100000">
                <a:srgbClr val="ffd0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直接连接符​​ 9"/>
          <p:cNvSpPr/>
          <p:nvPr/>
        </p:nvSpPr>
        <p:spPr>
          <a:xfrm>
            <a:off x="2509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直接连接符​​ 10"/>
          <p:cNvSpPr/>
          <p:nvPr/>
        </p:nvSpPr>
        <p:spPr>
          <a:xfrm>
            <a:off x="2022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直接连接符​​ 11"/>
          <p:cNvSpPr/>
          <p:nvPr/>
        </p:nvSpPr>
        <p:spPr>
          <a:xfrm>
            <a:off x="11365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直接连接符​​ 12"/>
          <p:cNvSpPr/>
          <p:nvPr/>
        </p:nvSpPr>
        <p:spPr>
          <a:xfrm>
            <a:off x="2895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直接连接符​​ 13"/>
          <p:cNvSpPr/>
          <p:nvPr/>
        </p:nvSpPr>
        <p:spPr>
          <a:xfrm>
            <a:off x="376884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​​ 14"/>
          <p:cNvSpPr/>
          <p:nvPr/>
        </p:nvSpPr>
        <p:spPr>
          <a:xfrm>
            <a:off x="464184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15"/>
          <p:cNvSpPr/>
          <p:nvPr/>
        </p:nvSpPr>
        <p:spPr>
          <a:xfrm>
            <a:off x="4723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16"/>
          <p:cNvSpPr/>
          <p:nvPr/>
        </p:nvSpPr>
        <p:spPr>
          <a:xfrm>
            <a:off x="1357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7"/>
          <p:cNvSpPr/>
          <p:nvPr/>
        </p:nvSpPr>
        <p:spPr>
          <a:xfrm>
            <a:off x="2237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8"/>
          <p:cNvSpPr/>
          <p:nvPr/>
        </p:nvSpPr>
        <p:spPr>
          <a:xfrm>
            <a:off x="3110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9"/>
          <p:cNvSpPr/>
          <p:nvPr/>
        </p:nvSpPr>
        <p:spPr>
          <a:xfrm>
            <a:off x="39837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22"/>
          <p:cNvSpPr/>
          <p:nvPr/>
        </p:nvSpPr>
        <p:spPr>
          <a:xfrm>
            <a:off x="1606680" y="2325600"/>
            <a:ext cx="613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本公司安全生产工作负组织领导和综合监督管理领导责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​​ 14"/>
          <p:cNvSpPr/>
          <p:nvPr/>
        </p:nvSpPr>
        <p:spPr>
          <a:xfrm>
            <a:off x="552780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19"/>
          <p:cNvSpPr/>
          <p:nvPr/>
        </p:nvSpPr>
        <p:spPr>
          <a:xfrm>
            <a:off x="486324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​​ 14"/>
          <p:cNvSpPr/>
          <p:nvPr/>
        </p:nvSpPr>
        <p:spPr>
          <a:xfrm>
            <a:off x="641196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57481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接连接符​​ 14"/>
          <p:cNvSpPr/>
          <p:nvPr/>
        </p:nvSpPr>
        <p:spPr>
          <a:xfrm>
            <a:off x="729756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Box 19"/>
          <p:cNvSpPr/>
          <p:nvPr/>
        </p:nvSpPr>
        <p:spPr>
          <a:xfrm>
            <a:off x="66333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直接连接符​​ 14"/>
          <p:cNvSpPr/>
          <p:nvPr/>
        </p:nvSpPr>
        <p:spPr>
          <a:xfrm>
            <a:off x="818352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19"/>
          <p:cNvSpPr/>
          <p:nvPr/>
        </p:nvSpPr>
        <p:spPr>
          <a:xfrm>
            <a:off x="751896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0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直接连接符​​ 14"/>
          <p:cNvSpPr/>
          <p:nvPr/>
        </p:nvSpPr>
        <p:spPr>
          <a:xfrm>
            <a:off x="9069480" y="4834080"/>
            <a:ext cx="0" cy="179280"/>
          </a:xfrm>
          <a:prstGeom prst="line">
            <a:avLst/>
          </a:prstGeom>
          <a:ln w="93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19"/>
          <p:cNvSpPr/>
          <p:nvPr/>
        </p:nvSpPr>
        <p:spPr>
          <a:xfrm>
            <a:off x="8404920" y="45813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 Unicode MS"/>
                <a:ea typeface="Arial Unicode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2081520" y="587700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其他分管领导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矩形 4"/>
          <p:cNvSpPr/>
          <p:nvPr/>
        </p:nvSpPr>
        <p:spPr>
          <a:xfrm>
            <a:off x="2771640" y="765000"/>
            <a:ext cx="6480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XXXXXXXXXXXXXXXXXXXXXX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179280" y="1611360"/>
            <a:ext cx="245772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矩形 20" descr=""/>
          <p:cNvPicPr/>
          <p:nvPr/>
        </p:nvPicPr>
        <p:blipFill>
          <a:blip r:embed="rId1"/>
          <a:stretch/>
        </p:blipFill>
        <p:spPr>
          <a:xfrm>
            <a:off x="1322280" y="2795760"/>
            <a:ext cx="6554880" cy="1322280"/>
          </a:xfrm>
          <a:prstGeom prst="rect">
            <a:avLst/>
          </a:prstGeom>
          <a:ln w="0">
            <a:noFill/>
          </a:ln>
        </p:spPr>
      </p:pic>
      <p:pic>
        <p:nvPicPr>
          <p:cNvPr id="211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  <p:sp>
        <p:nvSpPr>
          <p:cNvPr id="21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2"/>
          <p:cNvSpPr/>
          <p:nvPr/>
        </p:nvSpPr>
        <p:spPr>
          <a:xfrm>
            <a:off x="0" y="2817720"/>
            <a:ext cx="826920" cy="132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​​ 5"/>
          <p:cNvSpPr/>
          <p:nvPr/>
        </p:nvSpPr>
        <p:spPr>
          <a:xfrm>
            <a:off x="826920" y="4140360"/>
            <a:ext cx="7848720" cy="0"/>
          </a:xfrm>
          <a:prstGeom prst="line">
            <a:avLst/>
          </a:prstGeom>
          <a:ln w="936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​​ 9"/>
          <p:cNvSpPr/>
          <p:nvPr/>
        </p:nvSpPr>
        <p:spPr>
          <a:xfrm>
            <a:off x="0" y="-36360"/>
            <a:ext cx="9144000" cy="19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TextBox 26" descr=""/>
          <p:cNvPicPr/>
          <p:nvPr/>
        </p:nvPicPr>
        <p:blipFill>
          <a:blip r:embed="rId1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B7D5-D79D-466D-A133-0905FF20D35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6" descr=""/>
          <p:cNvPicPr/>
          <p:nvPr/>
        </p:nvPicPr>
        <p:blipFill>
          <a:blip r:embed="rId1"/>
          <a:stretch/>
        </p:blipFill>
        <p:spPr>
          <a:xfrm>
            <a:off x="0" y="-44280"/>
            <a:ext cx="9144000" cy="4741560"/>
          </a:xfrm>
          <a:prstGeom prst="rect">
            <a:avLst/>
          </a:prstGeom>
          <a:ln w="0">
            <a:noFill/>
          </a:ln>
        </p:spPr>
      </p:pic>
      <p:sp>
        <p:nvSpPr>
          <p:cNvPr id="226" name="矩形 3"/>
          <p:cNvSpPr/>
          <p:nvPr/>
        </p:nvSpPr>
        <p:spPr>
          <a:xfrm>
            <a:off x="-19080" y="3706920"/>
            <a:ext cx="9182160" cy="3062160"/>
          </a:xfrm>
          <a:custGeom>
            <a:avLst/>
            <a:gdLst/>
            <a:ahLst/>
            <a:rect l="l" t="t" r="r" b="b"/>
            <a:pathLst>
              <a:path w="9182100" h="3329044">
                <a:moveTo>
                  <a:pt x="19050" y="0"/>
                </a:moveTo>
                <a:lnTo>
                  <a:pt x="572664" y="0"/>
                </a:lnTo>
                <a:cubicBezTo>
                  <a:pt x="1535177" y="220234"/>
                  <a:pt x="2978131" y="360040"/>
                  <a:pt x="4591050" y="360040"/>
                </a:cubicBezTo>
                <a:cubicBezTo>
                  <a:pt x="6203970" y="360040"/>
                  <a:pt x="7646923" y="220234"/>
                  <a:pt x="8609436" y="0"/>
                </a:cubicBezTo>
                <a:lnTo>
                  <a:pt x="9163050" y="0"/>
                </a:lnTo>
                <a:lnTo>
                  <a:pt x="9182100" y="3287638"/>
                </a:lnTo>
                <a:lnTo>
                  <a:pt x="0" y="3329044"/>
                </a:lnTo>
                <a:cubicBezTo>
                  <a:pt x="0" y="1826004"/>
                  <a:pt x="19050" y="1503040"/>
                  <a:pt x="19050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矩形 3"/>
          <p:cNvSpPr/>
          <p:nvPr/>
        </p:nvSpPr>
        <p:spPr>
          <a:xfrm>
            <a:off x="-19080" y="3789360"/>
            <a:ext cx="9177480" cy="3095640"/>
          </a:xfrm>
          <a:custGeom>
            <a:avLst/>
            <a:gdLst/>
            <a:ahLst/>
            <a:rect l="l" t="t" r="r" b="b"/>
            <a:pathLst>
              <a:path w="9177338" h="3096344">
                <a:moveTo>
                  <a:pt x="23813" y="0"/>
                </a:moveTo>
                <a:lnTo>
                  <a:pt x="577427" y="0"/>
                </a:lnTo>
                <a:cubicBezTo>
                  <a:pt x="1539940" y="202649"/>
                  <a:pt x="2982894" y="331292"/>
                  <a:pt x="4595813" y="331292"/>
                </a:cubicBezTo>
                <a:cubicBezTo>
                  <a:pt x="6208733" y="331292"/>
                  <a:pt x="7651686" y="202649"/>
                  <a:pt x="8614199" y="0"/>
                </a:cubicBezTo>
                <a:lnTo>
                  <a:pt x="9167813" y="0"/>
                </a:lnTo>
                <a:lnTo>
                  <a:pt x="9177338" y="3006080"/>
                </a:lnTo>
                <a:lnTo>
                  <a:pt x="9163050" y="3006169"/>
                </a:lnTo>
                <a:lnTo>
                  <a:pt x="9163050" y="3096344"/>
                </a:lnTo>
                <a:lnTo>
                  <a:pt x="0" y="3096344"/>
                </a:lnTo>
                <a:lnTo>
                  <a:pt x="0" y="2616937"/>
                </a:lnTo>
                <a:lnTo>
                  <a:pt x="5512" y="2616937"/>
                </a:lnTo>
                <a:cubicBezTo>
                  <a:pt x="8979" y="1595320"/>
                  <a:pt x="23813" y="1220431"/>
                  <a:pt x="23813" y="0"/>
                </a:cubicBez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50000">
                <a:srgbClr val="df3311"/>
              </a:gs>
              <a:gs pos="100000">
                <a:srgbClr val="ff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400" y="4343040"/>
            <a:ext cx="8929800" cy="21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ffffff"/>
                </a:solidFill>
                <a:latin typeface="微软雅黑"/>
              </a:rPr>
              <a:t>谢  谢</a:t>
            </a:r>
            <a:endParaRPr b="1" lang="en-US" sz="12000" spc="-1" strike="noStrike">
              <a:solidFill>
                <a:srgbClr val="009fd8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矩形 9"/>
          <p:cNvSpPr/>
          <p:nvPr/>
        </p:nvSpPr>
        <p:spPr>
          <a:xfrm>
            <a:off x="431640" y="5902200"/>
            <a:ext cx="83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集团董事长、总裁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5352840" y="1484280"/>
            <a:ext cx="971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一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二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三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四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五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六、</a:t>
            </a:r>
            <a:r>
              <a:rPr b="0" lang="en-US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图片 7" descr=""/>
          <p:cNvPicPr/>
          <p:nvPr/>
        </p:nvPicPr>
        <p:blipFill>
          <a:blip r:embed="rId1"/>
          <a:stretch/>
        </p:blipFill>
        <p:spPr>
          <a:xfrm>
            <a:off x="285840" y="1797120"/>
            <a:ext cx="2857320" cy="27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4"/>
          <p:cNvGrpSpPr/>
          <p:nvPr/>
        </p:nvGrpSpPr>
        <p:grpSpPr>
          <a:xfrm>
            <a:off x="395280" y="2370240"/>
            <a:ext cx="3889440" cy="2325600"/>
            <a:chOff x="395280" y="2370240"/>
            <a:chExt cx="3889440" cy="2325600"/>
          </a:xfrm>
        </p:grpSpPr>
        <p:pic>
          <p:nvPicPr>
            <p:cNvPr id="137" name="Picture 2" descr=""/>
            <p:cNvPicPr/>
            <p:nvPr/>
          </p:nvPicPr>
          <p:blipFill>
            <a:blip r:embed="rId1"/>
            <a:stretch/>
          </p:blipFill>
          <p:spPr>
            <a:xfrm>
              <a:off x="395280" y="2442240"/>
              <a:ext cx="2442600" cy="225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Box 3"/>
            <p:cNvSpPr/>
            <p:nvPr/>
          </p:nvSpPr>
          <p:spPr>
            <a:xfrm>
              <a:off x="2268000" y="2370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TextBox 5"/>
            <p:cNvSpPr/>
            <p:nvPr/>
          </p:nvSpPr>
          <p:spPr>
            <a:xfrm>
              <a:off x="2628000" y="280224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2772360" y="3384360"/>
              <a:ext cx="1512360" cy="36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1" name="矩形 8"/>
          <p:cNvSpPr/>
          <p:nvPr/>
        </p:nvSpPr>
        <p:spPr>
          <a:xfrm>
            <a:off x="2879640" y="1628640"/>
            <a:ext cx="6121440" cy="642600"/>
          </a:xfrm>
          <a:prstGeom prst="rect">
            <a:avLst/>
          </a:prstGeom>
          <a:gradFill rotWithShape="0">
            <a:gsLst>
              <a:gs pos="0">
                <a:srgbClr val="df3311"/>
              </a:gs>
              <a:gs pos="50000">
                <a:srgbClr val="df3311"/>
              </a:gs>
              <a:gs pos="100000">
                <a:srgbClr val="df33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全面负责安全生产管理责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  <p:sp>
        <p:nvSpPr>
          <p:cNvPr id="143" name="文本框 8194"/>
          <p:cNvSpPr/>
          <p:nvPr/>
        </p:nvSpPr>
        <p:spPr>
          <a:xfrm>
            <a:off x="2987640" y="2781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5"/>
          <p:cNvSpPr/>
          <p:nvPr/>
        </p:nvSpPr>
        <p:spPr>
          <a:xfrm>
            <a:off x="2879640" y="1628640"/>
            <a:ext cx="6121440" cy="646200"/>
          </a:xfrm>
          <a:prstGeom prst="rect">
            <a:avLst/>
          </a:prstGeom>
          <a:gradFill rotWithShape="0">
            <a:gsLst>
              <a:gs pos="0">
                <a:srgbClr val="df3311"/>
              </a:gs>
              <a:gs pos="50000">
                <a:srgbClr val="df3311"/>
              </a:gs>
              <a:gs pos="100000">
                <a:srgbClr val="df331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01480" y="2708280"/>
            <a:ext cx="2926080" cy="2612880"/>
          </a:xfrm>
          <a:prstGeom prst="rect">
            <a:avLst/>
          </a:prstGeom>
          <a:ln w="0">
            <a:noFill/>
          </a:ln>
        </p:spPr>
      </p:pic>
      <p:pic>
        <p:nvPicPr>
          <p:cNvPr id="146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280" y="5805000"/>
            <a:ext cx="7124760" cy="92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</a:rPr>
              <a:t>集团安全生产分管领导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</a:rPr>
              <a:t>十大职责</a:t>
            </a:r>
            <a:endParaRPr b="1" lang="en-US" sz="4400" spc="-1" strike="noStrike">
              <a:solidFill>
                <a:srgbClr val="009fd8"/>
              </a:solidFill>
              <a:latin typeface="微软雅黑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624120" y="1052280"/>
            <a:ext cx="5545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</a:rPr>
              <a:t>xxxxxxxxxxxxxxxxxxxxxxxxxxxxxxxxxxx</a:t>
            </a:r>
            <a:endParaRPr b="0" lang="en-US" sz="1800" spc="-1" strike="noStrike">
              <a:solidFill>
                <a:srgbClr val="404040"/>
              </a:solidFill>
              <a:latin typeface="微软雅黑"/>
            </a:endParaRPr>
          </a:p>
        </p:txBody>
      </p:sp>
      <p:pic>
        <p:nvPicPr>
          <p:cNvPr id="149" name="图片 5" descr=""/>
          <p:cNvPicPr/>
          <p:nvPr/>
        </p:nvPicPr>
        <p:blipFill>
          <a:blip r:embed="rId1"/>
          <a:stretch/>
        </p:blipFill>
        <p:spPr>
          <a:xfrm rot="10800000">
            <a:off x="-360" y="1196640"/>
            <a:ext cx="31798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297000" y="2421000"/>
            <a:ext cx="866772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5820" t="3695" r="5823" b="0"/>
          <a:stretch/>
        </p:blipFill>
        <p:spPr>
          <a:xfrm>
            <a:off x="250920" y="1341360"/>
            <a:ext cx="8669160" cy="2476440"/>
          </a:xfrm>
          <a:prstGeom prst="rect">
            <a:avLst/>
          </a:prstGeom>
          <a:ln w="0">
            <a:noFill/>
          </a:ln>
        </p:spPr>
      </p:pic>
      <p:sp>
        <p:nvSpPr>
          <p:cNvPr id="153" name="矩形 1"/>
          <p:cNvSpPr/>
          <p:nvPr/>
        </p:nvSpPr>
        <p:spPr>
          <a:xfrm>
            <a:off x="297000" y="2421000"/>
            <a:ext cx="8667720" cy="82512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60000"/>
                </a:solidFill>
                <a:latin typeface="微软雅黑"/>
                <a:ea typeface="微软雅黑"/>
              </a:rPr>
              <a:t>依法履行安全生产监督职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214200" y="1773360"/>
            <a:ext cx="8669520" cy="25574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Box 11"/>
          <p:cNvSpPr/>
          <p:nvPr/>
        </p:nvSpPr>
        <p:spPr>
          <a:xfrm>
            <a:off x="0" y="0"/>
            <a:ext cx="9144000" cy="5805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3" descr=""/>
          <p:cNvPicPr/>
          <p:nvPr/>
        </p:nvPicPr>
        <p:blipFill>
          <a:blip r:embed="rId1"/>
          <a:stretch/>
        </p:blipFill>
        <p:spPr>
          <a:xfrm>
            <a:off x="252360" y="1643040"/>
            <a:ext cx="8612280" cy="2556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1"/>
          <p:cNvSpPr/>
          <p:nvPr/>
        </p:nvSpPr>
        <p:spPr>
          <a:xfrm>
            <a:off x="223920" y="2421000"/>
            <a:ext cx="8669160" cy="830160"/>
          </a:xfrm>
          <a:prstGeom prst="rect">
            <a:avLst/>
          </a:prstGeom>
          <a:solidFill>
            <a:srgbClr val="ffffff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TextBox 26" descr=""/>
          <p:cNvPicPr/>
          <p:nvPr/>
        </p:nvPicPr>
        <p:blipFill>
          <a:blip r:embed="rId2"/>
          <a:stretch/>
        </p:blipFill>
        <p:spPr>
          <a:xfrm>
            <a:off x="503280" y="5116680"/>
            <a:ext cx="2392200" cy="136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图片 3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1833480" cy="18334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2010240" y="5805360"/>
            <a:ext cx="46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公司董事长总经理安全生产</a:t>
            </a:r>
            <a:r>
              <a:rPr b="1" lang="zh-CN" sz="4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十大职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203640" y="1125360"/>
            <a:ext cx="629928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微软雅黑"/>
              </a:rPr>
              <a:t>XXXXXXXXXXXXXXXXXXXXX</a:t>
            </a:r>
            <a:endParaRPr b="0" lang="en-US" sz="1800" spc="-1" strike="noStrike">
              <a:solidFill>
                <a:srgbClr val="404040"/>
              </a:solidFill>
              <a:latin typeface="微软雅黑"/>
            </a:endParaRPr>
          </a:p>
        </p:txBody>
      </p:sp>
      <p:sp>
        <p:nvSpPr>
          <p:cNvPr id="168" name="文本框 8194"/>
          <p:cNvSpPr/>
          <p:nvPr/>
        </p:nvSpPr>
        <p:spPr>
          <a:xfrm>
            <a:off x="2482920" y="24210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08T05:58:00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35:13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