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1.wmf" ContentType="image/x-wmf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0.png" ContentType="image/png"/>
  <Override PartName="/ppt/media/applaus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1A0A-30CF-420A-84EC-87B59264E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1F8C-CB7D-4C81-BDD3-7ED998A8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49DB-BBBF-431D-8883-47EACB48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7BEC-B154-4190-B2FF-CF8401367D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5B476-71D8-4199-BEA4-F09767F6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DB55A-3C93-4660-984A-ECE0A94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F7118-1407-4759-B541-41DA1FA5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57058-1317-484D-BD55-9AE18A24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B4676-EAE7-4E81-87A6-4C527FC5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86890-33B0-4518-9467-78D6EBE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6C0C-5817-4C43-B64C-89282D5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2566-998F-4F11-8677-D84183E2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0A78F-2A05-4B10-BBE3-AF001134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1685-DE99-4E95-BC6A-274ACEBC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9B1AE-DD97-4387-B1CD-B25F21C4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6D866-5F99-4117-B9C0-78F3B9DD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EA8EA-0148-4B82-8A83-E25A426A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B0CB-7444-4770-B44A-590CDDF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105A-E345-4CDB-B6B1-156FDC5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9527-91A2-404E-854C-4E46792C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4637-8492-451A-9B86-64BA4B1E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B2CA-A89D-435F-BF73-A4704414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96ED2-D619-4C47-83D9-6F20375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A812-EFC5-48ED-B1E9-30874C2A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157-F91A-4977-8524-BBC95060A5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7DA9-094F-4FFF-920D-B631190A8C2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4988-82DB-4E84-AD8C-8C3AA9917A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258,6,&#24187;&#28783;&#29255; 6" TargetMode="External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61,4,&#24187;&#28783;&#29255; 4" TargetMode="External"/><Relationship Id="rId5" Type="http://schemas.openxmlformats.org/officeDocument/2006/relationships/hyperlink" Target="260,3,&#24187;&#28783;&#29255; 3" TargetMode="External"/><Relationship Id="rId6" Type="http://schemas.openxmlformats.org/officeDocument/2006/relationships/hyperlink" Target="262,5,&#24187;&#28783;&#29255; 5" TargetMode="External"/><Relationship Id="rId7" Type="http://schemas.openxmlformats.org/officeDocument/2006/relationships/hyperlink" Target="263,4,&#24187;&#28783;&#29255; 4" TargetMode="External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2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5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9144000" cy="557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4197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我会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838080" y="6521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3300"/>
                </a:solidFill>
                <a:latin typeface="Times New Roman"/>
              </a:rPr>
              <a:t>动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52388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一五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81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三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3623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二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3392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四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257800" y="652140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我会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17" descr=""/>
          <p:cNvPicPr/>
          <p:nvPr/>
        </p:nvPicPr>
        <p:blipFill>
          <a:blip r:embed="rId8"/>
          <a:stretch/>
        </p:blipFill>
        <p:spPr>
          <a:xfrm>
            <a:off x="2514600" y="266688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Object 18" descr=""/>
          <p:cNvPicPr/>
          <p:nvPr/>
        </p:nvPicPr>
        <p:blipFill>
          <a:blip r:embed="rId9"/>
          <a:stretch/>
        </p:blipFill>
        <p:spPr>
          <a:xfrm>
            <a:off x="3564000" y="2205000"/>
            <a:ext cx="166032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9" descr=""/>
          <p:cNvPicPr/>
          <p:nvPr/>
        </p:nvPicPr>
        <p:blipFill>
          <a:blip r:embed="rId10"/>
          <a:stretch/>
        </p:blipFill>
        <p:spPr>
          <a:xfrm>
            <a:off x="4648320" y="2286000"/>
            <a:ext cx="117288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6"/>
          <p:cNvSpPr/>
          <p:nvPr/>
        </p:nvSpPr>
        <p:spPr>
          <a:xfrm>
            <a:off x="6019920" y="6521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3300"/>
                </a:solidFill>
                <a:latin typeface="Times New Roman"/>
              </a:rPr>
              <a:t>我会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39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看电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5835600" y="1203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99072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华文细黑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2438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华文细黑"/>
                <a:ea typeface="华文细黑"/>
              </a:rPr>
              <a:t>小小一间房，只有一扇窗。唱歌又演戏，天天翻花样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aaangle"/>
          <p:cNvPicPr/>
          <p:nvPr/>
        </p:nvPicPr>
        <p:blipFill>
          <a:blip r:embed="rId1"/>
          <a:stretch/>
        </p:blipFill>
        <p:spPr>
          <a:xfrm>
            <a:off x="457200" y="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8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1817640" cy="16113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26" descr="京剧"/>
          <p:cNvPicPr/>
          <p:nvPr/>
        </p:nvPicPr>
        <p:blipFill>
          <a:blip r:embed="rId1"/>
          <a:stretch/>
        </p:blipFill>
        <p:spPr>
          <a:xfrm>
            <a:off x="6172200" y="502920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29" descr="妈妈"/>
          <p:cNvPicPr/>
          <p:nvPr/>
        </p:nvPicPr>
        <p:blipFill>
          <a:blip r:embed="rId2"/>
          <a:stretch/>
        </p:blipFill>
        <p:spPr>
          <a:xfrm>
            <a:off x="1000080" y="5029200"/>
            <a:ext cx="15829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31" descr="足球"/>
          <p:cNvPicPr/>
          <p:nvPr/>
        </p:nvPicPr>
        <p:blipFill>
          <a:blip r:embed="rId3"/>
          <a:stretch/>
        </p:blipFill>
        <p:spPr>
          <a:xfrm>
            <a:off x="6248520" y="2514600"/>
            <a:ext cx="289548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2" descr="舞蹈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18892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895480" y="1828800"/>
            <a:ext cx="2819520" cy="1600200"/>
            <a:chOff x="2895480" y="1828800"/>
            <a:chExt cx="2819520" cy="1600200"/>
          </a:xfrm>
        </p:grpSpPr>
        <p:sp>
          <p:nvSpPr>
            <p:cNvPr id="106" name="Line 1034"/>
            <p:cNvSpPr/>
            <p:nvPr/>
          </p:nvSpPr>
          <p:spPr>
            <a:xfrm>
              <a:off x="2895480" y="1828800"/>
              <a:ext cx="2819520" cy="16002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895480" y="1828800"/>
              <a:ext cx="28195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895480" y="3733920"/>
            <a:ext cx="2819520" cy="1600200"/>
            <a:chOff x="2895480" y="3733920"/>
            <a:chExt cx="2819520" cy="1600200"/>
          </a:xfrm>
        </p:grpSpPr>
        <p:sp>
          <p:nvSpPr>
            <p:cNvPr id="109" name="Line 1035"/>
            <p:cNvSpPr/>
            <p:nvPr/>
          </p:nvSpPr>
          <p:spPr>
            <a:xfrm>
              <a:off x="2895480" y="3733920"/>
              <a:ext cx="2819520" cy="16002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895480" y="3733920"/>
              <a:ext cx="28195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1752480"/>
            <a:ext cx="2819520" cy="3657600"/>
            <a:chOff x="2971800" y="1752480"/>
            <a:chExt cx="2819520" cy="3657600"/>
          </a:xfrm>
        </p:grpSpPr>
        <p:sp>
          <p:nvSpPr>
            <p:cNvPr id="112" name="Line 1036"/>
            <p:cNvSpPr/>
            <p:nvPr/>
          </p:nvSpPr>
          <p:spPr>
            <a:xfrm flipV="1">
              <a:off x="2971800" y="1752480"/>
              <a:ext cx="2819520" cy="365760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 rot="10800000">
              <a:off x="2971800" y="1752480"/>
              <a:ext cx="281952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AutoShape 1039"/>
          <p:cNvSpPr/>
          <p:nvPr/>
        </p:nvSpPr>
        <p:spPr>
          <a:xfrm>
            <a:off x="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Object 1040" descr=""/>
          <p:cNvPicPr/>
          <p:nvPr/>
        </p:nvPicPr>
        <p:blipFill>
          <a:blip r:embed="rId5"/>
          <a:stretch/>
        </p:blipFill>
        <p:spPr>
          <a:xfrm>
            <a:off x="549360" y="685800"/>
            <a:ext cx="107784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043" descr=""/>
          <p:cNvPicPr/>
          <p:nvPr/>
        </p:nvPicPr>
        <p:blipFill>
          <a:blip r:embed="rId6"/>
          <a:stretch/>
        </p:blipFill>
        <p:spPr>
          <a:xfrm>
            <a:off x="1371600" y="304920"/>
            <a:ext cx="1143000" cy="20095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044" descr=""/>
          <p:cNvPicPr/>
          <p:nvPr/>
        </p:nvPicPr>
        <p:blipFill>
          <a:blip r:embed="rId7"/>
          <a:stretch/>
        </p:blipFill>
        <p:spPr>
          <a:xfrm>
            <a:off x="990720" y="2514600"/>
            <a:ext cx="1006200" cy="2052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46"/>
          <p:cNvSpPr/>
          <p:nvPr/>
        </p:nvSpPr>
        <p:spPr>
          <a:xfrm>
            <a:off x="3048120" y="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4920" y="2708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可真有些奇妙！每个人心里都装着一个秘密，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08000" y="46530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每个人心里都装着一个秘密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，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到底是啥？不说你也知道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全家人都看电视，我家看电视，真有些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815328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04920" y="0"/>
            <a:ext cx="937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每天，我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全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家人都看电视，我家看电视，真有些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奇妙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—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16" descr=""/>
          <p:cNvPicPr/>
          <p:nvPr/>
        </p:nvPicPr>
        <p:blipFill>
          <a:blip r:embed="rId1"/>
          <a:stretch/>
        </p:blipFill>
        <p:spPr>
          <a:xfrm>
            <a:off x="0" y="4648320"/>
            <a:ext cx="5029200" cy="3052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57200" y="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却把一场精彩的球赛关掉，不知为啥换成了京剧，       伊咿呀呀的，唱个没完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Object 14" descr=""/>
          <p:cNvPicPr/>
          <p:nvPr/>
        </p:nvPicPr>
        <p:blipFill>
          <a:blip r:embed="rId2"/>
          <a:stretch/>
        </p:blipFill>
        <p:spPr>
          <a:xfrm>
            <a:off x="1295280" y="5486400"/>
            <a:ext cx="107820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15" descr=""/>
          <p:cNvPicPr/>
          <p:nvPr/>
        </p:nvPicPr>
        <p:blipFill>
          <a:blip r:embed="rId3"/>
          <a:stretch/>
        </p:blipFill>
        <p:spPr>
          <a:xfrm>
            <a:off x="1981080" y="4952880"/>
            <a:ext cx="127800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457200" y="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爸爸明明是个足球迷，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却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把一场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精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彩的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赛关掉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，不知为啥换成了京剧，       伊咿呀呀的，唱个没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完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没了。只有奶奶听得入了迷，      我和爸爸都在打盹睡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13" descr=""/>
          <p:cNvPicPr/>
          <p:nvPr/>
        </p:nvPicPr>
        <p:blipFill>
          <a:blip r:embed="rId1"/>
          <a:stretch/>
        </p:blipFill>
        <p:spPr>
          <a:xfrm>
            <a:off x="-457200" y="3749760"/>
            <a:ext cx="5119560" cy="3108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换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员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Object 12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04616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4"/>
          <p:cNvSpPr/>
          <p:nvPr/>
        </p:nvSpPr>
        <p:spPr>
          <a:xfrm>
            <a:off x="1981080" y="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奶奶啥时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换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了频道？</a:t>
            </a:r>
            <a:br>
              <a:rPr sz="5400"/>
            </a:b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球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员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们正在场上飞跑。 好球，好球，快射门！我和爸爸乐得直叫。    奶奶不看电视只看我们，和我们一起拍手欢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8200"/>
          <p:cNvSpPr/>
          <p:nvPr/>
        </p:nvSpPr>
        <p:spPr>
          <a:xfrm>
            <a:off x="1403280" y="53020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27" descr="妈妈"/>
          <p:cNvPicPr/>
          <p:nvPr/>
        </p:nvPicPr>
        <p:blipFill>
          <a:blip r:embed="rId1"/>
          <a:stretch/>
        </p:blipFill>
        <p:spPr>
          <a:xfrm>
            <a:off x="1143000" y="3962520"/>
            <a:ext cx="1415880" cy="163656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1029" descr=""/>
          <p:cNvPicPr/>
          <p:nvPr/>
        </p:nvPicPr>
        <p:blipFill>
          <a:blip r:embed="rId2"/>
          <a:stretch/>
        </p:blipFill>
        <p:spPr>
          <a:xfrm>
            <a:off x="0" y="4406760"/>
            <a:ext cx="4038480" cy="2451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26"/>
          <p:cNvSpPr/>
          <p:nvPr/>
        </p:nvSpPr>
        <p:spPr>
          <a:xfrm>
            <a:off x="304920" y="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写的文稿。      看着妈妈一脸的疲劳，         我们都提议不再看球赛，     让妈妈听听音乐，看看舞蹈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028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30"/>
          <p:cNvSpPr/>
          <p:nvPr/>
        </p:nvSpPr>
        <p:spPr>
          <a:xfrm>
            <a:off x="304920" y="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妈妈从书房走了出来，         她在修改最近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写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的文稿。      看着妈妈一脸的疲劳，         我们都提议不再看球赛，     让妈妈听听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音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乐，看看舞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蹈</a:t>
            </a: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细黑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C78A-F2B4-406F-BE81-2045C269AD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12780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王头上有一人，大哥压着可弟身。宝贝小口头上开，大米青草一起吞。一个少女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010280" y="1219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0102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01028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0102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828800" y="0"/>
            <a:ext cx="259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我会猜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010280" y="4952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8534520" y="6248520"/>
            <a:ext cx="609480" cy="609480"/>
          </a:xfrm>
          <a:prstGeom prst="smileyFace">
            <a:avLst>
              <a:gd name="adj" fmla="val 4653"/>
            </a:avLst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010280" y="585144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细黑"/>
              </a:rPr>
              <a:t>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33520" y="127944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王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有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人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大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哥压着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可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弟身。宝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贝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小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口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头上开，大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米青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草一起吞。一个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少女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很美丽，她要站在太阳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bject 16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2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8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