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295-D99E-49D6-940E-9F92BBC0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08B-3F13-4D71-8FF1-9CE281A6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DAC-3E3D-4656-89E5-2A6ABEDD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490-1499-4F88-A044-56C509C9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2531-CD75-405A-9605-DF65929A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576F-8535-4F3E-BEE0-0983BCFA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D6CC-BAA0-4C9C-8BDA-D5B5D0C5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B942-CF89-4EBE-922A-79CA09F0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8656-8326-4258-9C3B-7CEC9ECA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26D8-69DA-4210-BD00-52A9E8E2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5086-5E36-48CA-9183-D89474CE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F7D-C211-43BF-9280-07C166AA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9ECE-ABFE-401C-8F06-E0FC911F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B41E-D48C-4B5A-B853-0CAA27F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3457-2715-4D12-B70C-6B5E78C0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978E-2680-490E-906B-DB16ACDA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3AA9-AFA9-410D-80B6-95801969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3C3-25F3-4CE7-BFAE-41E2B963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8A4-0F83-4731-B143-AA1D65E1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CBE-3244-4A69-AD6A-8127BF5D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A40-8D22-4680-930A-A50BEB60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5A1-5CAA-452F-AEA8-0DA9E0F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49A-4107-4349-AE50-DCC156B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5FC-63F1-4E15-BC07-3B0959F1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4281-C9FF-4BB9-A362-A685B5F6772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FFD0-B836-46F2-BF3A-99E99776403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864D-2B64-4C22-8962-B17C3C189B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3" descr="母雞帶小雞"/>
          <p:cNvPicPr/>
          <p:nvPr/>
        </p:nvPicPr>
        <p:blipFill>
          <a:blip r:embed="rId1"/>
          <a:stretch/>
        </p:blipFill>
        <p:spPr>
          <a:xfrm>
            <a:off x="0" y="0"/>
            <a:ext cx="8915400" cy="6680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PMingLiU"/>
              </a:rPr>
              <a:t>中      秋     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541440" y="549360"/>
            <a:ext cx="84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卡通风格中秋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1265" descr="NENGA04"/>
          <p:cNvPicPr/>
          <p:nvPr/>
        </p:nvPicPr>
        <p:blipFill>
          <a:blip r:embed="rId1"/>
          <a:stretch/>
        </p:blipFill>
        <p:spPr>
          <a:xfrm>
            <a:off x="685800" y="0"/>
            <a:ext cx="253836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266" descr="CAKE2"/>
          <p:cNvPicPr/>
          <p:nvPr/>
        </p:nvPicPr>
        <p:blipFill>
          <a:blip r:embed="rId2"/>
          <a:stretch/>
        </p:blipFill>
        <p:spPr>
          <a:xfrm>
            <a:off x="3200400" y="2825640"/>
            <a:ext cx="431784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99072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看了這些活動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小朋友你還有想到什麼活動可以在中秋節的時候過的呢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097" descr="1"/>
          <p:cNvPicPr/>
          <p:nvPr/>
        </p:nvPicPr>
        <p:blipFill>
          <a:blip r:embed="rId1"/>
          <a:stretch/>
        </p:blipFill>
        <p:spPr>
          <a:xfrm>
            <a:off x="304920" y="304920"/>
            <a:ext cx="2784240" cy="40384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098" descr="pic1-8"/>
          <p:cNvPicPr/>
          <p:nvPr/>
        </p:nvPicPr>
        <p:blipFill>
          <a:blip r:embed="rId2"/>
          <a:stretch/>
        </p:blipFill>
        <p:spPr>
          <a:xfrm>
            <a:off x="2895480" y="2441520"/>
            <a:ext cx="6248520" cy="4416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0880" y="3048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標楷體"/>
              </a:rPr>
              <a:t>農曆八月十五日是我國的中秋節，而月亮既圓又亮，民間有閤家團聚的習俗。而拜月、賞月、吃月餅和吃柚子更是家喻戶曉的活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文鼎古印體"/>
                <a:ea typeface="文鼎古印體"/>
              </a:rPr>
              <a:t>中  秋  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121" descr="0405-c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文鼎古印體"/>
                <a:ea typeface="文鼎古印體"/>
              </a:rPr>
              <a:t>中   秋   節   的   起   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標楷體"/>
              </a:rPr>
              <a:t>中秋節，因四季之中，七、八、九為秋天，而八月十五居秋季之中，故稱「中秋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145" descr="IL1_0022"/>
          <p:cNvPicPr/>
          <p:nvPr/>
        </p:nvPicPr>
        <p:blipFill>
          <a:blip r:embed="rId1"/>
          <a:stretch/>
        </p:blipFill>
        <p:spPr>
          <a:xfrm>
            <a:off x="838080" y="0"/>
            <a:ext cx="34419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146" descr="仙女"/>
          <p:cNvPicPr/>
          <p:nvPr/>
        </p:nvPicPr>
        <p:blipFill>
          <a:blip r:embed="rId2"/>
          <a:stretch/>
        </p:blipFill>
        <p:spPr>
          <a:xfrm>
            <a:off x="4876920" y="1523880"/>
            <a:ext cx="3435120" cy="3657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文鼎古印體"/>
                <a:ea typeface="文鼎古印體"/>
              </a:rPr>
              <a:t>中 秋 節 的 傳 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4114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標楷體"/>
              </a:rPr>
              <a:t>關於中秋節的傳說有很多，像是嫦娥奔月、吳剛伐桂、玉兔搗藥等。許多都是我們耳熟能詳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7169" descr="CARD_037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</a:rPr>
              <a:t>中   秋   節   的   活   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4343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我們在中秋節那天都會進行幾種活動來渡過中秋節</a:t>
            </a:r>
            <a:r>
              <a:rPr b="1" lang="en-US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小朋友你都是選擇哪一種活動來渡過中秋節呢</a:t>
            </a:r>
            <a:r>
              <a:rPr b="1" lang="en-US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198"/>
          <p:cNvSpPr/>
          <p:nvPr/>
        </p:nvSpPr>
        <p:spPr>
          <a:xfrm>
            <a:off x="2556000" y="249228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8193" descr="月餅"/>
          <p:cNvPicPr/>
          <p:nvPr/>
        </p:nvPicPr>
        <p:blipFill>
          <a:blip r:embed="rId1"/>
          <a:stretch/>
        </p:blipFill>
        <p:spPr>
          <a:xfrm>
            <a:off x="0" y="914400"/>
            <a:ext cx="8839080" cy="501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04920" y="28954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標楷體"/>
              </a:rPr>
              <a:t>月餅也叫做「團圓餅」，中秋節吃月餅，有以圓圓的月餅來象徵團圓的意思；在外地的人，總要趕回家過中秋節，吃團圓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9217" descr="OUT24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47920" y="21333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標楷體"/>
              </a:rPr>
              <a:t>中秋節的夜晚，明月當空，所以很多人喜歡到郊外走走，散步賞月，盡興而歸，故俗「踏月」或「走月亮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198"/>
          <p:cNvSpPr/>
          <p:nvPr/>
        </p:nvSpPr>
        <p:spPr>
          <a:xfrm>
            <a:off x="1619280" y="126828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0241" descr="OUT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61760" y="10666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偷瓜菜</a:t>
            </a:r>
            <a:r>
              <a:rPr b="1" lang="en-US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---</a:t>
            </a: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這是未婚男女在中秋夜玩的遊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在中秋節時，未婚少女到田裡去偷摘別人家的瓜果蔬菜，如果偷得蔥或青菜，表示很快可以找到好丈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標楷體"/>
                <a:ea typeface="標楷體"/>
              </a:rPr>
              <a:t>諺語：「偷得蔥，嫁好尪；偷得菜，嫁好婿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635C-5CDB-443C-8596-B4294AC187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1T09:21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56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