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9D56-7F69-4018-83B3-031B41DD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5002-71EF-45EC-80F3-29FAD63A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5CF6-603F-4761-BF9A-9A5A97A2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0BFD-58D4-44B1-A634-2BBB6AC4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AB2B-7B00-47C7-933B-13E64422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0EA5-EE9F-44E9-9F1B-A4141230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0BF3-9998-40DD-AAC9-72C5DE6D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FD7D-7CD7-4B9C-870C-90CA051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1D87-A7E9-4DDE-A9DB-60BB1C59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09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FE9-0F0D-446E-8957-50807498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515E-1D89-456F-B8F2-27AA78C7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101E-EB5F-41FE-A8AF-292DE46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7D70-126F-4452-99E1-2B4D2DB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4658-39C7-4A3E-928D-8D02C7DA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76A8-59D9-40F9-9AFB-351DEE5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D036-9A44-49EA-BD6A-1A13FA58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6BBE-1C3E-4E56-8213-C7F642E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E743-C3D0-4326-8E72-F67EBEB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29EE-8591-4FF5-9387-6CF9521D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37F8-4353-4D2F-934E-87577BF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09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13CD-4B22-43B9-A3E5-216D3829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4B46-F438-4C96-8072-68EDDC72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3436-014C-4377-B08E-C30F5C87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2375-8801-457F-B6AC-53EBA06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4"/>
          <p:cNvSpPr/>
          <p:nvPr/>
        </p:nvSpPr>
        <p:spPr>
          <a:xfrm flipH="1">
            <a:off x="-7920" y="-22320"/>
            <a:ext cx="9151920" cy="912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064"/>
          <p:cNvSpPr/>
          <p:nvPr/>
        </p:nvSpPr>
        <p:spPr>
          <a:xfrm>
            <a:off x="-7920" y="-22320"/>
            <a:ext cx="915192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rcRect l="0" t="0" r="31183" b="8208"/>
          <a:stretch/>
        </p:blipFill>
        <p:spPr>
          <a:xfrm flipH="1">
            <a:off x="0" y="92160"/>
            <a:ext cx="6075360" cy="6764400"/>
          </a:xfrm>
          <a:prstGeom prst="rect">
            <a:avLst/>
          </a:prstGeom>
          <a:ln w="0">
            <a:noFill/>
          </a:ln>
        </p:spPr>
      </p:pic>
      <p:sp>
        <p:nvSpPr>
          <p:cNvPr id="3" name="矩形 2065"/>
          <p:cNvSpPr/>
          <p:nvPr/>
        </p:nvSpPr>
        <p:spPr>
          <a:xfrm>
            <a:off x="468360" y="981000"/>
            <a:ext cx="8196120" cy="54007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rcRect l="0" t="0" r="9757" b="9748"/>
          <a:stretch/>
        </p:blipFill>
        <p:spPr>
          <a:xfrm>
            <a:off x="-106200" y="800280"/>
            <a:ext cx="9358200" cy="107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fld id="{33EAF999-8EE0-4CA9-8A34-0AB3507C9E9B}" type="slidenum"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973E-C722-47A7-A524-28E776EFD47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1BDA-3EAF-4544-9D6C-DA05744AC1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ordridesign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ordridesign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40"/>
          <p:cNvSpPr/>
          <p:nvPr/>
        </p:nvSpPr>
        <p:spPr>
          <a:xfrm flipH="1">
            <a:off x="34200" y="0"/>
            <a:ext cx="9109080" cy="687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右箭头 25"/>
          <p:cNvSpPr/>
          <p:nvPr/>
        </p:nvSpPr>
        <p:spPr>
          <a:xfrm rot="5400000">
            <a:off x="-648000" y="277560"/>
            <a:ext cx="486000" cy="482760"/>
          </a:xfrm>
          <a:prstGeom prst="rightArrow">
            <a:avLst>
              <a:gd name="adj1" fmla="val 50000"/>
              <a:gd name="adj2" fmla="val 50191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26"/>
          <p:cNvSpPr/>
          <p:nvPr/>
        </p:nvSpPr>
        <p:spPr>
          <a:xfrm rot="5400000">
            <a:off x="-1132200" y="493560"/>
            <a:ext cx="486000" cy="485640"/>
          </a:xfrm>
          <a:prstGeom prst="rightArrow">
            <a:avLst>
              <a:gd name="adj1" fmla="val 50000"/>
              <a:gd name="adj2" fmla="val 49893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右箭头 27"/>
          <p:cNvSpPr/>
          <p:nvPr/>
        </p:nvSpPr>
        <p:spPr>
          <a:xfrm rot="5400000">
            <a:off x="-584280" y="300816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28"/>
          <p:cNvSpPr/>
          <p:nvPr/>
        </p:nvSpPr>
        <p:spPr>
          <a:xfrm rot="5400000">
            <a:off x="-647640" y="5893920"/>
            <a:ext cx="485640" cy="482760"/>
          </a:xfrm>
          <a:prstGeom prst="rightArrow">
            <a:avLst>
              <a:gd name="adj1" fmla="val 50000"/>
              <a:gd name="adj2" fmla="val 5015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箭头 29"/>
          <p:cNvSpPr/>
          <p:nvPr/>
        </p:nvSpPr>
        <p:spPr>
          <a:xfrm rot="5400000">
            <a:off x="-1131480" y="5964840"/>
            <a:ext cx="486000" cy="4842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右箭头 30"/>
          <p:cNvSpPr/>
          <p:nvPr/>
        </p:nvSpPr>
        <p:spPr>
          <a:xfrm rot="5400000">
            <a:off x="-1559520" y="6253560"/>
            <a:ext cx="48564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右箭头 31"/>
          <p:cNvSpPr/>
          <p:nvPr/>
        </p:nvSpPr>
        <p:spPr>
          <a:xfrm>
            <a:off x="-14400" y="-673200"/>
            <a:ext cx="484200" cy="484200"/>
          </a:xfrm>
          <a:prstGeom prst="rightArrow">
            <a:avLst>
              <a:gd name="adj1" fmla="val 50000"/>
              <a:gd name="adj2" fmla="val 49856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右箭头 32"/>
          <p:cNvSpPr/>
          <p:nvPr/>
        </p:nvSpPr>
        <p:spPr>
          <a:xfrm>
            <a:off x="4086360" y="-673200"/>
            <a:ext cx="48564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右箭头 33"/>
          <p:cNvSpPr/>
          <p:nvPr/>
        </p:nvSpPr>
        <p:spPr>
          <a:xfrm>
            <a:off x="8190000" y="-673200"/>
            <a:ext cx="48564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>
            <a:hlinkClick r:id="rId1"/>
          </p:cNvPr>
          <p:cNvSpPr/>
          <p:nvPr/>
        </p:nvSpPr>
        <p:spPr>
          <a:xfrm>
            <a:off x="324000" y="5803920"/>
            <a:ext cx="30589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3e3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3086"/>
          <p:cNvGrpSpPr/>
          <p:nvPr/>
        </p:nvGrpSpPr>
        <p:grpSpPr>
          <a:xfrm>
            <a:off x="454680" y="2336760"/>
            <a:ext cx="6496560" cy="1536120"/>
            <a:chOff x="454680" y="2336760"/>
            <a:chExt cx="6496560" cy="1536120"/>
          </a:xfrm>
        </p:grpSpPr>
        <p:sp>
          <p:nvSpPr>
            <p:cNvPr id="102" name="直角三角形 6"/>
            <p:cNvSpPr/>
            <p:nvPr/>
          </p:nvSpPr>
          <p:spPr>
            <a:xfrm rot="21447600">
              <a:off x="461520" y="3314160"/>
              <a:ext cx="5290200" cy="441360"/>
            </a:xfrm>
            <a:custGeom>
              <a:avLst/>
              <a:gdLst/>
              <a:ahLst/>
              <a:rect l="l" t="t" r="r" b="b"/>
              <a:pathLst>
                <a:path w="5290316" h="441470">
                  <a:moveTo>
                    <a:pt x="8051" y="0"/>
                  </a:moveTo>
                  <a:lnTo>
                    <a:pt x="5290316" y="441470"/>
                  </a:lnTo>
                  <a:lnTo>
                    <a:pt x="239969" y="441470"/>
                  </a:lnTo>
                  <a:lnTo>
                    <a:pt x="0" y="181833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d8d8d8"/>
                </a:gs>
              </a:gsLst>
              <a:lin ang="25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 flipH="1">
              <a:off x="461880" y="2336760"/>
              <a:ext cx="6489000" cy="12898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2670120" y="196920"/>
            <a:ext cx="6473880" cy="667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rcRect l="0" t="0" r="0" b="36153"/>
          <a:stretch/>
        </p:blipFill>
        <p:spPr>
          <a:xfrm>
            <a:off x="6951600" y="5918040"/>
            <a:ext cx="1238400" cy="954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105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小人建筑设计方案</a:t>
            </a:r>
            <a:r>
              <a:rPr b="0" lang="en-US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打包下载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4520" y="3200400"/>
            <a:ext cx="529272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副标题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/18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093"/>
          <p:cNvSpPr/>
          <p:nvPr/>
        </p:nvSpPr>
        <p:spPr>
          <a:xfrm>
            <a:off x="676440" y="284040"/>
            <a:ext cx="3031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276DCB6D-B522-4D83-ABB8-01AB9B20FF88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文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号字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512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114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5"/>
                    <a:pt x="10800" y="610"/>
                  </a:cubicBezTo>
                  <a:lnTo>
                    <a:pt x="10800" y="10190"/>
                  </a:lnTo>
                  <a:cubicBezTo>
                    <a:pt x="10800" y="10495"/>
                    <a:pt x="5400" y="10800"/>
                    <a:pt x="0" y="10800"/>
                  </a:cubicBezTo>
                  <a:cubicBezTo>
                    <a:pt x="5400" y="10800"/>
                    <a:pt x="10800" y="11105"/>
                    <a:pt x="10800" y="11410"/>
                  </a:cubicBezTo>
                  <a:lnTo>
                    <a:pt x="10800" y="20990"/>
                  </a:lnTo>
                  <a:cubicBezTo>
                    <a:pt x="10800" y="21295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6"/>
                    <a:pt x="10800" y="2172"/>
                  </a:cubicBezTo>
                  <a:lnTo>
                    <a:pt x="10800" y="8628"/>
                  </a:lnTo>
                  <a:cubicBezTo>
                    <a:pt x="10800" y="9714"/>
                    <a:pt x="5400" y="10800"/>
                    <a:pt x="0" y="10800"/>
                  </a:cubicBezTo>
                  <a:cubicBezTo>
                    <a:pt x="5400" y="10800"/>
                    <a:pt x="10800" y="11886"/>
                    <a:pt x="10800" y="12972"/>
                  </a:cubicBezTo>
                  <a:lnTo>
                    <a:pt x="10800" y="19428"/>
                  </a:lnTo>
                  <a:cubicBezTo>
                    <a:pt x="10800" y="2051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0"/>
                    <a:pt x="10800" y="980"/>
                  </a:cubicBezTo>
                  <a:lnTo>
                    <a:pt x="10800" y="9820"/>
                  </a:lnTo>
                  <a:cubicBezTo>
                    <a:pt x="10800" y="10310"/>
                    <a:pt x="5400" y="10800"/>
                    <a:pt x="0" y="10800"/>
                  </a:cubicBezTo>
                  <a:cubicBezTo>
                    <a:pt x="5400" y="10800"/>
                    <a:pt x="10800" y="11290"/>
                    <a:pt x="10800" y="11780"/>
                  </a:cubicBezTo>
                  <a:lnTo>
                    <a:pt x="10800" y="20620"/>
                  </a:lnTo>
                  <a:cubicBezTo>
                    <a:pt x="10800" y="2111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6"/>
                    <a:pt x="10800" y="2172"/>
                  </a:cubicBezTo>
                  <a:lnTo>
                    <a:pt x="10800" y="8628"/>
                  </a:lnTo>
                  <a:cubicBezTo>
                    <a:pt x="10800" y="9714"/>
                    <a:pt x="5400" y="10800"/>
                    <a:pt x="0" y="10800"/>
                  </a:cubicBezTo>
                  <a:cubicBezTo>
                    <a:pt x="5400" y="10800"/>
                    <a:pt x="10800" y="11886"/>
                    <a:pt x="10800" y="12972"/>
                  </a:cubicBezTo>
                  <a:lnTo>
                    <a:pt x="10800" y="19428"/>
                  </a:lnTo>
                  <a:cubicBezTo>
                    <a:pt x="10800" y="2051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1"/>
                    <a:pt x="10800" y="1002"/>
                  </a:cubicBezTo>
                  <a:lnTo>
                    <a:pt x="10800" y="9798"/>
                  </a:lnTo>
                  <a:cubicBezTo>
                    <a:pt x="10800" y="10299"/>
                    <a:pt x="5400" y="10800"/>
                    <a:pt x="0" y="10800"/>
                  </a:cubicBezTo>
                  <a:cubicBezTo>
                    <a:pt x="5400" y="10800"/>
                    <a:pt x="10800" y="11301"/>
                    <a:pt x="10800" y="11802"/>
                  </a:cubicBezTo>
                  <a:lnTo>
                    <a:pt x="10800" y="20598"/>
                  </a:lnTo>
                  <a:cubicBezTo>
                    <a:pt x="10800" y="2109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1"/>
                    <a:pt x="10800" y="561"/>
                  </a:cubicBezTo>
                  <a:lnTo>
                    <a:pt x="10800" y="10239"/>
                  </a:lnTo>
                  <a:cubicBezTo>
                    <a:pt x="10800" y="10520"/>
                    <a:pt x="5400" y="10800"/>
                    <a:pt x="0" y="10800"/>
                  </a:cubicBezTo>
                  <a:cubicBezTo>
                    <a:pt x="5400" y="10800"/>
                    <a:pt x="10800" y="11081"/>
                    <a:pt x="10800" y="11361"/>
                  </a:cubicBezTo>
                  <a:lnTo>
                    <a:pt x="10800" y="21039"/>
                  </a:lnTo>
                  <a:cubicBezTo>
                    <a:pt x="10800" y="2132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8"/>
            <p:cNvSpPr/>
            <p:nvPr/>
          </p:nvSpPr>
          <p:spPr>
            <a:xfrm>
              <a:off x="1657080" y="2041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9"/>
            <p:cNvSpPr/>
            <p:nvPr/>
          </p:nvSpPr>
          <p:spPr>
            <a:xfrm>
              <a:off x="369324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30"/>
            <p:cNvSpPr/>
            <p:nvPr/>
          </p:nvSpPr>
          <p:spPr>
            <a:xfrm>
              <a:off x="570168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31"/>
            <p:cNvSpPr/>
            <p:nvPr/>
          </p:nvSpPr>
          <p:spPr>
            <a:xfrm>
              <a:off x="758952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810000" y="2716200"/>
              <a:ext cx="332640" cy="332640"/>
              <a:chOff x="810000" y="2716200"/>
              <a:chExt cx="332640" cy="332640"/>
            </a:xfrm>
          </p:grpSpPr>
          <p:sp>
            <p:nvSpPr>
              <p:cNvPr id="141" name="直接连接符 32"/>
              <p:cNvSpPr/>
              <p:nvPr/>
            </p:nvSpPr>
            <p:spPr>
              <a:xfrm flipH="1">
                <a:off x="81000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81000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464480" y="2716200"/>
              <a:ext cx="332640" cy="332640"/>
              <a:chOff x="1464480" y="2716200"/>
              <a:chExt cx="332640" cy="332640"/>
            </a:xfrm>
          </p:grpSpPr>
          <p:sp>
            <p:nvSpPr>
              <p:cNvPr id="144" name="直接连接符 33"/>
              <p:cNvSpPr/>
              <p:nvPr/>
            </p:nvSpPr>
            <p:spPr>
              <a:xfrm flipH="1">
                <a:off x="146448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46448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118600" y="2716200"/>
              <a:ext cx="332640" cy="332640"/>
              <a:chOff x="2118600" y="2716200"/>
              <a:chExt cx="332640" cy="332640"/>
            </a:xfrm>
          </p:grpSpPr>
          <p:sp>
            <p:nvSpPr>
              <p:cNvPr id="147" name="直接连接符 34"/>
              <p:cNvSpPr/>
              <p:nvPr/>
            </p:nvSpPr>
            <p:spPr>
              <a:xfrm flipH="1">
                <a:off x="211860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11860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773080" y="2716200"/>
              <a:ext cx="332640" cy="332640"/>
              <a:chOff x="2773080" y="2716200"/>
              <a:chExt cx="332640" cy="332640"/>
            </a:xfrm>
          </p:grpSpPr>
          <p:sp>
            <p:nvSpPr>
              <p:cNvPr id="150" name="直接连接符 35"/>
              <p:cNvSpPr/>
              <p:nvPr/>
            </p:nvSpPr>
            <p:spPr>
              <a:xfrm flipH="1">
                <a:off x="277308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277308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cccccc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——“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810000" y="3849480"/>
              <a:ext cx="332640" cy="332640"/>
              <a:chOff x="810000" y="3849480"/>
              <a:chExt cx="332640" cy="332640"/>
            </a:xfrm>
          </p:grpSpPr>
          <p:sp>
            <p:nvSpPr>
              <p:cNvPr id="158" name="直接连接符 41"/>
              <p:cNvSpPr/>
              <p:nvPr/>
            </p:nvSpPr>
            <p:spPr>
              <a:xfrm flipH="1">
                <a:off x="81000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81000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464480" y="3849480"/>
              <a:ext cx="332640" cy="332640"/>
              <a:chOff x="1464480" y="3849480"/>
              <a:chExt cx="332640" cy="332640"/>
            </a:xfrm>
          </p:grpSpPr>
          <p:sp>
            <p:nvSpPr>
              <p:cNvPr id="161" name="直接连接符 42"/>
              <p:cNvSpPr/>
              <p:nvPr/>
            </p:nvSpPr>
            <p:spPr>
              <a:xfrm flipH="1">
                <a:off x="146448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146448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118600" y="3849480"/>
              <a:ext cx="332640" cy="332640"/>
              <a:chOff x="2118600" y="3849480"/>
              <a:chExt cx="332640" cy="332640"/>
            </a:xfrm>
          </p:grpSpPr>
          <p:sp>
            <p:nvSpPr>
              <p:cNvPr id="164" name="直接连接符 43"/>
              <p:cNvSpPr/>
              <p:nvPr/>
            </p:nvSpPr>
            <p:spPr>
              <a:xfrm flipH="1">
                <a:off x="211860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211860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73080" y="3849480"/>
              <a:ext cx="332640" cy="332640"/>
              <a:chOff x="2773080" y="3849480"/>
              <a:chExt cx="332640" cy="332640"/>
            </a:xfrm>
          </p:grpSpPr>
          <p:sp>
            <p:nvSpPr>
              <p:cNvPr id="167" name="直接连接符 44"/>
              <p:cNvSpPr/>
              <p:nvPr/>
            </p:nvSpPr>
            <p:spPr>
              <a:xfrm flipH="1">
                <a:off x="277308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77308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灯片编号占位符 2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8E45E1EC-4FE1-4B5F-B3FE-2ECFE99A6A40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8198"/>
          <p:cNvSpPr/>
          <p:nvPr/>
        </p:nvSpPr>
        <p:spPr>
          <a:xfrm>
            <a:off x="1547640" y="1125360"/>
            <a:ext cx="505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F253-DDE8-4108-8434-A4E07B5192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6145"/>
          <p:cNvGrpSpPr/>
          <p:nvPr/>
        </p:nvGrpSpPr>
        <p:grpSpPr>
          <a:xfrm>
            <a:off x="1619280" y="2825640"/>
            <a:ext cx="6498000" cy="1536120"/>
            <a:chOff x="1619280" y="2825640"/>
            <a:chExt cx="6498000" cy="1536120"/>
          </a:xfrm>
        </p:grpSpPr>
        <p:sp>
          <p:nvSpPr>
            <p:cNvPr id="182" name="直角三角形 6"/>
            <p:cNvSpPr/>
            <p:nvPr/>
          </p:nvSpPr>
          <p:spPr>
            <a:xfrm flipH="1" rot="152400">
              <a:off x="2818440" y="3803040"/>
              <a:ext cx="5291280" cy="441360"/>
            </a:xfrm>
            <a:custGeom>
              <a:avLst/>
              <a:gdLst/>
              <a:ahLst/>
              <a:rect l="l" t="t" r="r" b="b"/>
              <a:pathLst>
                <a:path w="5290316" h="441470">
                  <a:moveTo>
                    <a:pt x="8051" y="0"/>
                  </a:moveTo>
                  <a:lnTo>
                    <a:pt x="5290316" y="441470"/>
                  </a:lnTo>
                  <a:lnTo>
                    <a:pt x="239969" y="441470"/>
                  </a:lnTo>
                  <a:lnTo>
                    <a:pt x="0" y="181833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d8d8d8"/>
                </a:gs>
              </a:gsLst>
              <a:lin ang="25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1619280" y="2825640"/>
              <a:ext cx="6490440" cy="1290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6" descr=""/>
          <p:cNvPicPr/>
          <p:nvPr/>
        </p:nvPicPr>
        <p:blipFill>
          <a:blip r:embed="rId1"/>
          <a:srcRect l="0" t="0" r="16187" b="4196"/>
          <a:stretch/>
        </p:blipFill>
        <p:spPr>
          <a:xfrm flipH="1">
            <a:off x="0" y="0"/>
            <a:ext cx="6084720" cy="6856560"/>
          </a:xfrm>
          <a:prstGeom prst="rect">
            <a:avLst/>
          </a:prstGeom>
          <a:ln w="0">
            <a:noFill/>
          </a:ln>
        </p:spPr>
      </p:pic>
      <p:sp>
        <p:nvSpPr>
          <p:cNvPr id="185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>
            <a:hlinkClick r:id="rId2"/>
          </p:cNvPr>
          <p:cNvSpPr/>
          <p:nvPr/>
        </p:nvSpPr>
        <p:spPr>
          <a:xfrm>
            <a:off x="6083280" y="6056280"/>
            <a:ext cx="3060720" cy="50472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标题 3"/>
          <p:cNvSpPr/>
          <p:nvPr/>
        </p:nvSpPr>
        <p:spPr>
          <a:xfrm>
            <a:off x="1692360" y="2822400"/>
            <a:ext cx="63928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副标题 4"/>
          <p:cNvSpPr/>
          <p:nvPr/>
        </p:nvSpPr>
        <p:spPr>
          <a:xfrm>
            <a:off x="1692360" y="3614760"/>
            <a:ext cx="639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7531200" y="7812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060720" y="1130400"/>
            <a:ext cx="183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4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