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137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4ED-3EF1-43C9-8E48-703A2856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4A2-DEBB-43D7-B888-0BA769B9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F56-A2F5-4B3B-B702-E4E1CF5A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3C0-0AF4-417E-BAED-7469B735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1BF0-7CF3-4638-BF99-6A357E2B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CD79-1A80-4E1B-BD1D-14A18498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09A2-F7C9-45F5-A026-AFD474AE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85F8-6DB1-4F98-948F-B641531D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8313-8459-404E-A932-B6EDA954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C065-D105-4F6D-B101-1102C09E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7315-23FB-4A1C-B19E-DA78F3F1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54B-2EC7-4DF5-93E4-C07834A7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ABB1-81CE-43ED-8918-11590F2A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E624-A82A-47F9-AB71-AAA9FEFF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8BC4-B8B4-432C-8524-DE98206B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C0FB-E708-4077-8002-1E125AD9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9AB8-535B-4197-BFA8-30510BCA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EE5-6E6A-46B5-AF3D-05599210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C4A-CB46-45D8-ACE1-C32E217E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184-A422-4567-ADC1-FC3A7F96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24A-5889-4B78-8724-74C06897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9C8-6EBE-49E6-BC83-F771027D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859-3E1A-453A-9308-0043EC37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247-09B3-4F0F-9D00-1631468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89720"/>
            <a:ext cx="2133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89720"/>
            <a:ext cx="289584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89720"/>
            <a:ext cx="2133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5901-EC79-4FD1-8E40-40F35A4876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9E84-4D17-4907-93D9-66AD27288BD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D7E2-FBE3-4109-A177-D5B7E95930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F6E4-D3DF-4D64-93B5-F4B3C992B3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0656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中秋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77960"/>
            <a:ext cx="640080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108000" y="5661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9:08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4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