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684-1897-4FBD-8A5D-4D0B0C7C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10058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944880"/>
            <a:ext cx="10058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AA2-3245-4953-8B0C-2352097D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490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0800" y="1676160"/>
            <a:ext cx="490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944880"/>
            <a:ext cx="490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0800" y="3944880"/>
            <a:ext cx="490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9C0-26AB-410E-9BA6-1FAA0B31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23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67600" y="1676160"/>
            <a:ext cx="323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68520" y="1676160"/>
            <a:ext cx="323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944880"/>
            <a:ext cx="323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67600" y="3944880"/>
            <a:ext cx="323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68520" y="3944880"/>
            <a:ext cx="323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931-2023-4680-9AD3-EADEFB4D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93F0-58A4-439C-828A-30D6BDCA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10058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C404-E4C0-4DCD-83C7-7BEF7C1D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10058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C98E-853F-4A9A-9BEE-F6CCF2CE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4908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0800" y="1676160"/>
            <a:ext cx="4908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83EA-38D7-4032-979B-123DB92E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9CC6-7117-4CAA-BA5B-3D292E34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10058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F323-F9CC-407A-B93B-0AC8AC92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490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0800" y="1676160"/>
            <a:ext cx="4908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944880"/>
            <a:ext cx="490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7861-7DA5-44E8-AFC3-D7E89A40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10058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8695-AD77-4A26-9058-1EC15CFD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4908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0800" y="1676160"/>
            <a:ext cx="490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0800" y="3944880"/>
            <a:ext cx="490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07DB-A984-4341-B03F-AFD22989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490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0800" y="1676160"/>
            <a:ext cx="490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944880"/>
            <a:ext cx="10058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FDEF-E517-43ED-88AE-511C0467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10058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944880"/>
            <a:ext cx="10058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25D0-9483-4ED9-872F-EF1030E2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490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0800" y="1676160"/>
            <a:ext cx="490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944880"/>
            <a:ext cx="490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0800" y="3944880"/>
            <a:ext cx="490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2FBA-9DCC-4CA1-9751-537713DB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23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7600" y="1676160"/>
            <a:ext cx="323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868520" y="1676160"/>
            <a:ext cx="323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944880"/>
            <a:ext cx="323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67600" y="3944880"/>
            <a:ext cx="323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868520" y="3944880"/>
            <a:ext cx="323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EF0D-EAD1-4522-AB71-93D5DC90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10058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54D-0AE8-47F7-96D8-16EB1906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4908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0800" y="1676160"/>
            <a:ext cx="4908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15A-DEAD-44D1-B3F1-E9440B32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8A5-0B85-47E7-B70D-F98ED86B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10058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8A3-93BB-4866-9BCA-2157A078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490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0800" y="1676160"/>
            <a:ext cx="4908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944880"/>
            <a:ext cx="490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5295-194A-4D23-9C67-7A474DDD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4908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0800" y="1676160"/>
            <a:ext cx="490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0800" y="3944880"/>
            <a:ext cx="490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60C-CC45-4BD1-8E1F-4E9CDAF7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490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0800" y="1676160"/>
            <a:ext cx="4908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944880"/>
            <a:ext cx="10058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F47-5AC6-4CD9-824B-046E1388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10058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6397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49360" indent="3650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24040" indent="90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098720" indent="-184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098720" indent="-184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098720" indent="-184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4520" y="6392520"/>
            <a:ext cx="129528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920" y="6392520"/>
            <a:ext cx="708336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058040" y="6392520"/>
            <a:ext cx="106668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5AAA-A784-45D3-A195-94A3F331BA20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A3C5-EFFE-4A6A-AFA1-06D5F67DFD3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4F66-FE62-482A-BAD1-60FC5D04B4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38680" y="304560"/>
            <a:ext cx="5486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  <a:ea typeface="Impact"/>
              </a:rPr>
              <a:t>Title Layou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638680" y="28954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8544"/>
                </a:solidFill>
                <a:latin typeface="Franklin Gothic Medium"/>
                <a:ea typeface="Franklin Gothic Medium"/>
              </a:rPr>
              <a:t>Sub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3679560" y="476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篮球运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38680" y="304560"/>
            <a:ext cx="5486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5400" spc="-1" strike="noStrike"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638680" y="28954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e78544"/>
              </a:solidFill>
              <a:latin typeface="Franklin Gothic Medium"/>
              <a:ea typeface="Franklin Gothic Medium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tle and Content Layout with 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66680" y="1676160"/>
            <a:ext cx="10058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first bullet point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second bullet point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third bullet point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38680" y="304560"/>
            <a:ext cx="5486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5400" spc="-1" strike="noStrike"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38680" y="28954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e78544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92" name="文本框 6147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05002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d05002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38680" y="304560"/>
            <a:ext cx="5486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5400" spc="-1" strike="noStrike"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638680" y="28954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e78544"/>
              </a:solidFill>
              <a:latin typeface="Franklin Gothic Medium"/>
              <a:ea typeface="Franklin Gothic Medium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0560" y="1676520"/>
            <a:ext cx="10058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0560" y="358092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文本框 8195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05002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05002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680840"/>
            <a:ext cx="48466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e78544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320" y="2504880"/>
            <a:ext cx="484668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78040" y="1680840"/>
            <a:ext cx="48466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278040" y="2504880"/>
            <a:ext cx="484668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3F63-EE0C-4A44-AF8E-F3187F613605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1T14:3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53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_TemplateID">
    <vt:lpwstr>TC040011739991</vt:lpwstr>
  </property>
</Properties>
</file>