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72343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C61-7944-4F5B-86E2-B99DDDE7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AFF-FB0F-447F-8A88-FE88A38B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F15-9C6A-4BF3-A683-51DA8A85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F44-4994-4B75-956A-87341983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C1BA-6186-478C-9A5D-F10EA68E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40D9-8CE6-47F1-ADBB-5CB650C7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08D3-1B79-427D-AC16-3CEC5ED1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65BB-E47D-4B22-9E8E-3C12EF0F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6E46-A9D7-47FD-8914-27152400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280" y="258480"/>
            <a:ext cx="87505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1284-15A9-4266-9B29-74B1E700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83EF-507B-44F8-B344-DA5EADD3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806-9D91-447C-A3A8-E7763F1E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845E-4FE5-460C-8F5D-B969BF34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EC2A-80BC-45C4-838C-A98F04A3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99A1-E37D-43E1-8497-7759A700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E26E-D577-4A3A-BF24-2DCC4AFA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4376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260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28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4376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260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A80E-C03E-4F6D-96E4-84382DB0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7A6-6177-420F-8371-D4D6103D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5A3-3063-4A01-AA21-765A21E7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938-75DB-44FE-8331-BD021442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480"/>
            <a:ext cx="87505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ADF-97E0-4DAA-ADE2-F0335109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F7F-DB22-48B7-9949-89609D4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3FE-5405-437A-AB02-BF44B454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BBD-AEB8-4844-9A0E-931746DB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0760"/>
            <a:ext cx="2268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5900760"/>
            <a:ext cx="3079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5900760"/>
            <a:ext cx="2268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ACA4-9D9E-459F-BEC6-8B34D53EDD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EC5D-880C-466E-80BD-DC6A8D516FE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1847-9F0F-4C21-9AA6-CCCFCAF20F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36360" y="6192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1909800" y="431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海洋简历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6FBF-EC16-4920-874B-2A837D0444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123"/>
          <p:cNvSpPr/>
          <p:nvPr/>
        </p:nvSpPr>
        <p:spPr>
          <a:xfrm>
            <a:off x="901800" y="2664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0:58:01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4:1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