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AE17-0AA9-441A-AF5B-EED8DD48C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E568-A7DB-44ED-8E26-9578B483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A194-A737-4EC7-8D99-5F5615007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C61C-359E-4781-95AE-8CE015FF0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3347-888E-4BF9-8000-46233B5B6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1ABF-0C7D-4437-B9D7-4DA265A2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5F75-EB2B-4CB1-AF0A-027E781F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FAC9-A356-49BF-92FA-F0C55010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F4D6B-128C-4B16-AA84-02E75B5E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CC224-870C-4E88-A6DE-DBF3E94C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8B33-EDAF-4B96-BB44-085B5C8A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2AE9-AEE1-4F3D-9449-35B90F1E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8918-171C-4DFC-A67E-4026760D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42284-B68A-41A5-B126-1E609131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259D-C688-4E5B-AF38-A26E75DE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85E0-8876-4268-842F-2FAA7AADD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A4E4-DA2A-4F18-ACB6-25A967695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D2D3-5D09-4512-87C4-3C2C5B14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1CBD-9961-47CA-9E57-3661D055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8C69-6DDE-4ADF-8F27-B001DA0B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59AE-3168-4A95-B0BB-6E74E49B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7A22-98A8-4277-9BC0-6549F2A1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FEC7-DFBC-43BF-9D8C-FDCB26F6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D174-BD70-4FFC-A358-B8F28F3B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025" descr="1"/>
          <p:cNvPicPr/>
          <p:nvPr/>
        </p:nvPicPr>
        <p:blipFill>
          <a:blip r:embed="rId2"/>
          <a:stretch/>
        </p:blipFill>
        <p:spPr>
          <a:xfrm>
            <a:off x="0" y="144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E29E-6244-4D4E-B4C9-67600B271E42}" type="slidenum">
              <a:rPr b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BC7D-B647-4647-AA1B-36446A5DCF0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1CB9-B923-4E5B-A084-668A038CC19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48656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张某某求职简历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979640" y="4005360"/>
            <a:ext cx="2984400" cy="177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所学专业：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毕业学校：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求职目标：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文本框 307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3076"/>
          <p:cNvSpPr/>
          <p:nvPr/>
        </p:nvSpPr>
        <p:spPr>
          <a:xfrm>
            <a:off x="2882160" y="76500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蓝色跨栏简历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00000" y="404280"/>
            <a:ext cx="2590920" cy="89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基本信息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626920" y="1844280"/>
            <a:ext cx="4894200" cy="406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姓名：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身高：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户籍：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学历：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现居住地：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毕业学校：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所学专业：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联系方式：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5121"/>
          <p:cNvSpPr/>
          <p:nvPr/>
        </p:nvSpPr>
        <p:spPr>
          <a:xfrm>
            <a:off x="2700360" y="404640"/>
            <a:ext cx="2590920" cy="89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自我评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5122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6145"/>
          <p:cNvSpPr/>
          <p:nvPr/>
        </p:nvSpPr>
        <p:spPr>
          <a:xfrm>
            <a:off x="2700360" y="404640"/>
            <a:ext cx="2590920" cy="89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工作经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7169"/>
          <p:cNvSpPr/>
          <p:nvPr/>
        </p:nvSpPr>
        <p:spPr>
          <a:xfrm>
            <a:off x="2700360" y="404640"/>
            <a:ext cx="2590920" cy="89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教育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8193"/>
          <p:cNvSpPr/>
          <p:nvPr/>
        </p:nvSpPr>
        <p:spPr>
          <a:xfrm>
            <a:off x="2411280" y="520560"/>
            <a:ext cx="3959280" cy="89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专业技能及证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9217"/>
          <p:cNvSpPr/>
          <p:nvPr/>
        </p:nvSpPr>
        <p:spPr>
          <a:xfrm>
            <a:off x="2700360" y="520560"/>
            <a:ext cx="2590920" cy="89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求职意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1A0B-BFE9-4F8D-AE94-0EB1EF39FA3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10241"/>
          <p:cNvSpPr/>
          <p:nvPr/>
        </p:nvSpPr>
        <p:spPr>
          <a:xfrm>
            <a:off x="2987640" y="2924280"/>
            <a:ext cx="2590920" cy="89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致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幻灯片之家：www.eeppt.com</dc:creator>
  <dc:description/>
  <cp:keywords>幻灯片之家：www.eeppt.com</cp:keywords>
  <dc:language>en-US</dc:language>
  <cp:lastModifiedBy>pc</cp:lastModifiedBy>
  <dcterms:modified xsi:type="dcterms:W3CDTF">2016-01-24T03:34:17Z</dcterms:modified>
  <cp:revision>4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