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8AE-74AF-4FF1-ACEE-F965B239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7E8-9B44-4F5C-AE88-7E583A25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029-61C4-4341-BEAC-13AC36E6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FAC-0C66-4B6B-B9AD-A81A58D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65C6-A4AD-4DF0-9A2C-43C5AA20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6D0F-4EC0-4576-8B65-D3D2D9D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EC3D-3368-4BF7-92F5-12238C7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F984-C4E3-45BC-BD5A-0FE5552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2A35-A167-4894-A2B8-31A63E4F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16A3-8621-4004-8404-5DD17958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EB2E-C1D6-403F-9D12-A4A53EA7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347-145B-4011-A82A-3442900C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FE65-1F33-444A-AEE5-BFB99D2E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98BD-0C5C-4D79-853D-BB3F188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A59-E52D-4477-ADE6-D5997C27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5DE8-E124-414E-9C67-11C15EA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D78-97BA-4274-A8C2-D85ED7B3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056-7338-4F12-8C43-2325876F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B3D-F2C4-4A57-86D3-48851566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E42-9606-46DA-90CE-FC05635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459-A09D-4AD0-A6EC-8C2BE009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2E9-45F7-4D50-A724-6492A792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F28-DCD4-49F5-8300-C95CF49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937-D284-4DED-8799-D97E7DF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CA2-EAC5-4040-AA54-1E11B5D9B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E39-64B8-424F-AB6E-0B8281A4D15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DE8A-8653-4915-8173-ED76A4FF11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0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278000" y="622440"/>
            <a:ext cx="65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棉花姑娘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课件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619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棉花"/>
          <p:cNvPicPr/>
          <p:nvPr/>
        </p:nvPicPr>
        <p:blipFill>
          <a:blip r:embed="rId16"/>
          <a:stretch/>
        </p:blipFill>
        <p:spPr>
          <a:xfrm>
            <a:off x="4648320" y="2590920"/>
            <a:ext cx="3886200" cy="36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棉花"/>
          <p:cNvPicPr/>
          <p:nvPr/>
        </p:nvPicPr>
        <p:blipFill>
          <a:blip r:embed="rId17"/>
          <a:stretch/>
        </p:blipFill>
        <p:spPr>
          <a:xfrm>
            <a:off x="457200" y="533520"/>
            <a:ext cx="3962520" cy="4233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029200" y="8380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棉     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6705720" y="5791320"/>
            <a:ext cx="2286000" cy="838080"/>
            <a:chOff x="6705720" y="5791320"/>
            <a:chExt cx="2286000" cy="838080"/>
          </a:xfrm>
        </p:grpSpPr>
        <p:grpSp>
          <p:nvGrpSpPr>
            <p:cNvPr id="91" name="Group 4"/>
            <p:cNvGrpSpPr/>
            <p:nvPr/>
          </p:nvGrpSpPr>
          <p:grpSpPr>
            <a:xfrm>
              <a:off x="6705720" y="5791320"/>
              <a:ext cx="2286000" cy="838080"/>
              <a:chOff x="6705720" y="5791320"/>
              <a:chExt cx="2286000" cy="838080"/>
            </a:xfrm>
          </p:grpSpPr>
          <p:pic>
            <p:nvPicPr>
              <p:cNvPr id="92" name="Picture 5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6781680" y="591192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Rectangle 6"/>
              <p:cNvSpPr/>
              <p:nvPr/>
            </p:nvSpPr>
            <p:spPr>
              <a:xfrm>
                <a:off x="6705720" y="579132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 Box 7"/>
            <p:cNvSpPr/>
            <p:nvPr/>
          </p:nvSpPr>
          <p:spPr>
            <a:xfrm>
              <a:off x="6858000" y="5791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Rectangle 8"/>
          <p:cNvSpPr/>
          <p:nvPr/>
        </p:nvSpPr>
        <p:spPr>
          <a:xfrm>
            <a:off x="5105520" y="533520"/>
            <a:ext cx="99036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086600" y="533520"/>
            <a:ext cx="990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219320" y="358128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200400" y="358128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295280" y="533520"/>
            <a:ext cx="99072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447920" y="487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124080" y="533520"/>
            <a:ext cx="11430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8"/>
          <p:cNvSpPr/>
          <p:nvPr/>
        </p:nvSpPr>
        <p:spPr>
          <a:xfrm>
            <a:off x="502920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9"/>
          <p:cNvSpPr/>
          <p:nvPr/>
        </p:nvSpPr>
        <p:spPr>
          <a:xfrm>
            <a:off x="701028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20"/>
          <p:cNvSpPr/>
          <p:nvPr/>
        </p:nvSpPr>
        <p:spPr>
          <a:xfrm>
            <a:off x="1143000" y="41148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124080" y="414324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7"/>
          <p:cNvSpPr/>
          <p:nvPr/>
        </p:nvSpPr>
        <p:spPr>
          <a:xfrm>
            <a:off x="3124080" y="10954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3124080" y="457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á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5334120" y="4874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16292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1371600" y="3535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3200400" y="3535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h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5105520" y="3581280"/>
            <a:ext cx="1143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25780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5105520" y="41148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219320" y="106668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705720" y="5791320"/>
            <a:ext cx="2286000" cy="838080"/>
            <a:chOff x="6705720" y="5791320"/>
            <a:chExt cx="2286000" cy="838080"/>
          </a:xfrm>
        </p:grpSpPr>
        <p:grpSp>
          <p:nvGrpSpPr>
            <p:cNvPr id="117" name="Group 3"/>
            <p:cNvGrpSpPr/>
            <p:nvPr/>
          </p:nvGrpSpPr>
          <p:grpSpPr>
            <a:xfrm>
              <a:off x="6705720" y="5791320"/>
              <a:ext cx="2286000" cy="838080"/>
              <a:chOff x="6705720" y="5791320"/>
              <a:chExt cx="2286000" cy="838080"/>
            </a:xfrm>
          </p:grpSpPr>
          <p:pic>
            <p:nvPicPr>
              <p:cNvPr id="118" name="Picture 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6781680" y="591192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Rectangle 5"/>
              <p:cNvSpPr/>
              <p:nvPr/>
            </p:nvSpPr>
            <p:spPr>
              <a:xfrm>
                <a:off x="6705720" y="579132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Text Box 6"/>
            <p:cNvSpPr/>
            <p:nvPr/>
          </p:nvSpPr>
          <p:spPr>
            <a:xfrm>
              <a:off x="6858000" y="5791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Oval 14"/>
          <p:cNvSpPr/>
          <p:nvPr/>
        </p:nvSpPr>
        <p:spPr>
          <a:xfrm>
            <a:off x="1981080" y="41911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5867280" y="11430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6"/>
          <p:cNvSpPr/>
          <p:nvPr/>
        </p:nvSpPr>
        <p:spPr>
          <a:xfrm>
            <a:off x="3962520" y="23623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7"/>
          <p:cNvSpPr/>
          <p:nvPr/>
        </p:nvSpPr>
        <p:spPr>
          <a:xfrm>
            <a:off x="6248520" y="34290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8"/>
          <p:cNvSpPr/>
          <p:nvPr/>
        </p:nvSpPr>
        <p:spPr>
          <a:xfrm>
            <a:off x="4495680" y="434340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26"/>
          <p:cNvSpPr/>
          <p:nvPr/>
        </p:nvSpPr>
        <p:spPr>
          <a:xfrm>
            <a:off x="3200400" y="5335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27"/>
          <p:cNvSpPr/>
          <p:nvPr/>
        </p:nvSpPr>
        <p:spPr>
          <a:xfrm>
            <a:off x="1295280" y="2133720"/>
            <a:ext cx="1143000" cy="1266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152280" y="152280"/>
            <a:ext cx="2742480" cy="989640"/>
            <a:chOff x="152280" y="152280"/>
            <a:chExt cx="2742480" cy="989640"/>
          </a:xfrm>
        </p:grpSpPr>
        <p:grpSp>
          <p:nvGrpSpPr>
            <p:cNvPr id="130" name="Group 3"/>
            <p:cNvGrpSpPr/>
            <p:nvPr/>
          </p:nvGrpSpPr>
          <p:grpSpPr>
            <a:xfrm>
              <a:off x="152280" y="152280"/>
              <a:ext cx="2742480" cy="989640"/>
              <a:chOff x="152280" y="152280"/>
              <a:chExt cx="2742480" cy="989640"/>
            </a:xfrm>
          </p:grpSpPr>
          <p:pic>
            <p:nvPicPr>
              <p:cNvPr id="131" name="Picture 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243360" y="294480"/>
                <a:ext cx="265140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Rectangle 5"/>
              <p:cNvSpPr/>
              <p:nvPr/>
            </p:nvSpPr>
            <p:spPr>
              <a:xfrm>
                <a:off x="152280" y="152280"/>
                <a:ext cx="1919880" cy="629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"/>
            <p:cNvSpPr/>
            <p:nvPr/>
          </p:nvSpPr>
          <p:spPr>
            <a:xfrm>
              <a:off x="334800" y="152280"/>
              <a:ext cx="16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积累词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380880" y="1371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姑娘　姑父　姑妈　　姑母　姑姑　尼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80880" y="2133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娘家　奶娘　新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娘　伴娘　娘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80880" y="2940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蚜虫　菜蚜　麦蚜　　棉蚜　烟蚜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80880" y="3701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盼望　盼头　期盼　　左顾右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80880" y="4464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治病　法治　医治　　治理　治国　治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80880" y="5226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啄木鸟    啄食　　　    斑点　斑马　斑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1332000" y="1557000"/>
            <a:ext cx="1715760" cy="1649520"/>
            <a:chOff x="1332000" y="1557000"/>
            <a:chExt cx="1715760" cy="1649520"/>
          </a:xfrm>
        </p:grpSpPr>
        <p:sp>
          <p:nvSpPr>
            <p:cNvPr id="141" name="Rectangle 3"/>
            <p:cNvSpPr/>
            <p:nvPr/>
          </p:nvSpPr>
          <p:spPr>
            <a:xfrm>
              <a:off x="1332000" y="156096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332000" y="2383920"/>
              <a:ext cx="1715760" cy="360"/>
              <a:chOff x="1332000" y="2383920"/>
              <a:chExt cx="1715760" cy="360"/>
            </a:xfrm>
          </p:grpSpPr>
          <p:sp>
            <p:nvSpPr>
              <p:cNvPr id="143" name="Line 4"/>
              <p:cNvSpPr/>
              <p:nvPr/>
            </p:nvSpPr>
            <p:spPr>
              <a:xfrm>
                <a:off x="1332000" y="238392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1332000" y="238392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184120" y="1557000"/>
              <a:ext cx="1800" cy="1645560"/>
              <a:chOff x="2184120" y="1557000"/>
              <a:chExt cx="1800" cy="1645560"/>
            </a:xfrm>
          </p:grpSpPr>
          <p:sp>
            <p:nvSpPr>
              <p:cNvPr id="146" name="Line 5"/>
              <p:cNvSpPr/>
              <p:nvPr/>
            </p:nvSpPr>
            <p:spPr>
              <a:xfrm flipV="1">
                <a:off x="2184120" y="155700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16200000">
                <a:off x="1362240" y="237888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Text Box 6"/>
          <p:cNvSpPr/>
          <p:nvPr/>
        </p:nvSpPr>
        <p:spPr>
          <a:xfrm>
            <a:off x="1729800" y="14479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056840" y="1492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060080" y="4159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346080" y="4159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419160" y="1473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656720" y="40831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0" y="0"/>
            <a:ext cx="2286000" cy="838080"/>
            <a:chOff x="0" y="0"/>
            <a:chExt cx="2286000" cy="838080"/>
          </a:xfrm>
        </p:grpSpPr>
        <p:grpSp>
          <p:nvGrpSpPr>
            <p:cNvPr id="155" name="Group 13"/>
            <p:cNvGrpSpPr/>
            <p:nvPr/>
          </p:nvGrpSpPr>
          <p:grpSpPr>
            <a:xfrm>
              <a:off x="0" y="0"/>
              <a:ext cx="2286000" cy="838080"/>
              <a:chOff x="0" y="0"/>
              <a:chExt cx="2286000" cy="838080"/>
            </a:xfrm>
          </p:grpSpPr>
          <p:pic>
            <p:nvPicPr>
              <p:cNvPr id="156" name="Picture 14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75960" y="120600"/>
                <a:ext cx="221004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Rectangle 15"/>
              <p:cNvSpPr/>
              <p:nvPr/>
            </p:nvSpPr>
            <p:spPr>
              <a:xfrm>
                <a:off x="0" y="0"/>
                <a:ext cx="1600200" cy="53316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6"/>
            <p:cNvSpPr/>
            <p:nvPr/>
          </p:nvSpPr>
          <p:spPr>
            <a:xfrm>
              <a:off x="152280" y="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我会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7"/>
          <p:cNvGrpSpPr/>
          <p:nvPr/>
        </p:nvGrpSpPr>
        <p:grpSpPr>
          <a:xfrm>
            <a:off x="3693960" y="1550520"/>
            <a:ext cx="1715760" cy="1649520"/>
            <a:chOff x="3693960" y="1550520"/>
            <a:chExt cx="1715760" cy="1649520"/>
          </a:xfrm>
        </p:grpSpPr>
        <p:sp>
          <p:nvSpPr>
            <p:cNvPr id="160" name="Rectangle 18"/>
            <p:cNvSpPr/>
            <p:nvPr/>
          </p:nvSpPr>
          <p:spPr>
            <a:xfrm>
              <a:off x="3693960" y="155448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693960" y="2377440"/>
              <a:ext cx="1715760" cy="360"/>
              <a:chOff x="3693960" y="2377440"/>
              <a:chExt cx="1715760" cy="360"/>
            </a:xfrm>
          </p:grpSpPr>
          <p:sp>
            <p:nvSpPr>
              <p:cNvPr id="162" name="Line 19"/>
              <p:cNvSpPr/>
              <p:nvPr/>
            </p:nvSpPr>
            <p:spPr>
              <a:xfrm>
                <a:off x="3693960" y="237744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3693960" y="237744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546080" y="1550520"/>
              <a:ext cx="1800" cy="1645560"/>
              <a:chOff x="4546080" y="1550520"/>
              <a:chExt cx="1800" cy="1645560"/>
            </a:xfrm>
          </p:grpSpPr>
          <p:sp>
            <p:nvSpPr>
              <p:cNvPr id="165" name="Line 20"/>
              <p:cNvSpPr/>
              <p:nvPr/>
            </p:nvSpPr>
            <p:spPr>
              <a:xfrm flipV="1">
                <a:off x="4546080" y="155052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 rot="16200000">
                <a:off x="3724200" y="237240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21"/>
          <p:cNvGrpSpPr/>
          <p:nvPr/>
        </p:nvGrpSpPr>
        <p:grpSpPr>
          <a:xfrm>
            <a:off x="5979960" y="1550520"/>
            <a:ext cx="1715760" cy="1649520"/>
            <a:chOff x="5979960" y="1550520"/>
            <a:chExt cx="1715760" cy="1649520"/>
          </a:xfrm>
        </p:grpSpPr>
        <p:sp>
          <p:nvSpPr>
            <p:cNvPr id="168" name="Rectangle 22"/>
            <p:cNvSpPr/>
            <p:nvPr/>
          </p:nvSpPr>
          <p:spPr>
            <a:xfrm>
              <a:off x="5979960" y="155448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979960" y="2377440"/>
              <a:ext cx="1715760" cy="360"/>
              <a:chOff x="5979960" y="2377440"/>
              <a:chExt cx="1715760" cy="360"/>
            </a:xfrm>
          </p:grpSpPr>
          <p:sp>
            <p:nvSpPr>
              <p:cNvPr id="170" name="Line 23"/>
              <p:cNvSpPr/>
              <p:nvPr/>
            </p:nvSpPr>
            <p:spPr>
              <a:xfrm>
                <a:off x="5979960" y="237744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5979960" y="237744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832080" y="1550520"/>
              <a:ext cx="1800" cy="1645560"/>
              <a:chOff x="6832080" y="1550520"/>
              <a:chExt cx="1800" cy="1645560"/>
            </a:xfrm>
          </p:grpSpPr>
          <p:sp>
            <p:nvSpPr>
              <p:cNvPr id="173" name="Line 24"/>
              <p:cNvSpPr/>
              <p:nvPr/>
            </p:nvSpPr>
            <p:spPr>
              <a:xfrm flipV="1">
                <a:off x="6832080" y="155052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 rot="16200000">
                <a:off x="6010200" y="237240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25"/>
          <p:cNvGrpSpPr/>
          <p:nvPr/>
        </p:nvGrpSpPr>
        <p:grpSpPr>
          <a:xfrm>
            <a:off x="1295280" y="4141440"/>
            <a:ext cx="1715760" cy="1649520"/>
            <a:chOff x="1295280" y="4141440"/>
            <a:chExt cx="1715760" cy="1649520"/>
          </a:xfrm>
        </p:grpSpPr>
        <p:sp>
          <p:nvSpPr>
            <p:cNvPr id="176" name="Rectangle 26"/>
            <p:cNvSpPr/>
            <p:nvPr/>
          </p:nvSpPr>
          <p:spPr>
            <a:xfrm>
              <a:off x="129528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295280" y="4968360"/>
              <a:ext cx="1715760" cy="360"/>
              <a:chOff x="1295280" y="4968360"/>
              <a:chExt cx="1715760" cy="360"/>
            </a:xfrm>
          </p:grpSpPr>
          <p:sp>
            <p:nvSpPr>
              <p:cNvPr id="178" name="Line 27"/>
              <p:cNvSpPr/>
              <p:nvPr/>
            </p:nvSpPr>
            <p:spPr>
              <a:xfrm>
                <a:off x="129528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29528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147400" y="4141440"/>
              <a:ext cx="1800" cy="1645560"/>
              <a:chOff x="2147400" y="4141440"/>
              <a:chExt cx="1800" cy="1645560"/>
            </a:xfrm>
          </p:grpSpPr>
          <p:sp>
            <p:nvSpPr>
              <p:cNvPr id="181" name="Line 28"/>
              <p:cNvSpPr/>
              <p:nvPr/>
            </p:nvSpPr>
            <p:spPr>
              <a:xfrm flipV="1">
                <a:off x="214740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 rot="16200000">
                <a:off x="132552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Group 29"/>
          <p:cNvGrpSpPr/>
          <p:nvPr/>
        </p:nvGrpSpPr>
        <p:grpSpPr>
          <a:xfrm>
            <a:off x="3657600" y="4141440"/>
            <a:ext cx="1715760" cy="1649520"/>
            <a:chOff x="3657600" y="4141440"/>
            <a:chExt cx="1715760" cy="1649520"/>
          </a:xfrm>
        </p:grpSpPr>
        <p:sp>
          <p:nvSpPr>
            <p:cNvPr id="184" name="Rectangle 30"/>
            <p:cNvSpPr/>
            <p:nvPr/>
          </p:nvSpPr>
          <p:spPr>
            <a:xfrm>
              <a:off x="365760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657600" y="4968360"/>
              <a:ext cx="1715760" cy="360"/>
              <a:chOff x="3657600" y="4968360"/>
              <a:chExt cx="1715760" cy="360"/>
            </a:xfrm>
          </p:grpSpPr>
          <p:sp>
            <p:nvSpPr>
              <p:cNvPr id="186" name="Line 31"/>
              <p:cNvSpPr/>
              <p:nvPr/>
            </p:nvSpPr>
            <p:spPr>
              <a:xfrm>
                <a:off x="365760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365760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09720" y="4141440"/>
              <a:ext cx="1800" cy="1645560"/>
              <a:chOff x="4509720" y="4141440"/>
              <a:chExt cx="1800" cy="1645560"/>
            </a:xfrm>
          </p:grpSpPr>
          <p:sp>
            <p:nvSpPr>
              <p:cNvPr id="189" name="Line 32"/>
              <p:cNvSpPr/>
              <p:nvPr/>
            </p:nvSpPr>
            <p:spPr>
              <a:xfrm flipV="1">
                <a:off x="450972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 rot="16200000">
                <a:off x="368784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Group 33"/>
          <p:cNvGrpSpPr/>
          <p:nvPr/>
        </p:nvGrpSpPr>
        <p:grpSpPr>
          <a:xfrm>
            <a:off x="5943600" y="4141440"/>
            <a:ext cx="1715760" cy="1649520"/>
            <a:chOff x="5943600" y="4141440"/>
            <a:chExt cx="1715760" cy="1649520"/>
          </a:xfrm>
        </p:grpSpPr>
        <p:sp>
          <p:nvSpPr>
            <p:cNvPr id="192" name="Rectangle 34"/>
            <p:cNvSpPr/>
            <p:nvPr/>
          </p:nvSpPr>
          <p:spPr>
            <a:xfrm>
              <a:off x="5943600" y="4145400"/>
              <a:ext cx="1715760" cy="16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943600" y="4968360"/>
              <a:ext cx="1715760" cy="360"/>
              <a:chOff x="5943600" y="4968360"/>
              <a:chExt cx="1715760" cy="360"/>
            </a:xfrm>
          </p:grpSpPr>
          <p:sp>
            <p:nvSpPr>
              <p:cNvPr id="194" name="Line 35"/>
              <p:cNvSpPr/>
              <p:nvPr/>
            </p:nvSpPr>
            <p:spPr>
              <a:xfrm>
                <a:off x="5943600" y="4968360"/>
                <a:ext cx="171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5943600" y="4968360"/>
                <a:ext cx="171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795720" y="4141440"/>
              <a:ext cx="1800" cy="1645560"/>
              <a:chOff x="6795720" y="4141440"/>
              <a:chExt cx="1800" cy="1645560"/>
            </a:xfrm>
          </p:grpSpPr>
          <p:sp>
            <p:nvSpPr>
              <p:cNvPr id="197" name="Line 36"/>
              <p:cNvSpPr/>
              <p:nvPr/>
            </p:nvSpPr>
            <p:spPr>
              <a:xfrm flipV="1">
                <a:off x="6795720" y="4141440"/>
                <a:ext cx="1800" cy="164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6200000">
                <a:off x="5973840" y="4963320"/>
                <a:ext cx="16455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Text Box 37"/>
          <p:cNvSpPr/>
          <p:nvPr/>
        </p:nvSpPr>
        <p:spPr>
          <a:xfrm>
            <a:off x="1752480" y="685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962520" y="685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ī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6324480" y="6858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u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1447920" y="32907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ā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3886200" y="32907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ǐ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6400800" y="329076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152280" y="152280"/>
            <a:ext cx="2742480" cy="989640"/>
            <a:chOff x="152280" y="152280"/>
            <a:chExt cx="2742480" cy="989640"/>
          </a:xfrm>
        </p:grpSpPr>
        <p:grpSp>
          <p:nvGrpSpPr>
            <p:cNvPr id="206" name="Group 4"/>
            <p:cNvGrpSpPr/>
            <p:nvPr/>
          </p:nvGrpSpPr>
          <p:grpSpPr>
            <a:xfrm>
              <a:off x="152280" y="152280"/>
              <a:ext cx="2742480" cy="989640"/>
              <a:chOff x="152280" y="152280"/>
              <a:chExt cx="2742480" cy="989640"/>
            </a:xfrm>
          </p:grpSpPr>
          <p:pic>
            <p:nvPicPr>
              <p:cNvPr id="207" name="Picture 5" descr="ham_next"/>
              <p:cNvPicPr/>
              <p:nvPr/>
            </p:nvPicPr>
            <p:blipFill>
              <a:blip r:embed="rId1"/>
              <a:stretch/>
            </p:blipFill>
            <p:spPr>
              <a:xfrm>
                <a:off x="243360" y="294480"/>
                <a:ext cx="265140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Rectangle 6"/>
              <p:cNvSpPr/>
              <p:nvPr/>
            </p:nvSpPr>
            <p:spPr>
              <a:xfrm>
                <a:off x="152280" y="152280"/>
                <a:ext cx="1919880" cy="629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7"/>
            <p:cNvSpPr/>
            <p:nvPr/>
          </p:nvSpPr>
          <p:spPr>
            <a:xfrm>
              <a:off x="334800" y="152280"/>
              <a:ext cx="164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幼圆"/>
                </a:rPr>
                <a:t>积累词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8"/>
          <p:cNvSpPr/>
          <p:nvPr/>
        </p:nvSpPr>
        <p:spPr>
          <a:xfrm>
            <a:off x="380880" y="1371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好　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要　不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380880" y="21337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光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空　明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体　卫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80880" y="2940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白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花　滑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风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cc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人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雪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80880" y="3701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忙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助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手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　黑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80880" y="4464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求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假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客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问　申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请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0880" y="5226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地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近　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业　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　高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E59-E2B8-465C-8918-9C49688008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3" descr="2"/>
          <p:cNvPicPr/>
          <p:nvPr/>
        </p:nvPicPr>
        <p:blipFill>
          <a:blip r:embed="rId1"/>
          <a:srcRect l="0" t="4668" r="0" b="0"/>
          <a:stretch/>
        </p:blipFill>
        <p:spPr>
          <a:xfrm>
            <a:off x="228600" y="228600"/>
            <a:ext cx="8686800" cy="6384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2590920" y="287964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听        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27:1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1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