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FBE-C519-4FA6-9E6E-22FF9B35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65A-676B-4F6F-A598-82FAA8A5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168-4E18-4F3B-8FC2-FBAF7463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D96-99B9-4857-98BB-9B362E46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EF5-C6C9-4B83-8ACE-87D5FAAC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DF0B-BF8D-41D7-9B1C-A61874F2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311-7685-42D6-B378-0DAB3179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6CE-8715-43EF-A387-3BDD5097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6EB-19E0-4C49-8B20-064A0A56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A86-1026-4E51-8092-02CAD826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6F8-8259-4B18-B946-C7C7FEC5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516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53520"/>
            <a:ext cx="264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D67-6F26-439D-B390-9948F3A3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352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5160"/>
            <a:ext cx="40158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53520"/>
            <a:ext cx="82296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9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29600" cy="4514760"/>
          </a:xfrm>
          <a:prstGeom prst="rect">
            <a:avLst/>
          </a:prstGeom>
          <a:solidFill>
            <a:srgbClr val="ffff99">
              <a:alpha val="2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BC8C-0A3E-409C-9CF3-C77E3C71212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F0D2-C342-4111-86BE-4EE20EEC22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9568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美丽女人运动风幻灯片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2568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879A-4E9F-4E06-9F35-81EBF08078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5121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4:06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11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