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61C-12AD-454F-8A58-BC7E06AC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962B-7685-4DD1-AA29-66EE59B1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2C29-D44C-478F-8964-2A46EED4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EE7-8330-477E-852F-5C5AC174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D436-82CC-4944-B435-ACEE12C8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74AC-F35A-4CB1-BDA5-A65A4ACC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2DC7-C958-416D-8F78-845B8B96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316D-38F4-41D6-8458-090F3FA1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B3DF-945D-442F-866F-9A4B7A42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1081-CBD5-4BEF-919C-60E6BFBE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87F1-B3B1-4C05-B0BA-ACDCE90F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706B-6F44-4B88-8BBA-9698754B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D385-5B9C-438B-827D-C01C89EB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502D-2C83-4CDB-B491-2474F327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D3F2-D592-4B53-A1FD-C26CCF9A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FE15-60E6-4BAC-A811-27E384B9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9898-7255-4A34-ABC5-41FF2064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E49-5DD1-438E-AC11-E63B080A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62B-EA04-4949-8513-456290A0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3B7-E7BD-47AA-921F-269DB16F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AFE3-C423-42AE-AC99-6E0A5156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766D-67CC-4471-BADF-4BD900DF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CA4D-9144-492E-B62D-BB08C5DC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5EF-FE3B-4ABA-B28C-5B050D6D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DF0D-13C5-4359-BF9B-07FEBCD62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6C3E-8893-4D5B-9CFC-66959FD12C6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BDAA-8FEC-42D9-9F6F-2ECB40A59E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{76A0ECA4-96C4-4E86-BDFE-C64170771DA5}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6"/>
          <p:cNvSpPr txBox="1"/>
          <p:nvPr/>
        </p:nvSpPr>
        <p:spPr>
          <a:xfrm>
            <a:off x="876240" y="620640"/>
            <a:ext cx="70642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棉鞋里的阳光课件</a:t>
            </a:r>
            <a:r>
              <a:rPr b="1" lang="en-US" sz="66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PPT</a:t>
            </a:r>
            <a:r>
              <a:rPr b="1" lang="zh-CN" sz="66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打包下载</a:t>
            </a:r>
            <a:endParaRPr b="1" lang="en-US" sz="66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4360" y="155736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棉被     照射      晒太阳      盖上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午           收衣服           脱离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躺下      合眼       眼睛        摆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55640" y="12682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ian bei      zhao she    shai tai yang    gai sh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755640" y="2708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zhong wu            shou yi fu                 tuo 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39640" y="3789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ang xia        he yan        yan jing           bai z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MMj02888700000[1]"/>
          <p:cNvPicPr/>
          <p:nvPr/>
        </p:nvPicPr>
        <p:blipFill>
          <a:blip r:embed="rId1"/>
          <a:stretch/>
        </p:blipFill>
        <p:spPr>
          <a:xfrm>
            <a:off x="6732720" y="5084640"/>
            <a:ext cx="2087280" cy="1557360"/>
          </a:xfrm>
          <a:prstGeom prst="rect">
            <a:avLst/>
          </a:prstGeom>
          <a:ln w="0">
            <a:noFill/>
          </a:ln>
        </p:spPr>
      </p:pic>
      <p:sp>
        <p:nvSpPr>
          <p:cNvPr id="91" name="矩形 9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棉被     照射      晒太阳      盖上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中午           收衣服           脱离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躺下      合眼       眼睛        摆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15"/>
          <p:cNvSpPr txBox="1"/>
          <p:nvPr/>
        </p:nvSpPr>
        <p:spPr>
          <a:xfrm>
            <a:off x="900000" y="404640"/>
            <a:ext cx="27720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4" name="Picture 16" descr="MMj03033640000[1]"/>
          <p:cNvPicPr/>
          <p:nvPr/>
        </p:nvPicPr>
        <p:blipFill>
          <a:blip r:embed="rId1"/>
          <a:stretch/>
        </p:blipFill>
        <p:spPr>
          <a:xfrm>
            <a:off x="6516720" y="33336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MMj03363960000[1]"/>
          <p:cNvPicPr/>
          <p:nvPr/>
        </p:nvPicPr>
        <p:blipFill>
          <a:blip r:embed="rId2"/>
          <a:stretch/>
        </p:blipFill>
        <p:spPr>
          <a:xfrm>
            <a:off x="5364000" y="404640"/>
            <a:ext cx="1224000" cy="107172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8200"/>
          <p:cNvSpPr/>
          <p:nvPr/>
        </p:nvSpPr>
        <p:spPr>
          <a:xfrm>
            <a:off x="684360" y="59500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F72D-257C-4FBB-93A5-4F8E85BB2A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{64CBB845-5524-4C3D-B4F6-232D268E9DF6}0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2:46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17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