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9195-9920-47A4-ADE4-1661C3FF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2D1A-8ED2-4C05-A306-ECDC007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0827-9AD9-40FC-BF08-C7259CBC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86D4-AE27-41D4-908B-EBF29E0F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F503-1C46-4026-A81E-6D772982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A566-8E0E-4518-9AC7-1128FC0B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0F01-21DE-4EEC-BD38-4F376A2B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1609-F2F1-43B6-8EAC-888388C0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0A98-5292-45F3-B2B5-6F631DF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F5D5-0528-4F56-9CA0-DBB2DEAC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011A-CA36-4475-8DAD-A6CE09C6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2078-B6B0-4CB6-BA44-2BE775F4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D563-63CA-4917-870B-225DB683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1DEE-FD98-4C28-9093-54517F15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BA38-B35B-4E5C-A598-124506E2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72B3-F967-42A9-8806-F6B93F85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B722-66FE-4254-B69B-57B04AD3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9BBE-01BC-40B0-88B7-7853A5FC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9ADE-CBEF-4222-BCF9-08F05847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BC05-2104-4E42-BF61-FBC90761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28B3-5833-43B3-B932-6A1F3803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5146-857F-4706-9B0A-EB288983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CAFC-B8BE-411B-A8FA-E1D4DED6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AE44-1B82-40A1-96D2-952BEFA0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100" descr=""/>
          <p:cNvPicPr/>
          <p:nvPr/>
        </p:nvPicPr>
        <p:blipFill>
          <a:blip r:embed="rId2"/>
          <a:stretch/>
        </p:blipFill>
        <p:spPr>
          <a:xfrm>
            <a:off x="0" y="656424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" name="矩形 110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3d5124"/>
              </a:gs>
              <a:gs pos="100000">
                <a:srgbClr val="83ae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pic>
        <p:nvPicPr>
          <p:cNvPr id="2" name="对象 1102" descr=""/>
          <p:cNvPicPr/>
          <p:nvPr/>
        </p:nvPicPr>
        <p:blipFill>
          <a:blip r:embed="rId3"/>
          <a:stretch/>
        </p:blipFill>
        <p:spPr>
          <a:xfrm>
            <a:off x="7261200" y="-9360"/>
            <a:ext cx="977760" cy="981000"/>
          </a:xfrm>
          <a:prstGeom prst="rect">
            <a:avLst/>
          </a:prstGeom>
          <a:ln w="0">
            <a:noFill/>
          </a:ln>
        </p:spPr>
      </p:pic>
      <p:pic>
        <p:nvPicPr>
          <p:cNvPr id="3" name="对象 1103" descr=""/>
          <p:cNvPicPr/>
          <p:nvPr/>
        </p:nvPicPr>
        <p:blipFill>
          <a:blip r:embed="rId4"/>
          <a:stretch/>
        </p:blipFill>
        <p:spPr>
          <a:xfrm>
            <a:off x="8244000" y="-9360"/>
            <a:ext cx="900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83ae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66663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666635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172200" y="6521040"/>
            <a:ext cx="2743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428640" y="6521400"/>
            <a:ext cx="21337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ADBA-6619-4844-8FDD-ACE99A3C658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304920" y="6521040"/>
            <a:ext cx="27432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B060-9D43-40A7-99FF-EBC31C1799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DCB3-68BF-42EC-B891-69A0DD386F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148"/>
          <p:cNvSpPr/>
          <p:nvPr/>
        </p:nvSpPr>
        <p:spPr>
          <a:xfrm>
            <a:off x="0" y="3429000"/>
            <a:ext cx="9144000" cy="431640"/>
          </a:xfrm>
          <a:prstGeom prst="rect">
            <a:avLst/>
          </a:prstGeom>
          <a:solidFill>
            <a:srgbClr val="83a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87" name="文本框 3135"/>
          <p:cNvSpPr/>
          <p:nvPr/>
        </p:nvSpPr>
        <p:spPr>
          <a:xfrm>
            <a:off x="75438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83ae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66663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666635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1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13e"/>
                </a:solidFill>
                <a:latin typeface="Verdana"/>
              </a:rPr>
              <a:t>欧美风格商务</a:t>
            </a:r>
            <a:r>
              <a:rPr b="1" lang="en-US" sz="4000" spc="-1" strike="noStrike">
                <a:solidFill>
                  <a:srgbClr val="25413e"/>
                </a:solidFill>
                <a:latin typeface="Verdana"/>
              </a:rPr>
              <a:t>PPT</a:t>
            </a:r>
            <a:r>
              <a:rPr b="1" lang="en-US" sz="4000" spc="-1" strike="noStrike">
                <a:solidFill>
                  <a:srgbClr val="25413e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25413e"/>
                </a:solidFill>
                <a:latin typeface="Verdana"/>
              </a:rPr>
              <a:t>打包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436680"/>
          </a:xfrm>
          <a:prstGeom prst="rect">
            <a:avLst/>
          </a:prstGeom>
          <a:gradFill rotWithShape="0">
            <a:gsLst>
              <a:gs pos="0">
                <a:srgbClr val="3d5124"/>
              </a:gs>
              <a:gs pos="50000">
                <a:srgbClr val="83ae4e"/>
              </a:gs>
              <a:gs pos="100000">
                <a:srgbClr val="3d5124"/>
              </a:gs>
            </a:gsLst>
            <a:lin ang="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29" name="文本框 6155"/>
          <p:cNvSpPr/>
          <p:nvPr/>
        </p:nvSpPr>
        <p:spPr>
          <a:xfrm>
            <a:off x="76320" y="63244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35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666635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右箭头 89090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84"/>
            </a:avLst>
          </a:prstGeom>
          <a:gradFill rotWithShape="0">
            <a:gsLst>
              <a:gs pos="0">
                <a:srgbClr val="ffffff"/>
              </a:gs>
              <a:gs pos="100000">
                <a:srgbClr val="83ae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4" name="圆角矩形 89091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78dd7"/>
              </a:gs>
              <a:gs pos="100000">
                <a:srgbClr val="d8afe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5" name="圆角矩形 89092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6" name="圆角矩形 89093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197bb"/>
              </a:gs>
              <a:gs pos="100000">
                <a:srgbClr val="6fb6d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7" name="圆角矩形 89094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5"/>
                </a:solidFill>
                <a:latin typeface="Arial"/>
                <a:ea typeface="Arial"/>
              </a:rPr>
              <a:t>Add Your </a:t>
            </a:r>
            <a:endParaRPr b="0" lang="en-US" sz="2400" spc="-1" strike="noStrike">
              <a:solidFill>
                <a:srgbClr val="66663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5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8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组合 91169"/>
          <p:cNvGrpSpPr/>
          <p:nvPr/>
        </p:nvGrpSpPr>
        <p:grpSpPr>
          <a:xfrm>
            <a:off x="1447920" y="1542960"/>
            <a:ext cx="7162560" cy="4476960"/>
            <a:chOff x="1447920" y="1542960"/>
            <a:chExt cx="7162560" cy="4476960"/>
          </a:xfrm>
        </p:grpSpPr>
        <p:sp>
          <p:nvSpPr>
            <p:cNvPr id="371" name="任意多边形 91138"/>
            <p:cNvSpPr/>
            <p:nvPr/>
          </p:nvSpPr>
          <p:spPr>
            <a:xfrm>
              <a:off x="144792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197bb"/>
                </a:gs>
                <a:gs pos="100000">
                  <a:srgbClr val="83ae4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72" name="文本框 91139"/>
            <p:cNvSpPr/>
            <p:nvPr/>
          </p:nvSpPr>
          <p:spPr>
            <a:xfrm>
              <a:off x="5943600" y="35812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itle</a:t>
              </a:r>
              <a:endParaRPr b="0" lang="en-US" sz="2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373" name="组合 91168"/>
            <p:cNvGrpSpPr/>
            <p:nvPr/>
          </p:nvGrpSpPr>
          <p:grpSpPr>
            <a:xfrm>
              <a:off x="3476520" y="3753000"/>
              <a:ext cx="1704960" cy="2028600"/>
              <a:chOff x="3476520" y="3753000"/>
              <a:chExt cx="1704960" cy="2028600"/>
            </a:xfrm>
          </p:grpSpPr>
          <p:sp>
            <p:nvSpPr>
              <p:cNvPr id="374" name="椭圆 91140"/>
              <p:cNvSpPr/>
              <p:nvPr/>
            </p:nvSpPr>
            <p:spPr>
              <a:xfrm rot="20876400">
                <a:off x="354492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5" name="椭圆 91141"/>
              <p:cNvSpPr/>
              <p:nvPr/>
            </p:nvSpPr>
            <p:spPr>
              <a:xfrm>
                <a:off x="3476520" y="375300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6" name="椭圆 91142"/>
              <p:cNvSpPr/>
              <p:nvPr/>
            </p:nvSpPr>
            <p:spPr>
              <a:xfrm>
                <a:off x="3497400" y="3762360"/>
                <a:ext cx="166500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7" name="椭圆 91143"/>
              <p:cNvSpPr/>
              <p:nvPr/>
            </p:nvSpPr>
            <p:spPr>
              <a:xfrm>
                <a:off x="3514680" y="377820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8" name="椭圆 91144"/>
              <p:cNvSpPr/>
              <p:nvPr/>
            </p:nvSpPr>
            <p:spPr>
              <a:xfrm>
                <a:off x="3606840" y="3822840"/>
                <a:ext cx="140976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9" name="文本框 91145"/>
              <p:cNvSpPr/>
              <p:nvPr/>
            </p:nvSpPr>
            <p:spPr>
              <a:xfrm>
                <a:off x="389448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380" name="组合 91167"/>
            <p:cNvGrpSpPr/>
            <p:nvPr/>
          </p:nvGrpSpPr>
          <p:grpSpPr>
            <a:xfrm>
              <a:off x="1625760" y="3371760"/>
              <a:ext cx="1371240" cy="1718640"/>
              <a:chOff x="1625760" y="3371760"/>
              <a:chExt cx="1371240" cy="1718640"/>
            </a:xfrm>
          </p:grpSpPr>
          <p:sp>
            <p:nvSpPr>
              <p:cNvPr id="381" name="椭圆 91146"/>
              <p:cNvSpPr/>
              <p:nvPr/>
            </p:nvSpPr>
            <p:spPr>
              <a:xfrm rot="20826600">
                <a:off x="1701720" y="4362120"/>
                <a:ext cx="113364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382" name="组合 91147"/>
              <p:cNvGrpSpPr/>
              <p:nvPr/>
            </p:nvGrpSpPr>
            <p:grpSpPr>
              <a:xfrm>
                <a:off x="1625760" y="3371760"/>
                <a:ext cx="1371240" cy="1441080"/>
                <a:chOff x="1625760" y="3371760"/>
                <a:chExt cx="1371240" cy="1441080"/>
              </a:xfrm>
            </p:grpSpPr>
            <p:sp>
              <p:nvSpPr>
                <p:cNvPr id="383" name="椭圆 91148"/>
                <p:cNvSpPr/>
                <p:nvPr/>
              </p:nvSpPr>
              <p:spPr>
                <a:xfrm>
                  <a:off x="162576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384" name="椭圆 91149"/>
                <p:cNvSpPr/>
                <p:nvPr/>
              </p:nvSpPr>
              <p:spPr>
                <a:xfrm>
                  <a:off x="1643400" y="338004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385" name="椭圆 91150"/>
                <p:cNvSpPr/>
                <p:nvPr/>
              </p:nvSpPr>
              <p:spPr>
                <a:xfrm>
                  <a:off x="1656720" y="339372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386" name="椭圆 91151"/>
                <p:cNvSpPr/>
                <p:nvPr/>
              </p:nvSpPr>
              <p:spPr>
                <a:xfrm>
                  <a:off x="1728360" y="343044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387" name="文本框 91152"/>
                <p:cNvSpPr/>
                <p:nvPr/>
              </p:nvSpPr>
              <p:spPr>
                <a:xfrm>
                  <a:off x="190620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xt</a:t>
                  </a:r>
                  <a:endParaRPr b="0" lang="en-US" sz="24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组合 91166"/>
            <p:cNvGrpSpPr/>
            <p:nvPr/>
          </p:nvGrpSpPr>
          <p:grpSpPr>
            <a:xfrm>
              <a:off x="1523880" y="2000160"/>
              <a:ext cx="1100160" cy="1139760"/>
              <a:chOff x="1523880" y="2000160"/>
              <a:chExt cx="1100160" cy="1139760"/>
            </a:xfrm>
          </p:grpSpPr>
          <p:sp>
            <p:nvSpPr>
              <p:cNvPr id="389" name="椭圆 91153"/>
              <p:cNvSpPr/>
              <p:nvPr/>
            </p:nvSpPr>
            <p:spPr>
              <a:xfrm>
                <a:off x="1523880" y="26067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0" name="椭圆 91154"/>
              <p:cNvSpPr/>
              <p:nvPr/>
            </p:nvSpPr>
            <p:spPr>
              <a:xfrm>
                <a:off x="1600200" y="2000160"/>
                <a:ext cx="102384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1" name="椭圆 91155"/>
              <p:cNvSpPr/>
              <p:nvPr/>
            </p:nvSpPr>
            <p:spPr>
              <a:xfrm>
                <a:off x="1612800" y="2004840"/>
                <a:ext cx="1000080" cy="100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2" name="椭圆 91156"/>
              <p:cNvSpPr/>
              <p:nvPr/>
            </p:nvSpPr>
            <p:spPr>
              <a:xfrm>
                <a:off x="1623960" y="2016000"/>
                <a:ext cx="95112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3" name="椭圆 91157"/>
              <p:cNvSpPr/>
              <p:nvPr/>
            </p:nvSpPr>
            <p:spPr>
              <a:xfrm>
                <a:off x="1677960" y="20415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4" name="文本框 91158"/>
              <p:cNvSpPr/>
              <p:nvPr/>
            </p:nvSpPr>
            <p:spPr>
              <a:xfrm>
                <a:off x="1797120" y="234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395" name="组合 91165"/>
            <p:cNvGrpSpPr/>
            <p:nvPr/>
          </p:nvGrpSpPr>
          <p:grpSpPr>
            <a:xfrm>
              <a:off x="2790720" y="1542960"/>
              <a:ext cx="804960" cy="762120"/>
              <a:chOff x="2790720" y="1542960"/>
              <a:chExt cx="804960" cy="762120"/>
            </a:xfrm>
          </p:grpSpPr>
          <p:sp>
            <p:nvSpPr>
              <p:cNvPr id="396" name="椭圆 91159"/>
              <p:cNvSpPr/>
              <p:nvPr/>
            </p:nvSpPr>
            <p:spPr>
              <a:xfrm>
                <a:off x="2790720" y="20764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7" name="椭圆 91160"/>
              <p:cNvSpPr/>
              <p:nvPr/>
            </p:nvSpPr>
            <p:spPr>
              <a:xfrm>
                <a:off x="2913120" y="15429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8" name="椭圆 91161"/>
              <p:cNvSpPr/>
              <p:nvPr/>
            </p:nvSpPr>
            <p:spPr>
              <a:xfrm>
                <a:off x="2922480" y="15462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9" name="椭圆 91162"/>
              <p:cNvSpPr/>
              <p:nvPr/>
            </p:nvSpPr>
            <p:spPr>
              <a:xfrm>
                <a:off x="2928960" y="1552680"/>
                <a:ext cx="63324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00" name="椭圆 91163"/>
              <p:cNvSpPr/>
              <p:nvPr/>
            </p:nvSpPr>
            <p:spPr>
              <a:xfrm>
                <a:off x="2965320" y="157176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01" name="文本框 91164"/>
              <p:cNvSpPr/>
              <p:nvPr/>
            </p:nvSpPr>
            <p:spPr>
              <a:xfrm>
                <a:off x="2983320" y="1766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403" name="文本框 8200"/>
          <p:cNvSpPr/>
          <p:nvPr/>
        </p:nvSpPr>
        <p:spPr>
          <a:xfrm>
            <a:off x="1600200" y="1143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组合 92162"/>
          <p:cNvGrpSpPr/>
          <p:nvPr/>
        </p:nvGrpSpPr>
        <p:grpSpPr>
          <a:xfrm>
            <a:off x="685800" y="1523880"/>
            <a:ext cx="7772040" cy="4329000"/>
            <a:chOff x="685800" y="1523880"/>
            <a:chExt cx="7772040" cy="4329000"/>
          </a:xfrm>
        </p:grpSpPr>
        <p:sp>
          <p:nvSpPr>
            <p:cNvPr id="406" name="椭圆 92163"/>
            <p:cNvSpPr/>
            <p:nvPr/>
          </p:nvSpPr>
          <p:spPr>
            <a:xfrm>
              <a:off x="2664360" y="2211120"/>
              <a:ext cx="3744720" cy="3641760"/>
            </a:xfrm>
            <a:prstGeom prst="ellipse">
              <a:avLst/>
            </a:prstGeom>
            <a:gradFill rotWithShape="0">
              <a:gsLst>
                <a:gs pos="0">
                  <a:srgbClr val="3197b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197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07" name="组合 92164"/>
            <p:cNvGrpSpPr/>
            <p:nvPr/>
          </p:nvGrpSpPr>
          <p:grpSpPr>
            <a:xfrm>
              <a:off x="3582720" y="3121200"/>
              <a:ext cx="1907640" cy="1961280"/>
              <a:chOff x="3582720" y="3121200"/>
              <a:chExt cx="1907640" cy="1961280"/>
            </a:xfrm>
          </p:grpSpPr>
          <p:sp>
            <p:nvSpPr>
              <p:cNvPr id="408" name="椭圆 92165"/>
              <p:cNvSpPr/>
              <p:nvPr/>
            </p:nvSpPr>
            <p:spPr>
              <a:xfrm>
                <a:off x="3582720" y="3121200"/>
                <a:ext cx="1907640" cy="19612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09" name="任意多边形 92166"/>
              <p:cNvSpPr/>
              <p:nvPr/>
            </p:nvSpPr>
            <p:spPr>
              <a:xfrm>
                <a:off x="3800520" y="3153600"/>
                <a:ext cx="1471680" cy="740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10" name="文本框 92167"/>
            <p:cNvSpPr/>
            <p:nvPr/>
          </p:nvSpPr>
          <p:spPr>
            <a:xfrm>
              <a:off x="3875400" y="38919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11" name="组合 92168"/>
            <p:cNvGrpSpPr/>
            <p:nvPr/>
          </p:nvGrpSpPr>
          <p:grpSpPr>
            <a:xfrm>
              <a:off x="4147920" y="1860480"/>
              <a:ext cx="635760" cy="605520"/>
              <a:chOff x="4147920" y="1860480"/>
              <a:chExt cx="635760" cy="605520"/>
            </a:xfrm>
          </p:grpSpPr>
          <p:grpSp>
            <p:nvGrpSpPr>
              <p:cNvPr id="412" name="组合 92169"/>
              <p:cNvGrpSpPr/>
              <p:nvPr/>
            </p:nvGrpSpPr>
            <p:grpSpPr>
              <a:xfrm>
                <a:off x="4147920" y="1860480"/>
                <a:ext cx="635760" cy="605520"/>
                <a:chOff x="4147920" y="1860480"/>
                <a:chExt cx="635760" cy="605520"/>
              </a:xfrm>
            </p:grpSpPr>
            <p:sp>
              <p:nvSpPr>
                <p:cNvPr id="413" name="椭圆 92170"/>
                <p:cNvSpPr/>
                <p:nvPr/>
              </p:nvSpPr>
              <p:spPr>
                <a:xfrm>
                  <a:off x="4147920" y="1860480"/>
                  <a:ext cx="635760" cy="60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78dd7"/>
                    </a:gs>
                    <a:gs pos="100000">
                      <a:srgbClr val="54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92171"/>
                <p:cNvSpPr/>
                <p:nvPr/>
              </p:nvSpPr>
              <p:spPr>
                <a:xfrm>
                  <a:off x="4220640" y="1870200"/>
                  <a:ext cx="490320" cy="228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78d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92172"/>
              <p:cNvSpPr/>
              <p:nvPr/>
            </p:nvSpPr>
            <p:spPr>
              <a:xfrm>
                <a:off x="4286520" y="19537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16" name="组合 92173"/>
            <p:cNvGrpSpPr/>
            <p:nvPr/>
          </p:nvGrpSpPr>
          <p:grpSpPr>
            <a:xfrm>
              <a:off x="3530880" y="4880880"/>
              <a:ext cx="340200" cy="307080"/>
              <a:chOff x="3530880" y="4880880"/>
              <a:chExt cx="340200" cy="307080"/>
            </a:xfrm>
          </p:grpSpPr>
          <p:sp>
            <p:nvSpPr>
              <p:cNvPr id="417" name="椭圆 92174"/>
              <p:cNvSpPr/>
              <p:nvPr/>
            </p:nvSpPr>
            <p:spPr>
              <a:xfrm rot="18226800">
                <a:off x="3557160" y="5038560"/>
                <a:ext cx="119880" cy="127800"/>
              </a:xfrm>
              <a:prstGeom prst="ellipse">
                <a:avLst/>
              </a:prstGeom>
              <a:gradFill rotWithShape="0">
                <a:gsLst>
                  <a:gs pos="0">
                    <a:srgbClr val="878fa5"/>
                  </a:gs>
                  <a:gs pos="100000">
                    <a:srgbClr val="5a5f6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18" name="椭圆 92175"/>
              <p:cNvSpPr/>
              <p:nvPr/>
            </p:nvSpPr>
            <p:spPr>
              <a:xfrm rot="18226800">
                <a:off x="3724560" y="490212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878fa5"/>
                  </a:gs>
                  <a:gs pos="100000">
                    <a:srgbClr val="5a5f6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92176"/>
            <p:cNvGrpSpPr/>
            <p:nvPr/>
          </p:nvGrpSpPr>
          <p:grpSpPr>
            <a:xfrm>
              <a:off x="2946600" y="5148360"/>
              <a:ext cx="635760" cy="630360"/>
              <a:chOff x="2946600" y="5148360"/>
              <a:chExt cx="635760" cy="630360"/>
            </a:xfrm>
          </p:grpSpPr>
          <p:grpSp>
            <p:nvGrpSpPr>
              <p:cNvPr id="420" name="组合 92177"/>
              <p:cNvGrpSpPr/>
              <p:nvPr/>
            </p:nvGrpSpPr>
            <p:grpSpPr>
              <a:xfrm>
                <a:off x="2946600" y="5148360"/>
                <a:ext cx="635760" cy="630360"/>
                <a:chOff x="2946600" y="5148360"/>
                <a:chExt cx="635760" cy="630360"/>
              </a:xfrm>
            </p:grpSpPr>
            <p:sp>
              <p:nvSpPr>
                <p:cNvPr id="421" name="椭圆 92178"/>
                <p:cNvSpPr/>
                <p:nvPr/>
              </p:nvSpPr>
              <p:spPr>
                <a:xfrm>
                  <a:off x="2946600" y="5148360"/>
                  <a:ext cx="63576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123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22" name="任意多边形 92179"/>
                <p:cNvSpPr/>
                <p:nvPr/>
              </p:nvSpPr>
              <p:spPr>
                <a:xfrm>
                  <a:off x="3019320" y="5158800"/>
                  <a:ext cx="49032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文本框 92180"/>
              <p:cNvSpPr/>
              <p:nvPr/>
            </p:nvSpPr>
            <p:spPr>
              <a:xfrm>
                <a:off x="3080880" y="52668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E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24" name="组合 92181"/>
            <p:cNvGrpSpPr/>
            <p:nvPr/>
          </p:nvGrpSpPr>
          <p:grpSpPr>
            <a:xfrm>
              <a:off x="6058440" y="3121200"/>
              <a:ext cx="633240" cy="637560"/>
              <a:chOff x="6058440" y="3121200"/>
              <a:chExt cx="633240" cy="637560"/>
            </a:xfrm>
          </p:grpSpPr>
          <p:grpSp>
            <p:nvGrpSpPr>
              <p:cNvPr id="425" name="组合 92182"/>
              <p:cNvGrpSpPr/>
              <p:nvPr/>
            </p:nvGrpSpPr>
            <p:grpSpPr>
              <a:xfrm>
                <a:off x="6058440" y="3121200"/>
                <a:ext cx="633240" cy="637560"/>
                <a:chOff x="6058440" y="3121200"/>
                <a:chExt cx="633240" cy="637560"/>
              </a:xfrm>
            </p:grpSpPr>
            <p:sp>
              <p:nvSpPr>
                <p:cNvPr id="426" name="椭圆 92183"/>
                <p:cNvSpPr/>
                <p:nvPr/>
              </p:nvSpPr>
              <p:spPr>
                <a:xfrm>
                  <a:off x="6058440" y="3121200"/>
                  <a:ext cx="633240" cy="63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97bb"/>
                    </a:gs>
                    <a:gs pos="100000">
                      <a:srgbClr val="1f5e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27" name="任意多边形 92184"/>
                <p:cNvSpPr/>
                <p:nvPr/>
              </p:nvSpPr>
              <p:spPr>
                <a:xfrm>
                  <a:off x="6130800" y="3131640"/>
                  <a:ext cx="488520" cy="24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197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文本框 92185"/>
              <p:cNvSpPr/>
              <p:nvPr/>
            </p:nvSpPr>
            <p:spPr>
              <a:xfrm>
                <a:off x="6180120" y="32086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29" name="组合 92186"/>
            <p:cNvGrpSpPr/>
            <p:nvPr/>
          </p:nvGrpSpPr>
          <p:grpSpPr>
            <a:xfrm>
              <a:off x="5490360" y="5153040"/>
              <a:ext cx="606240" cy="571680"/>
              <a:chOff x="5490360" y="5153040"/>
              <a:chExt cx="606240" cy="571680"/>
            </a:xfrm>
          </p:grpSpPr>
          <p:grpSp>
            <p:nvGrpSpPr>
              <p:cNvPr id="430" name="组合 92187"/>
              <p:cNvGrpSpPr/>
              <p:nvPr/>
            </p:nvGrpSpPr>
            <p:grpSpPr>
              <a:xfrm>
                <a:off x="5490360" y="5153040"/>
                <a:ext cx="606240" cy="571680"/>
                <a:chOff x="5490360" y="5153040"/>
                <a:chExt cx="606240" cy="571680"/>
              </a:xfrm>
            </p:grpSpPr>
            <p:sp>
              <p:nvSpPr>
                <p:cNvPr id="431" name="椭圆 92188"/>
                <p:cNvSpPr/>
                <p:nvPr/>
              </p:nvSpPr>
              <p:spPr>
                <a:xfrm>
                  <a:off x="5490360" y="5153040"/>
                  <a:ext cx="606240" cy="5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32" name="任意多边形 92189"/>
                <p:cNvSpPr/>
                <p:nvPr/>
              </p:nvSpPr>
              <p:spPr>
                <a:xfrm>
                  <a:off x="5559480" y="5162400"/>
                  <a:ext cx="467640" cy="215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文本框 92190"/>
              <p:cNvSpPr/>
              <p:nvPr/>
            </p:nvSpPr>
            <p:spPr>
              <a:xfrm>
                <a:off x="5621040" y="51836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34" name="组合 92191"/>
            <p:cNvGrpSpPr/>
            <p:nvPr/>
          </p:nvGrpSpPr>
          <p:grpSpPr>
            <a:xfrm>
              <a:off x="2452320" y="3121200"/>
              <a:ext cx="635760" cy="630360"/>
              <a:chOff x="2452320" y="3121200"/>
              <a:chExt cx="635760" cy="630360"/>
            </a:xfrm>
          </p:grpSpPr>
          <p:grpSp>
            <p:nvGrpSpPr>
              <p:cNvPr id="435" name="组合 92192"/>
              <p:cNvGrpSpPr/>
              <p:nvPr/>
            </p:nvGrpSpPr>
            <p:grpSpPr>
              <a:xfrm>
                <a:off x="2452320" y="3121200"/>
                <a:ext cx="635760" cy="630360"/>
                <a:chOff x="2452320" y="3121200"/>
                <a:chExt cx="635760" cy="630360"/>
              </a:xfrm>
            </p:grpSpPr>
            <p:sp>
              <p:nvSpPr>
                <p:cNvPr id="436" name="椭圆 92193"/>
                <p:cNvSpPr/>
                <p:nvPr/>
              </p:nvSpPr>
              <p:spPr>
                <a:xfrm>
                  <a:off x="2452320" y="3121200"/>
                  <a:ext cx="63576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e4e"/>
                    </a:gs>
                    <a:gs pos="100000">
                      <a:srgbClr val="3c4f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37" name="任意多边形 92194"/>
                <p:cNvSpPr/>
                <p:nvPr/>
              </p:nvSpPr>
              <p:spPr>
                <a:xfrm>
                  <a:off x="2525040" y="3131640"/>
                  <a:ext cx="49032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3ae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文本框 92195"/>
              <p:cNvSpPr/>
              <p:nvPr/>
            </p:nvSpPr>
            <p:spPr>
              <a:xfrm>
                <a:off x="2587320" y="3191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39" name="椭圆 92196"/>
            <p:cNvSpPr/>
            <p:nvPr/>
          </p:nvSpPr>
          <p:spPr>
            <a:xfrm rot="18226800">
              <a:off x="5421240" y="5005080"/>
              <a:ext cx="119160" cy="127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40" name="椭圆 92197"/>
            <p:cNvSpPr/>
            <p:nvPr/>
          </p:nvSpPr>
          <p:spPr>
            <a:xfrm rot="18226800">
              <a:off x="5279760" y="4865760"/>
              <a:ext cx="119520" cy="127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41" name="组合 92198"/>
            <p:cNvGrpSpPr/>
            <p:nvPr/>
          </p:nvGrpSpPr>
          <p:grpSpPr>
            <a:xfrm>
              <a:off x="3136320" y="3516480"/>
              <a:ext cx="384480" cy="240480"/>
              <a:chOff x="3136320" y="3516480"/>
              <a:chExt cx="384480" cy="240480"/>
            </a:xfrm>
          </p:grpSpPr>
          <p:sp>
            <p:nvSpPr>
              <p:cNvPr id="442" name="椭圆 92199"/>
              <p:cNvSpPr/>
              <p:nvPr/>
            </p:nvSpPr>
            <p:spPr>
              <a:xfrm rot="18226800">
                <a:off x="3162600" y="353772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83ae4e"/>
                  </a:gs>
                  <a:gs pos="100000">
                    <a:srgbClr val="4c642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43" name="椭圆 92200"/>
              <p:cNvSpPr/>
              <p:nvPr/>
            </p:nvSpPr>
            <p:spPr>
              <a:xfrm rot="18226800">
                <a:off x="3374280" y="360792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83ae4e"/>
                  </a:gs>
                  <a:gs pos="100000">
                    <a:srgbClr val="40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44" name="组合 92201"/>
            <p:cNvGrpSpPr/>
            <p:nvPr/>
          </p:nvGrpSpPr>
          <p:grpSpPr>
            <a:xfrm>
              <a:off x="4408200" y="2576160"/>
              <a:ext cx="172800" cy="430560"/>
              <a:chOff x="4408200" y="2576160"/>
              <a:chExt cx="172800" cy="430560"/>
            </a:xfrm>
          </p:grpSpPr>
          <p:sp>
            <p:nvSpPr>
              <p:cNvPr id="445" name="椭圆 92202"/>
              <p:cNvSpPr/>
              <p:nvPr/>
            </p:nvSpPr>
            <p:spPr>
              <a:xfrm rot="18226800">
                <a:off x="4434840" y="2597040"/>
                <a:ext cx="119520" cy="128160"/>
              </a:xfrm>
              <a:prstGeom prst="ellipse">
                <a:avLst/>
              </a:prstGeom>
              <a:gradFill rotWithShape="0">
                <a:gsLst>
                  <a:gs pos="0">
                    <a:srgbClr val="c78dd7"/>
                  </a:gs>
                  <a:gs pos="100000">
                    <a:srgbClr val="5b406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46" name="椭圆 92203"/>
              <p:cNvSpPr/>
              <p:nvPr/>
            </p:nvSpPr>
            <p:spPr>
              <a:xfrm rot="18226800">
                <a:off x="4434840" y="2856960"/>
                <a:ext cx="119520" cy="128160"/>
              </a:xfrm>
              <a:prstGeom prst="ellipse">
                <a:avLst/>
              </a:prstGeom>
              <a:gradFill rotWithShape="0">
                <a:gsLst>
                  <a:gs pos="0">
                    <a:srgbClr val="c78dd7"/>
                  </a:gs>
                  <a:gs pos="100000">
                    <a:srgbClr val="6145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47" name="椭圆 92204"/>
            <p:cNvSpPr/>
            <p:nvPr/>
          </p:nvSpPr>
          <p:spPr>
            <a:xfrm rot="18226800">
              <a:off x="5792040" y="3560040"/>
              <a:ext cx="119160" cy="128160"/>
            </a:xfrm>
            <a:prstGeom prst="ellipse">
              <a:avLst/>
            </a:prstGeom>
            <a:gradFill rotWithShape="0">
              <a:gsLst>
                <a:gs pos="0">
                  <a:srgbClr val="63b0cc"/>
                </a:gs>
                <a:gs pos="100000">
                  <a:srgbClr val="3197b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48" name="椭圆 92205"/>
            <p:cNvSpPr/>
            <p:nvPr/>
          </p:nvSpPr>
          <p:spPr>
            <a:xfrm rot="18226800">
              <a:off x="5562360" y="3673800"/>
              <a:ext cx="119160" cy="128160"/>
            </a:xfrm>
            <a:prstGeom prst="ellipse">
              <a:avLst/>
            </a:prstGeom>
            <a:gradFill rotWithShape="0">
              <a:gsLst>
                <a:gs pos="0">
                  <a:srgbClr val="63b0cc"/>
                </a:gs>
                <a:gs pos="100000">
                  <a:srgbClr val="3197b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49" name="文本框 92206"/>
            <p:cNvSpPr/>
            <p:nvPr/>
          </p:nvSpPr>
          <p:spPr>
            <a:xfrm>
              <a:off x="685800" y="326160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0" name="文本框 92207"/>
            <p:cNvSpPr/>
            <p:nvPr/>
          </p:nvSpPr>
          <p:spPr>
            <a:xfrm>
              <a:off x="358272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1" name="文本框 92208"/>
            <p:cNvSpPr/>
            <p:nvPr/>
          </p:nvSpPr>
          <p:spPr>
            <a:xfrm>
              <a:off x="6691680" y="327456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2" name="文本框 92209"/>
            <p:cNvSpPr/>
            <p:nvPr/>
          </p:nvSpPr>
          <p:spPr>
            <a:xfrm>
              <a:off x="1038960" y="53629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3" name="文本框 92210"/>
            <p:cNvSpPr/>
            <p:nvPr/>
          </p:nvSpPr>
          <p:spPr>
            <a:xfrm>
              <a:off x="6126120" y="53629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454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组合 93230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57" name="圆角矩形 93231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8" name="圆角矩形 93232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9" name="圆角矩形 93233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60" name="圆角矩形 93234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61" name="圆角矩形 93235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62" name="圆角矩形 93236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63" name="组合 93237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64" name="椭圆 93238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65" name="椭圆 93239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66" name="椭圆 93240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67" name="椭圆 93241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68" name="椭圆 93242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69" name="文本框 93243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0" name="文本框 93244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471" name="组合 93245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72" name="圆角矩形 93246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3" name="圆角矩形 93247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4" name="圆角矩形 93248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5" name="圆角矩形 93249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6" name="椭圆 93250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7" name="椭圆 93251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8" name="椭圆 93252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9" name="椭圆 93253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0" name="椭圆 93254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1" name="文本框 93255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2" name="文本框 93256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3" name="圆角矩形 93257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4" name="圆角矩形 93258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485" name="组合 93259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86" name="圆角矩形 93260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7" name="圆角矩形 93261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8" name="圆角矩形 93262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9" name="圆角矩形 93263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90" name="组合 93264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91" name="椭圆 93265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92" name="椭圆 93266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93" name="椭圆 93267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94" name="椭圆 93268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95" name="椭圆 93269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96" name="文本框 93270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97" name="文本框 93271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98" name="圆角矩形 93272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99" name="圆角矩形 93273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500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组合 94304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503" name="组合 94210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504" name="矩形 94211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05" name="矩形 94212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06" name="组合 94300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507" name="组合 94266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508" name="组合 94267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509" name="任意多边形 94268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任意多边形 94269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组合 94270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512" name="任意多边形 94271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任意多边形 94272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4" name="组合 94273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515" name="椭圆 94274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94275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94276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94277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94278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组合 94279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521" name="椭圆 94280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94281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94282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椭圆 94283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5" name="文本框 94284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26" name="文本框 94285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35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27" name="组合 94301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28" name="组合 94248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29" name="组合 94249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30" name="任意多边形 94250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任意多边形 94251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组合 94252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33" name="任意多边形 94253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任意多边形 94254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组合 94255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36" name="椭圆 94256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94257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94258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94259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94260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组合 94261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42" name="椭圆 94262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椭圆 94263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94264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椭圆 94265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文本框 94286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47" name="文本框 94287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35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94302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49" name="组合 94213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50" name="组合 94214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51" name="任意多边形 94215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94216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组合 94217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54" name="任意多边形 94218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94219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6" name="组合 94220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57" name="椭圆 94221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58" name="椭圆 94222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59" name="椭圆 94223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60" name="椭圆 94224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61" name="椭圆 94225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grpSp>
              <p:nvGrpSpPr>
                <p:cNvPr id="562" name="组合 94226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63" name="椭圆 94227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椭圆 94228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椭圆 94229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椭圆 94230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7" name="文本框 94288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68" name="文本框 94289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35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69" name="组合 94303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70" name="组合 94231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71" name="组合 94232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72" name="任意多边形 94233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任意多边形 94234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组合 94235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75" name="任意多边形 94236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任意多边形 94237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7" name="椭圆 94238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78" name="椭圆 94239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79" name="椭圆 94240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80" name="椭圆 94241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81" name="椭圆 94242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582" name="组合 94243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83" name="椭圆 94244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84" name="椭圆 94245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85" name="椭圆 94246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86" name="椭圆 94247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文本框 94290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88" name="文本框 94291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35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89" name="组合 94292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90" name="文本框 94293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5413e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91" name="文本框 94294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5413e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92" name="文本框 94295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5413e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93" name="文本框 94296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5413e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cxnSp>
            <p:nvCxnSpPr>
              <p:cNvPr id="594" name="直接箭头连接符 94297"/>
              <p:cNvCxnSpPr>
                <a:stCxn id="590" idx="3"/>
                <a:endCxn id="591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25413e"/>
                </a:solidFill>
                <a:round/>
                <a:tailEnd len="med" type="triangle" w="med"/>
              </a:ln>
            </p:spPr>
          </p:cxnSp>
          <p:cxnSp>
            <p:nvCxnSpPr>
              <p:cNvPr id="595" name="直接箭头连接符 94298"/>
              <p:cNvCxnSpPr>
                <a:stCxn id="591" idx="3"/>
                <a:endCxn id="592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25413e"/>
                </a:solidFill>
                <a:round/>
                <a:tailEnd len="med" type="triangle" w="med"/>
              </a:ln>
            </p:spPr>
          </p:cxnSp>
          <p:cxnSp>
            <p:nvCxnSpPr>
              <p:cNvPr id="596" name="直接箭头连接符 94299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25413e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97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95260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600" name="组合 95261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601" name="六边形 95262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02" name="六边形 95263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03" name="六边形 95264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95265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605" name="六边形 95266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06" name="六边形 95267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07" name="六边形 95268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608" name="文本框 95269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09" name="文本框 95270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610" name="组合 95271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11" name="六边形 95272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12" name="六边形 95273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13" name="六边形 95274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614" name="文本框 95275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615" name="组合 95276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16" name="六边形 95277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17" name="六边形 95278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18" name="六边形 95279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619" name="文本框 95280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620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组合 96290"/>
          <p:cNvGrpSpPr/>
          <p:nvPr/>
        </p:nvGrpSpPr>
        <p:grpSpPr>
          <a:xfrm>
            <a:off x="152280" y="1752480"/>
            <a:ext cx="8686800" cy="4241880"/>
            <a:chOff x="152280" y="1752480"/>
            <a:chExt cx="8686800" cy="4241880"/>
          </a:xfrm>
        </p:grpSpPr>
        <p:grpSp>
          <p:nvGrpSpPr>
            <p:cNvPr id="623" name="组合 96258"/>
            <p:cNvGrpSpPr/>
            <p:nvPr/>
          </p:nvGrpSpPr>
          <p:grpSpPr>
            <a:xfrm>
              <a:off x="152280" y="4975200"/>
              <a:ext cx="6781680" cy="1019160"/>
              <a:chOff x="152280" y="4975200"/>
              <a:chExt cx="6781680" cy="1019160"/>
            </a:xfrm>
          </p:grpSpPr>
          <p:sp>
            <p:nvSpPr>
              <p:cNvPr id="624" name="矩形 96259"/>
              <p:cNvSpPr/>
              <p:nvPr/>
            </p:nvSpPr>
            <p:spPr>
              <a:xfrm>
                <a:off x="152280" y="5237280"/>
                <a:ext cx="6392880" cy="719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78fa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625" name="组合 96260"/>
              <p:cNvGrpSpPr/>
              <p:nvPr/>
            </p:nvGrpSpPr>
            <p:grpSpPr>
              <a:xfrm>
                <a:off x="5829840" y="4975200"/>
                <a:ext cx="1104120" cy="1019160"/>
                <a:chOff x="5829840" y="4975200"/>
                <a:chExt cx="1104120" cy="1019160"/>
              </a:xfrm>
            </p:grpSpPr>
            <p:sp>
              <p:nvSpPr>
                <p:cNvPr id="626" name="椭圆 96261"/>
                <p:cNvSpPr/>
                <p:nvPr/>
              </p:nvSpPr>
              <p:spPr>
                <a:xfrm>
                  <a:off x="5829840" y="4975200"/>
                  <a:ext cx="1104120" cy="101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123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627" name="任意多边形 96262"/>
                <p:cNvSpPr/>
                <p:nvPr/>
              </p:nvSpPr>
              <p:spPr>
                <a:xfrm>
                  <a:off x="5955840" y="4992120"/>
                  <a:ext cx="851760" cy="384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文本框 96263"/>
              <p:cNvSpPr/>
              <p:nvPr/>
            </p:nvSpPr>
            <p:spPr>
              <a:xfrm>
                <a:off x="6280560" y="50414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629" name="组合 96264"/>
            <p:cNvGrpSpPr/>
            <p:nvPr/>
          </p:nvGrpSpPr>
          <p:grpSpPr>
            <a:xfrm>
              <a:off x="152280" y="2879640"/>
              <a:ext cx="5403240" cy="1006200"/>
              <a:chOff x="152280" y="2879640"/>
              <a:chExt cx="5403240" cy="1006200"/>
            </a:xfrm>
          </p:grpSpPr>
          <p:sp>
            <p:nvSpPr>
              <p:cNvPr id="630" name="矩形 96265"/>
              <p:cNvSpPr/>
              <p:nvPr/>
            </p:nvSpPr>
            <p:spPr>
              <a:xfrm>
                <a:off x="152280" y="3131640"/>
                <a:ext cx="4665960" cy="719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3ae4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631" name="组合 96266"/>
              <p:cNvGrpSpPr/>
              <p:nvPr/>
            </p:nvGrpSpPr>
            <p:grpSpPr>
              <a:xfrm>
                <a:off x="4467960" y="2879640"/>
                <a:ext cx="1087560" cy="1006200"/>
                <a:chOff x="4467960" y="2879640"/>
                <a:chExt cx="1087560" cy="1006200"/>
              </a:xfrm>
            </p:grpSpPr>
            <p:grpSp>
              <p:nvGrpSpPr>
                <p:cNvPr id="632" name="组合 96267"/>
                <p:cNvGrpSpPr/>
                <p:nvPr/>
              </p:nvGrpSpPr>
              <p:grpSpPr>
                <a:xfrm>
                  <a:off x="4467960" y="2879640"/>
                  <a:ext cx="1087560" cy="1006200"/>
                  <a:chOff x="4467960" y="2879640"/>
                  <a:chExt cx="1087560" cy="1006200"/>
                </a:xfrm>
              </p:grpSpPr>
              <p:sp>
                <p:nvSpPr>
                  <p:cNvPr id="633" name="椭圆 96268"/>
                  <p:cNvSpPr/>
                  <p:nvPr/>
                </p:nvSpPr>
                <p:spPr>
                  <a:xfrm>
                    <a:off x="4467960" y="2879640"/>
                    <a:ext cx="1087560" cy="100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3ae4e"/>
                      </a:gs>
                      <a:gs pos="100000">
                        <a:srgbClr val="2835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任意多边形 96269"/>
                  <p:cNvSpPr/>
                  <p:nvPr/>
                </p:nvSpPr>
                <p:spPr>
                  <a:xfrm>
                    <a:off x="4592160" y="2896200"/>
                    <a:ext cx="839160" cy="37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3ae4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5" name="文本框 96270"/>
                <p:cNvSpPr/>
                <p:nvPr/>
              </p:nvSpPr>
              <p:spPr>
                <a:xfrm>
                  <a:off x="4810320" y="301788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B</a:t>
                  </a:r>
                  <a:endParaRPr b="0" lang="en-US" sz="24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组合 96271"/>
            <p:cNvGrpSpPr/>
            <p:nvPr/>
          </p:nvGrpSpPr>
          <p:grpSpPr>
            <a:xfrm>
              <a:off x="152280" y="3886200"/>
              <a:ext cx="6119280" cy="1012320"/>
              <a:chOff x="152280" y="3886200"/>
              <a:chExt cx="6119280" cy="1012320"/>
            </a:xfrm>
          </p:grpSpPr>
          <p:sp>
            <p:nvSpPr>
              <p:cNvPr id="637" name="矩形 96272"/>
              <p:cNvSpPr/>
              <p:nvPr/>
            </p:nvSpPr>
            <p:spPr>
              <a:xfrm>
                <a:off x="152280" y="4167000"/>
                <a:ext cx="5686560" cy="720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97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638" name="组合 96273"/>
              <p:cNvGrpSpPr/>
              <p:nvPr/>
            </p:nvGrpSpPr>
            <p:grpSpPr>
              <a:xfrm>
                <a:off x="5173560" y="3886200"/>
                <a:ext cx="1098000" cy="1012320"/>
                <a:chOff x="5173560" y="3886200"/>
                <a:chExt cx="1098000" cy="1012320"/>
              </a:xfrm>
            </p:grpSpPr>
            <p:grpSp>
              <p:nvGrpSpPr>
                <p:cNvPr id="639" name="组合 96274"/>
                <p:cNvGrpSpPr/>
                <p:nvPr/>
              </p:nvGrpSpPr>
              <p:grpSpPr>
                <a:xfrm>
                  <a:off x="5173560" y="3886200"/>
                  <a:ext cx="1098000" cy="1012320"/>
                  <a:chOff x="5173560" y="3886200"/>
                  <a:chExt cx="1098000" cy="1012320"/>
                </a:xfrm>
              </p:grpSpPr>
              <p:sp>
                <p:nvSpPr>
                  <p:cNvPr id="640" name="椭圆 96275"/>
                  <p:cNvSpPr/>
                  <p:nvPr/>
                </p:nvSpPr>
                <p:spPr>
                  <a:xfrm>
                    <a:off x="5173560" y="3886200"/>
                    <a:ext cx="1098000" cy="1012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197bb"/>
                      </a:gs>
                      <a:gs pos="100000">
                        <a:srgbClr val="0c252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任意多边形 96276"/>
                  <p:cNvSpPr/>
                  <p:nvPr/>
                </p:nvSpPr>
                <p:spPr>
                  <a:xfrm>
                    <a:off x="5298840" y="3902760"/>
                    <a:ext cx="847080" cy="38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197b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" name="文本框 96277"/>
                <p:cNvSpPr/>
                <p:nvPr/>
              </p:nvSpPr>
              <p:spPr>
                <a:xfrm>
                  <a:off x="5594040" y="39405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3" name="组合 96278"/>
            <p:cNvGrpSpPr/>
            <p:nvPr/>
          </p:nvGrpSpPr>
          <p:grpSpPr>
            <a:xfrm>
              <a:off x="152280" y="1817640"/>
              <a:ext cx="4766760" cy="1001520"/>
              <a:chOff x="152280" y="1817640"/>
              <a:chExt cx="4766760" cy="1001520"/>
            </a:xfrm>
          </p:grpSpPr>
          <p:sp>
            <p:nvSpPr>
              <p:cNvPr id="644" name="矩形 96279"/>
              <p:cNvSpPr/>
              <p:nvPr/>
            </p:nvSpPr>
            <p:spPr>
              <a:xfrm>
                <a:off x="152280" y="2092320"/>
                <a:ext cx="4222440" cy="719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78dd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645" name="组合 96280"/>
              <p:cNvGrpSpPr/>
              <p:nvPr/>
            </p:nvGrpSpPr>
            <p:grpSpPr>
              <a:xfrm>
                <a:off x="3820680" y="1817640"/>
                <a:ext cx="1098360" cy="1001520"/>
                <a:chOff x="3820680" y="1817640"/>
                <a:chExt cx="1098360" cy="1001520"/>
              </a:xfrm>
            </p:grpSpPr>
            <p:grpSp>
              <p:nvGrpSpPr>
                <p:cNvPr id="646" name="组合 96281"/>
                <p:cNvGrpSpPr/>
                <p:nvPr/>
              </p:nvGrpSpPr>
              <p:grpSpPr>
                <a:xfrm>
                  <a:off x="3820680" y="1817640"/>
                  <a:ext cx="1098360" cy="1001520"/>
                  <a:chOff x="3820680" y="1817640"/>
                  <a:chExt cx="1098360" cy="1001520"/>
                </a:xfrm>
              </p:grpSpPr>
              <p:sp>
                <p:nvSpPr>
                  <p:cNvPr id="647" name="椭圆 96282"/>
                  <p:cNvSpPr/>
                  <p:nvPr/>
                </p:nvSpPr>
                <p:spPr>
                  <a:xfrm>
                    <a:off x="3820680" y="1817640"/>
                    <a:ext cx="1098360" cy="100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78dd7"/>
                      </a:gs>
                      <a:gs pos="100000">
                        <a:srgbClr val="4e375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任意多边形 96283"/>
                  <p:cNvSpPr/>
                  <p:nvPr/>
                </p:nvSpPr>
                <p:spPr>
                  <a:xfrm>
                    <a:off x="3945960" y="1834200"/>
                    <a:ext cx="84744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78dd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文本框 96284"/>
                <p:cNvSpPr/>
                <p:nvPr/>
              </p:nvSpPr>
              <p:spPr>
                <a:xfrm>
                  <a:off x="4198320" y="192888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A</a:t>
                  </a:r>
                  <a:endParaRPr b="0" lang="en-US" sz="24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0" name="文本框 96285"/>
            <p:cNvSpPr/>
            <p:nvPr/>
          </p:nvSpPr>
          <p:spPr>
            <a:xfrm>
              <a:off x="457200" y="224784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5413e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51" name="文本框 96286"/>
            <p:cNvSpPr/>
            <p:nvPr/>
          </p:nvSpPr>
          <p:spPr>
            <a:xfrm>
              <a:off x="685800" y="335268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5413e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52" name="文本框 96287"/>
            <p:cNvSpPr/>
            <p:nvPr/>
          </p:nvSpPr>
          <p:spPr>
            <a:xfrm>
              <a:off x="914400" y="434340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5413e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53" name="文本框 96288"/>
            <p:cNvSpPr/>
            <p:nvPr/>
          </p:nvSpPr>
          <p:spPr>
            <a:xfrm>
              <a:off x="762120" y="5427720"/>
              <a:ext cx="48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5413e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54" name="圆角矩形标注 96289"/>
            <p:cNvSpPr/>
            <p:nvPr/>
          </p:nvSpPr>
          <p:spPr>
            <a:xfrm>
              <a:off x="6324480" y="1752480"/>
              <a:ext cx="2514600" cy="198144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 her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655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656" name="日期占位符 2"/>
          <p:cNvSpPr/>
          <p:nvPr/>
        </p:nvSpPr>
        <p:spPr>
          <a:xfrm>
            <a:off x="304920" y="6521400"/>
            <a:ext cx="2743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838080" y="22334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666635"/>
                      </a:solidFill>
                    </a:lnR>
                    <a:lnT>
                      <a:noFill/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/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9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98306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62" name="圆角矩形 98307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c78dd7"/>
                </a:gs>
                <a:gs pos="100000">
                  <a:srgbClr val="f8f1fa"/>
                </a:gs>
              </a:gsLst>
              <a:lin ang="5400000"/>
            </a:gradFill>
            <a:ln w="25560">
              <a:solidFill>
                <a:srgbClr val="878f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pic>
          <p:nvPicPr>
            <p:cNvPr id="663" name="对象 98308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圆角矩形 98309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4163"/>
                </a:gs>
                <a:gs pos="50000">
                  <a:srgbClr val="c78dd7"/>
                </a:gs>
                <a:gs pos="100000">
                  <a:srgbClr val="5c41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65" name="八边形 98310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666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66" name="八边形 98311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666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67" name="圆角矩形 98312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3ae4e"/>
                </a:gs>
                <a:gs pos="100000">
                  <a:srgbClr val="dde9ce"/>
                </a:gs>
              </a:gsLst>
              <a:lin ang="5400000"/>
            </a:gradFill>
            <a:ln w="25560">
              <a:solidFill>
                <a:srgbClr val="83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pic>
          <p:nvPicPr>
            <p:cNvPr id="668" name="对象 98313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圆角矩形 98314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0" name="八边形 98315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666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1" name="八边形 98316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666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672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67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组合 99348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675" name="椭圆 99329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6" name="椭圆 99330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7" name="椭圆 99331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8" name="任意多边形 99332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97bb"/>
                </a:gs>
                <a:gs pos="100000">
                  <a:srgbClr val="7cbdd4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9" name="任意多边形 99333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5b7936"/>
                </a:gs>
                <a:gs pos="100000">
                  <a:srgbClr val="83ae4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0" name="任意多边形 99334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83ae4e"/>
                </a:gs>
                <a:gs pos="100000">
                  <a:srgbClr val="caddb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1" name="任意多边形 99335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8dd7"/>
                </a:gs>
                <a:gs pos="100000">
                  <a:srgbClr val="5c416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2" name="椭圆 99336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3" name="文本框 99337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4" name="文本框 99338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5" name="文本框 99339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6" name="文本框 99340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7" name="任意多边形 99341"/>
            <p:cNvSpPr/>
            <p:nvPr/>
          </p:nvSpPr>
          <p:spPr>
            <a:xfrm>
              <a:off x="4419720" y="41911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4246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8" name="任意多边形 99342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e6473"/>
                </a:gs>
                <a:gs pos="100000">
                  <a:srgbClr val="878f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9" name="任意多边形 99343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4e525f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90" name="任意多边形 99344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666c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91" name="椭圆 99345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92" name="文本框 99346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4543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32" name="组合 64514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33" name="六边形 64515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34" name="六边形 64516"/>
              <p:cNvSpPr/>
              <p:nvPr/>
            </p:nvSpPr>
            <p:spPr>
              <a:xfrm>
                <a:off x="1828800" y="20239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35" name="六边形 64517"/>
              <p:cNvSpPr/>
              <p:nvPr/>
            </p:nvSpPr>
            <p:spPr>
              <a:xfrm>
                <a:off x="1873080" y="20631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174657"/>
                  </a:gs>
                  <a:gs pos="100000">
                    <a:srgbClr val="3197bb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438280" y="2633760"/>
              <a:ext cx="4800600" cy="360"/>
              <a:chOff x="2438280" y="2633760"/>
              <a:chExt cx="4800600" cy="360"/>
            </a:xfrm>
          </p:grpSpPr>
          <p:sp>
            <p:nvSpPr>
              <p:cNvPr id="137" name="直接连接符 64522"/>
              <p:cNvSpPr/>
              <p:nvPr/>
            </p:nvSpPr>
            <p:spPr>
              <a:xfrm>
                <a:off x="2438280" y="2633760"/>
                <a:ext cx="4800600" cy="0"/>
              </a:xfrm>
              <a:prstGeom prst="line">
                <a:avLst/>
              </a:prstGeom>
              <a:ln w="25560">
                <a:solidFill>
                  <a:srgbClr val="25413e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2438280" y="26337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39" name="文本框 64523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35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40" name="文本框 64524"/>
            <p:cNvSpPr/>
            <p:nvPr/>
          </p:nvSpPr>
          <p:spPr>
            <a:xfrm>
              <a:off x="2027520" y="21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141" name="组合 64544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42" name="组合 64518"/>
            <p:cNvGrpSpPr/>
            <p:nvPr/>
          </p:nvGrpSpPr>
          <p:grpSpPr>
            <a:xfrm>
              <a:off x="1828800" y="2938320"/>
              <a:ext cx="761760" cy="665280"/>
              <a:chOff x="1828800" y="2938320"/>
              <a:chExt cx="761760" cy="665280"/>
            </a:xfrm>
          </p:grpSpPr>
          <p:sp>
            <p:nvSpPr>
              <p:cNvPr id="143" name="六边形 64519"/>
              <p:cNvSpPr/>
              <p:nvPr/>
            </p:nvSpPr>
            <p:spPr>
              <a:xfrm>
                <a:off x="1834920" y="2949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44" name="六边形 64520"/>
              <p:cNvSpPr/>
              <p:nvPr/>
            </p:nvSpPr>
            <p:spPr>
              <a:xfrm>
                <a:off x="1828800" y="2938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45" name="六边形 64521"/>
              <p:cNvSpPr/>
              <p:nvPr/>
            </p:nvSpPr>
            <p:spPr>
              <a:xfrm>
                <a:off x="1873080" y="2977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3d5124"/>
                  </a:gs>
                  <a:gs pos="100000">
                    <a:srgbClr val="83ae4e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438280" y="3548160"/>
              <a:ext cx="4800600" cy="360"/>
              <a:chOff x="2438280" y="3548160"/>
              <a:chExt cx="4800600" cy="360"/>
            </a:xfrm>
          </p:grpSpPr>
          <p:sp>
            <p:nvSpPr>
              <p:cNvPr id="147" name="直接连接符 64525"/>
              <p:cNvSpPr/>
              <p:nvPr/>
            </p:nvSpPr>
            <p:spPr>
              <a:xfrm>
                <a:off x="2438280" y="3548160"/>
                <a:ext cx="4800600" cy="0"/>
              </a:xfrm>
              <a:prstGeom prst="line">
                <a:avLst/>
              </a:prstGeom>
              <a:ln w="25560">
                <a:solidFill>
                  <a:srgbClr val="25413e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438280" y="35481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49" name="文本框 64526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35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50" name="文本框 64527"/>
            <p:cNvSpPr/>
            <p:nvPr/>
          </p:nvSpPr>
          <p:spPr>
            <a:xfrm>
              <a:off x="2027520" y="303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151" name="组合 64545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52" name="组合 64528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53" name="六边形 64529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54" name="六边形 64530"/>
              <p:cNvSpPr/>
              <p:nvPr/>
            </p:nvSpPr>
            <p:spPr>
              <a:xfrm>
                <a:off x="1828800" y="38307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55" name="六边形 64531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74657"/>
                  </a:gs>
                  <a:gs pos="100000">
                    <a:srgbClr val="3197bb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438280" y="4440240"/>
              <a:ext cx="4800600" cy="360"/>
              <a:chOff x="2438280" y="4440240"/>
              <a:chExt cx="4800600" cy="360"/>
            </a:xfrm>
          </p:grpSpPr>
          <p:sp>
            <p:nvSpPr>
              <p:cNvPr id="157" name="直接连接符 64536"/>
              <p:cNvSpPr/>
              <p:nvPr/>
            </p:nvSpPr>
            <p:spPr>
              <a:xfrm>
                <a:off x="2438280" y="4440240"/>
                <a:ext cx="4800600" cy="0"/>
              </a:xfrm>
              <a:prstGeom prst="line">
                <a:avLst/>
              </a:prstGeom>
              <a:ln w="25560">
                <a:solidFill>
                  <a:srgbClr val="25413e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2438280" y="44402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59" name="文本框 64537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35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60" name="文本框 64538"/>
            <p:cNvSpPr/>
            <p:nvPr/>
          </p:nvSpPr>
          <p:spPr>
            <a:xfrm>
              <a:off x="202752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161" name="组合 64546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62" name="组合 64532"/>
            <p:cNvGrpSpPr/>
            <p:nvPr/>
          </p:nvGrpSpPr>
          <p:grpSpPr>
            <a:xfrm>
              <a:off x="1828800" y="4745160"/>
              <a:ext cx="761760" cy="664920"/>
              <a:chOff x="1828800" y="4745160"/>
              <a:chExt cx="761760" cy="664920"/>
            </a:xfrm>
          </p:grpSpPr>
          <p:sp>
            <p:nvSpPr>
              <p:cNvPr id="163" name="六边形 64533"/>
              <p:cNvSpPr/>
              <p:nvPr/>
            </p:nvSpPr>
            <p:spPr>
              <a:xfrm>
                <a:off x="1834920" y="4756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64" name="六边形 64534"/>
              <p:cNvSpPr/>
              <p:nvPr/>
            </p:nvSpPr>
            <p:spPr>
              <a:xfrm>
                <a:off x="1828800" y="47451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65" name="六边形 64535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d5124"/>
                  </a:gs>
                  <a:gs pos="100000">
                    <a:srgbClr val="83ae4e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438280" y="5354640"/>
              <a:ext cx="4800600" cy="360"/>
              <a:chOff x="2438280" y="5354640"/>
              <a:chExt cx="4800600" cy="360"/>
            </a:xfrm>
          </p:grpSpPr>
          <p:sp>
            <p:nvSpPr>
              <p:cNvPr id="167" name="直接连接符 64539"/>
              <p:cNvSpPr/>
              <p:nvPr/>
            </p:nvSpPr>
            <p:spPr>
              <a:xfrm>
                <a:off x="2438280" y="5354640"/>
                <a:ext cx="4800600" cy="0"/>
              </a:xfrm>
              <a:prstGeom prst="line">
                <a:avLst/>
              </a:prstGeom>
              <a:ln w="25560">
                <a:solidFill>
                  <a:srgbClr val="25413e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438280" y="53546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69" name="文本框 64540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35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70" name="文本框 64541"/>
            <p:cNvSpPr/>
            <p:nvPr/>
          </p:nvSpPr>
          <p:spPr>
            <a:xfrm>
              <a:off x="202752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171" name="文本框 6454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72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304920" y="6521400"/>
            <a:ext cx="2743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35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6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1F74-7038-4ACF-A954-0D088BAFA61F}" type="slidenum">
              <a:rPr b="0" lang="zh-CN" sz="1400" spc="-1" strike="noStrike">
                <a:solidFill>
                  <a:srgbClr val="666635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82946"/>
          <p:cNvSpPr txBox="1"/>
          <p:nvPr/>
        </p:nvSpPr>
        <p:spPr>
          <a:xfrm>
            <a:off x="1995480" y="213372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197bb"/>
                    </a:gs>
                    <a:gs pos="100000">
                      <a:srgbClr val="666635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197bb"/>
                  </a:gs>
                  <a:gs pos="100000">
                    <a:srgbClr val="666635"/>
                  </a:gs>
                </a:gsLst>
                <a:lin ang="5400000"/>
              </a:gradFill>
              <a:effectLst>
                <a:outerShdw dist="71785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436680"/>
          </a:xfrm>
          <a:prstGeom prst="rect">
            <a:avLst/>
          </a:prstGeom>
          <a:gradFill rotWithShape="0">
            <a:gsLst>
              <a:gs pos="0">
                <a:srgbClr val="3d5124"/>
              </a:gs>
              <a:gs pos="50000">
                <a:srgbClr val="83ae4e"/>
              </a:gs>
              <a:gs pos="100000">
                <a:srgbClr val="3d5124"/>
              </a:gs>
            </a:gsLst>
            <a:lin ang="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8840" y="1458720"/>
            <a:ext cx="77230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13e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83ae4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ae4e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83ae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83ae4e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83ae4e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83ae4e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83ae4e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600" spc="-1" strike="noStrike">
                <a:solidFill>
                  <a:srgbClr val="666635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666635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666635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76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组合 83986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79" name="圆角矩形 83971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80" name="文本框 83972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181" name="任意多边形 83973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78dd7"/>
              </a:gs>
              <a:gs pos="100000">
                <a:srgbClr val="dbb7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82" name="矩形 83974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grpSp>
        <p:nvGrpSpPr>
          <p:cNvPr id="183" name="组合 83988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84" name="组合 83976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85" name="组合 83977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86" name="椭圆 83978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97bb"/>
                    </a:gs>
                    <a:gs pos="100000">
                      <a:srgbClr val="18495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83979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4d1e1"/>
                    </a:gs>
                    <a:gs pos="100000">
                      <a:srgbClr val="3197b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椭圆 83980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3d5124"/>
                  </a:gs>
                  <a:gs pos="100000">
                    <a:srgbClr val="83ae4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89" name="椭圆 83981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3ae4e">
                      <a:alpha val="0"/>
                    </a:srgbClr>
                  </a:gs>
                  <a:gs pos="100000">
                    <a:srgbClr val="d4e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90" name="椭圆 83982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88a3e"/>
                  </a:gs>
                  <a:gs pos="100000">
                    <a:srgbClr val="83ae4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91" name="椭圆 83983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3ae4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92" name="文本框 83984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193" name="组合 83987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194" name="圆角矩形 83970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95" name="文本框 83985"/>
            <p:cNvSpPr/>
            <p:nvPr/>
          </p:nvSpPr>
          <p:spPr>
            <a:xfrm>
              <a:off x="5810400" y="35812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196" name="任意多边形 83975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197bb"/>
              </a:gs>
              <a:gs pos="100000">
                <a:srgbClr val="bede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97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组合 85015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00" name="任意多边形 84995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1" name="椭圆 84996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2" name="椭圆 84997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3" name="椭圆 84998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4" name="椭圆 84999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5" name="椭圆 85000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6" name="椭圆 85001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197bb"/>
                </a:gs>
                <a:gs pos="100000">
                  <a:srgbClr val="1134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7" name="椭圆 85002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3ae4e"/>
                </a:gs>
                <a:gs pos="100000">
                  <a:srgbClr val="2937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8" name="椭圆 85003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78dd7"/>
                </a:gs>
                <a:gs pos="100000">
                  <a:srgbClr val="4732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9" name="椭圆 85004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0" name="椭圆 85005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f31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1" name="文本框 85006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2" name="文本框 85007"/>
            <p:cNvSpPr/>
            <p:nvPr/>
          </p:nvSpPr>
          <p:spPr>
            <a:xfrm>
              <a:off x="4063320" y="2433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3" name="文本框 85008"/>
            <p:cNvSpPr/>
            <p:nvPr/>
          </p:nvSpPr>
          <p:spPr>
            <a:xfrm>
              <a:off x="6672960" y="2644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4" name="文本框 85009"/>
            <p:cNvSpPr/>
            <p:nvPr/>
          </p:nvSpPr>
          <p:spPr>
            <a:xfrm>
              <a:off x="50824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5" name="文本框 85010"/>
            <p:cNvSpPr/>
            <p:nvPr/>
          </p:nvSpPr>
          <p:spPr>
            <a:xfrm>
              <a:off x="260604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6" name="文本框 85011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6635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18" name="直接连接符 85012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cxnSp>
          <p:nvCxnSpPr>
            <p:cNvPr id="220" name="直接箭头连接符 85013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666635"/>
              </a:solidFill>
              <a:round/>
            </a:ln>
          </p:spPr>
        </p:cxnSp>
        <p:sp>
          <p:nvSpPr>
            <p:cNvPr id="221" name="文本框 85014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222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223" name="文本框 8200"/>
          <p:cNvSpPr/>
          <p:nvPr/>
        </p:nvSpPr>
        <p:spPr>
          <a:xfrm>
            <a:off x="914400" y="13716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组合 8601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26" name="圆柱形 86019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27" name="圆柱形 8602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28" name="圆柱形 86021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29" name="文本框 8602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0" name="文本框 8602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1" name="文本框 8602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2" name="左箭头 8602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3" name="圆角矩形 86026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4" name="文本框 86027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5" name="圆角矩形 86028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6" name="文本框 86029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7" name="右箭头 8603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8" name="圆柱形 86031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9" name="上箭头 86032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40" name="文本框 86033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41" name="圆柱形 8603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74657"/>
                </a:gs>
                <a:gs pos="50000">
                  <a:srgbClr val="3197bb"/>
                </a:gs>
                <a:gs pos="100000">
                  <a:srgbClr val="1746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42" name="文本框 8603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43" name="下箭头 86036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244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组合 870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47" name="组合 87043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48" name="上箭头 87044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5413e"/>
                  </a:gs>
                  <a:gs pos="100000">
                    <a:srgbClr val="aab4b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49" name="上箭头 87045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5413e"/>
                  </a:gs>
                  <a:gs pos="100000">
                    <a:srgbClr val="aab4b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0" name="上箭头 87046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5413e"/>
                  </a:gs>
                  <a:gs pos="100000">
                    <a:srgbClr val="aab4b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1" name="椭圆 87047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2" name="椭圆 87048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3" name="椭圆 87049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197b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4" name="椭圆 87050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5" name="椭圆 87051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b5265"/>
                  </a:gs>
                  <a:gs pos="50000">
                    <a:srgbClr val="3197bb"/>
                  </a:gs>
                  <a:gs pos="100000">
                    <a:srgbClr val="1b526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6" name="椭圆 87052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257" name="圆柱形 870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657"/>
                </a:gs>
                <a:gs pos="50000">
                  <a:srgbClr val="3197bb"/>
                </a:gs>
                <a:gs pos="100000">
                  <a:srgbClr val="1746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58" name="圆柱形 87054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657"/>
                </a:gs>
                <a:gs pos="50000">
                  <a:srgbClr val="3197bb"/>
                </a:gs>
                <a:gs pos="100000">
                  <a:srgbClr val="1746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59" name="圆柱形 87055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657"/>
                </a:gs>
                <a:gs pos="50000">
                  <a:srgbClr val="3197bb"/>
                </a:gs>
                <a:gs pos="100000">
                  <a:srgbClr val="1746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0" name="圆柱形 870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1" name="圆柱形 87057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2" name="圆柱形 87058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3" name="文本框 870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4" name="圆角矩形 87060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5" name="文本框 87061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6" name="文本框 8706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7" name="文本框 8706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8" name="文本框 87064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9" name="文本框 87065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70" name="文本框 87066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271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组合 88093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74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75" name="直接连接符 88066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78" name="直接连接符 88067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81" name="直接连接符 88068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84" name="直接连接符 88069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87" name="直接连接符 88070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90" name="直接连接符 88071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93" name="直接连接符 88072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96" name="直接连接符 88073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99" name="直接连接符 88074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301" name="文本框 88075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02" name="文本框 88076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03" name="文本框 88077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04" name="文本框 88078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305" name="组合 88079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306" name="任意多边形 88080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4163"/>
                  </a:gs>
                  <a:gs pos="50000">
                    <a:srgbClr val="c78dd7"/>
                  </a:gs>
                  <a:gs pos="100000">
                    <a:srgbClr val="5c4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07" name="任意多边形 88081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78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08" name="任意多边形 88082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4657"/>
                  </a:gs>
                  <a:gs pos="50000">
                    <a:srgbClr val="3197bb"/>
                  </a:gs>
                  <a:gs pos="100000">
                    <a:srgbClr val="17465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09" name="任意多边形 88083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19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0" name="任意多边形 88084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424c"/>
                  </a:gs>
                  <a:gs pos="50000">
                    <a:srgbClr val="878fa5"/>
                  </a:gs>
                  <a:gs pos="100000">
                    <a:srgbClr val="3e424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1" name="任意多边形 88085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1e1d"/>
                  </a:gs>
                  <a:gs pos="50000">
                    <a:srgbClr val="25413e"/>
                  </a:gs>
                  <a:gs pos="100000">
                    <a:srgbClr val="111e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2" name="任意多边形 88086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5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3" name="任意多边形 88087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4" name="矩形 88088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90669c"/>
                  </a:gs>
                  <a:gs pos="50000">
                    <a:srgbClr val="c78dd7"/>
                  </a:gs>
                  <a:gs pos="100000">
                    <a:srgbClr val="9066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5" name="矩形 88089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46e88"/>
                  </a:gs>
                  <a:gs pos="50000">
                    <a:srgbClr val="3197bb"/>
                  </a:gs>
                  <a:gs pos="100000">
                    <a:srgbClr val="246e8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6" name="任意多边形 88090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78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7" name="矩形 88091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26878"/>
                  </a:gs>
                  <a:gs pos="50000">
                    <a:srgbClr val="878fa5"/>
                  </a:gs>
                  <a:gs pos="100000">
                    <a:srgbClr val="6268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8" name="矩形 88092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1b2f2d"/>
                  </a:gs>
                  <a:gs pos="50000">
                    <a:srgbClr val="25413e"/>
                  </a:gs>
                  <a:gs pos="100000">
                    <a:srgbClr val="1b2f2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组合 90152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22" name="圆角矩形 90113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78f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3" name="圆角矩形 90114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78f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4" name="圆角矩形 90115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78f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5" name="燕尾形 90117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83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6" name="燕尾形 9011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319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7" name="椭圆 90119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197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8" name="椭圆 90120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197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9" name="椭圆 90121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b5265"/>
                </a:gs>
                <a:gs pos="50000">
                  <a:srgbClr val="3197bb"/>
                </a:gs>
                <a:gs pos="100000">
                  <a:srgbClr val="1b52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0" name="椭圆 90122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f6077"/>
                </a:gs>
                <a:gs pos="100000">
                  <a:srgbClr val="3197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1" name="椭圆 90123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2" name="椭圆 90124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78fa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3" name="椭圆 90125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78fa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4" name="椭圆 90126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94d59"/>
                </a:gs>
                <a:gs pos="50000">
                  <a:srgbClr val="878fa5"/>
                </a:gs>
                <a:gs pos="100000">
                  <a:srgbClr val="494d5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5" name="椭圆 90127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65b69"/>
                </a:gs>
                <a:gs pos="100000">
                  <a:srgbClr val="878fa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6" name="椭圆 90128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337" name="组合 9012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38" name="椭圆 9013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39" name="椭圆 90131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40" name="椭圆 9013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41" name="椭圆 9013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342" name="椭圆 90134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e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43" name="椭圆 90135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3ae4e">
                    <a:alpha val="32156"/>
                  </a:srgbClr>
                </a:gs>
                <a:gs pos="100000">
                  <a:srgbClr val="3d51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44" name="椭圆 90136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75e2a"/>
                </a:gs>
                <a:gs pos="50000">
                  <a:srgbClr val="83ae4e"/>
                </a:gs>
                <a:gs pos="100000">
                  <a:srgbClr val="475e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45" name="椭圆 90137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36f32"/>
                </a:gs>
                <a:gs pos="100000">
                  <a:srgbClr val="83ae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46" name="椭圆 9013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347" name="组合 90139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48" name="椭圆 90140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49" name="椭圆 90141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0" name="椭圆 90142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1" name="椭圆 9014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352" name="组合 9014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53" name="椭圆 9014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4" name="椭圆 90146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5" name="椭圆 9014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6" name="椭圆 9014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357" name="文本框 9014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58" name="文本框 9015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59" name="文本框 90151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360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1" name="日期占位符 2"/>
          <p:cNvSpPr/>
          <p:nvPr/>
        </p:nvSpPr>
        <p:spPr>
          <a:xfrm>
            <a:off x="304920" y="6521400"/>
            <a:ext cx="2743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23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