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2811-CD41-4B57-9283-FA5EC7790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C94E-8EE2-47CE-8185-F803348D0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91F4-E9A1-454D-B604-806D54C9E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FDFE-7889-4CA5-AE8D-74D250D2E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C2FA-B7D9-4253-A34A-A566A757E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2EDD-710F-42F3-AB4A-FD2A7AE662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15CB-8C7F-4D88-84BB-69DE936B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5289A-FC14-47E9-A184-48FF6034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F42E7-12AF-4642-8F58-64C578E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99F5-6668-4B15-95F7-E27EF357FB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68D9-14D0-4EFC-8FB7-8C5CB0DC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9BB6A-F85C-4E8B-900C-727BA12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E145-81AB-4E27-8E55-DE10BF3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36536-4796-4CEA-B9EA-C877D29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77DF-C947-4860-82E6-687088B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31E9B-63A7-4DF4-A80E-1CF09BB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BE32-81D6-4338-AF98-BE265761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C21AD-EC64-4221-9F62-4F83A882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5BA32-6DCB-4330-AB8B-CCC19198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5C98-DADA-48E9-BBA6-BCC6308D22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CF73-F1C5-4705-8BAE-C146343FD8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3EAE-D2D9-40A0-9542-C8748B233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915C-D329-4FF1-A3C0-7312A9A7B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5E49-F676-47A5-8039-E48B4598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g2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9387A1-C12A-4837-9AE0-F672BA0745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0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101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102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11"/>
          </p:cNvPr>
          <p:cNvSpPr/>
          <p:nvPr/>
        </p:nvSpPr>
        <p:spPr>
          <a:xfrm>
            <a:off x="217764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07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08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09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10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11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349800" y="1125360"/>
            <a:ext cx="360" cy="576360"/>
            <a:chOff x="3349800" y="1125360"/>
            <a:chExt cx="360" cy="576360"/>
          </a:xfrm>
        </p:grpSpPr>
        <p:sp>
          <p:nvSpPr>
            <p:cNvPr id="97" name="直接连接符 4113"/>
            <p:cNvSpPr/>
            <p:nvPr/>
          </p:nvSpPr>
          <p:spPr>
            <a:xfrm>
              <a:off x="3349800" y="1125360"/>
              <a:ext cx="0" cy="57636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349800" y="11253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4114" descr="tm_logo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4115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94D8-DBF7-452D-992E-CC5D2F9833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D6D-8455-469E-AAFE-7B8D5D9C1C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4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企业地球仪幻灯片完整版下载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1B44DAB-38B5-4124-A819-7BBA397B5B7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CAD6-8813-4770-90FB-D823AD91EF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2627280" y="4262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09Z</dcterms:modified>
  <cp:revision>2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