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B3C0-F8D7-4B3E-801C-65428697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638-84A7-4BB0-A9ED-0B1AB8DA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0BA-1374-4438-88E9-C51308A1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436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064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436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064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6E6-5F01-457C-9401-9F6449F5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0B5C-BF16-44E4-BC32-620D8072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C5B5-0A6E-40E5-BCAA-2435FDA4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B79E-EF82-407E-9CE1-B5432FB1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B9E3-D7F3-4ABF-924E-6B0EC6C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D3C0-62DE-4B1D-A1F7-7839B232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2840" y="280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4EE0-D7E6-4EC2-BF51-7D34DA8F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3B36-9610-4140-8230-F5D1770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344-687C-4889-80B9-D71A6E77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FCE0-92B2-4C1F-B777-D8285CC0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DEE-CA14-4184-9928-2489D93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D444-BF28-4C5E-9CC6-AD6D6549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CFC0-CACE-4CF7-8141-30BB8307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436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064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436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064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5E95-132A-4560-95F3-E925B650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1B2B-CC09-4D90-89F6-94AD414D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7BDC-73BD-45F4-A3E7-4212D3DC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34174-233A-4099-BD65-1D1781E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5D14-E5A0-4591-AC99-56F7679B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0749C-0F69-4670-B408-7B83D537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F5A-D59F-43F8-AD7F-DC02034E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2840" y="280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71D4-B5EF-4919-97AC-D92DC3D9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1968-F149-455B-9226-414056E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7520-F09C-4057-88AD-34FDEA78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D734-E66F-41E4-942E-90889341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B748-F1C2-4EBA-AEFF-0DF11491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AFCE-587D-4EE3-AF64-E4855B6B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3436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06480" y="8380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3436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06480" y="37040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1E96-5420-483E-BAAD-F01F7BC1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CC6-C1C5-40BF-87EA-FF88B38B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571-933F-45EC-8170-682FC998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2840" y="2808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BF9-62BF-4671-93C7-98504468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647-BA86-4615-8706-D8F1FDA9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871160" y="37040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2CD-0C27-4B84-B14C-8D9CB786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1160" y="8380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25E-0E6D-4035-ACCF-6C835BE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52" descr="Z:\newtek\_backgrounds_1.02\Tim\powerpoint templates\21-40\strategic_alliance\elements\shake.jpg"/>
          <p:cNvPicPr/>
          <p:nvPr/>
        </p:nvPicPr>
        <p:blipFill>
          <a:blip r:embed="rId3"/>
          <a:stretch/>
        </p:blipFill>
        <p:spPr>
          <a:xfrm>
            <a:off x="7318440" y="0"/>
            <a:ext cx="1639800" cy="789120"/>
          </a:xfrm>
          <a:prstGeom prst="rect">
            <a:avLst/>
          </a:prstGeom>
          <a:ln w="0">
            <a:noFill/>
          </a:ln>
        </p:spPr>
      </p:pic>
      <p:sp>
        <p:nvSpPr>
          <p:cNvPr id="1" name="平行四边形 1051"/>
          <p:cNvSpPr/>
          <p:nvPr/>
        </p:nvSpPr>
        <p:spPr>
          <a:xfrm>
            <a:off x="-304920" y="76320"/>
            <a:ext cx="7620120" cy="609480"/>
          </a:xfrm>
          <a:prstGeom prst="parallelogram">
            <a:avLst>
              <a:gd name="adj" fmla="val 28999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矩形 1049"/>
          <p:cNvSpPr/>
          <p:nvPr/>
        </p:nvSpPr>
        <p:spPr>
          <a:xfrm>
            <a:off x="0" y="797040"/>
            <a:ext cx="347760" cy="5500440"/>
          </a:xfrm>
          <a:prstGeom prst="rect">
            <a:avLst/>
          </a:prstGeom>
          <a:gradFill rotWithShape="0">
            <a:gsLst>
              <a:gs pos="0">
                <a:srgbClr val="5d6b6e"/>
              </a:gs>
              <a:gs pos="100000">
                <a:srgbClr val="c9e7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5984-B8F0-40BB-B42F-08DBD7B50C9F}" type="slidenum">
              <a:rPr b="0" lang="en-US" sz="10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-15840" y="793800"/>
            <a:ext cx="8778960" cy="360"/>
            <a:chOff x="-15840" y="793800"/>
            <a:chExt cx="8778960" cy="360"/>
          </a:xfrm>
        </p:grpSpPr>
        <p:sp>
          <p:nvSpPr>
            <p:cNvPr id="9" name="直接连接符 1030"/>
            <p:cNvSpPr/>
            <p:nvPr/>
          </p:nvSpPr>
          <p:spPr>
            <a:xfrm>
              <a:off x="-15840" y="793800"/>
              <a:ext cx="8778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-15840" y="793800"/>
              <a:ext cx="877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6480" y="6294600"/>
            <a:ext cx="7308720" cy="360"/>
            <a:chOff x="6480" y="6294600"/>
            <a:chExt cx="7308720" cy="360"/>
          </a:xfrm>
        </p:grpSpPr>
        <p:sp>
          <p:nvSpPr>
            <p:cNvPr id="12" name="直接连接符 1034"/>
            <p:cNvSpPr/>
            <p:nvPr/>
          </p:nvSpPr>
          <p:spPr>
            <a:xfrm>
              <a:off x="6480" y="6294600"/>
              <a:ext cx="7308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480" y="6294600"/>
              <a:ext cx="730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组合 1048"/>
          <p:cNvGrpSpPr/>
          <p:nvPr/>
        </p:nvGrpSpPr>
        <p:grpSpPr>
          <a:xfrm>
            <a:off x="0" y="838080"/>
            <a:ext cx="304560" cy="5410440"/>
            <a:chOff x="0" y="838080"/>
            <a:chExt cx="304560" cy="5410440"/>
          </a:xfrm>
        </p:grpSpPr>
        <p:sp>
          <p:nvSpPr>
            <p:cNvPr id="15" name="矩形 1035"/>
            <p:cNvSpPr/>
            <p:nvPr/>
          </p:nvSpPr>
          <p:spPr>
            <a:xfrm>
              <a:off x="0" y="8380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矩形 1036"/>
            <p:cNvSpPr/>
            <p:nvPr/>
          </p:nvSpPr>
          <p:spPr>
            <a:xfrm>
              <a:off x="0" y="12952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矩形 1038"/>
            <p:cNvSpPr/>
            <p:nvPr/>
          </p:nvSpPr>
          <p:spPr>
            <a:xfrm>
              <a:off x="0" y="17524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矩形 1039"/>
            <p:cNvSpPr/>
            <p:nvPr/>
          </p:nvSpPr>
          <p:spPr>
            <a:xfrm>
              <a:off x="0" y="22096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矩形 1040"/>
            <p:cNvSpPr/>
            <p:nvPr/>
          </p:nvSpPr>
          <p:spPr>
            <a:xfrm>
              <a:off x="0" y="26668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矩形 1041"/>
            <p:cNvSpPr/>
            <p:nvPr/>
          </p:nvSpPr>
          <p:spPr>
            <a:xfrm>
              <a:off x="0" y="31240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矩形 1042"/>
            <p:cNvSpPr/>
            <p:nvPr/>
          </p:nvSpPr>
          <p:spPr>
            <a:xfrm>
              <a:off x="0" y="35812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矩形 1043"/>
            <p:cNvSpPr/>
            <p:nvPr/>
          </p:nvSpPr>
          <p:spPr>
            <a:xfrm>
              <a:off x="0" y="40384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矩形 1044"/>
            <p:cNvSpPr/>
            <p:nvPr/>
          </p:nvSpPr>
          <p:spPr>
            <a:xfrm>
              <a:off x="0" y="44956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矩形 1045"/>
            <p:cNvSpPr/>
            <p:nvPr/>
          </p:nvSpPr>
          <p:spPr>
            <a:xfrm>
              <a:off x="0" y="49528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矩形 1046"/>
            <p:cNvSpPr/>
            <p:nvPr/>
          </p:nvSpPr>
          <p:spPr>
            <a:xfrm>
              <a:off x="0" y="54100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矩形 1047"/>
            <p:cNvSpPr/>
            <p:nvPr/>
          </p:nvSpPr>
          <p:spPr>
            <a:xfrm>
              <a:off x="0" y="5867280"/>
              <a:ext cx="3045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2FD7-1C58-4D15-B6C1-77EEA431C89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2A2B-D716-48DC-B78C-F20EE05D89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6E98-61AE-40C7-8EC2-B298924FB621}" type="slidenum">
              <a:rPr b="0" lang="en-US" sz="10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平行四边形 2059"/>
          <p:cNvSpPr/>
          <p:nvPr/>
        </p:nvSpPr>
        <p:spPr>
          <a:xfrm>
            <a:off x="5715000" y="1371600"/>
            <a:ext cx="3276720" cy="533520"/>
          </a:xfrm>
          <a:prstGeom prst="parallelogram">
            <a:avLst>
              <a:gd name="adj" fmla="val 258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图片 2056" descr="Z:\newtek\_backgrounds_1.02\Tim\powerpoint templates\21-40\strategic_alliance\elements\shake.jpg"/>
          <p:cNvPicPr/>
          <p:nvPr/>
        </p:nvPicPr>
        <p:blipFill>
          <a:blip r:embed="rId1"/>
          <a:stretch/>
        </p:blipFill>
        <p:spPr>
          <a:xfrm>
            <a:off x="1219320" y="1066680"/>
            <a:ext cx="2361960" cy="11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平行四边形 2057"/>
          <p:cNvSpPr/>
          <p:nvPr/>
        </p:nvSpPr>
        <p:spPr>
          <a:xfrm>
            <a:off x="3048120" y="1828800"/>
            <a:ext cx="3276360" cy="380880"/>
          </a:xfrm>
          <a:prstGeom prst="parallelogram">
            <a:avLst>
              <a:gd name="adj" fmla="val 27917"/>
            </a:avLst>
          </a:prstGeom>
          <a:solidFill>
            <a:srgbClr val="c9e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平行四边形 2058"/>
          <p:cNvSpPr/>
          <p:nvPr/>
        </p:nvSpPr>
        <p:spPr>
          <a:xfrm>
            <a:off x="2819520" y="1066680"/>
            <a:ext cx="6172200" cy="762120"/>
          </a:xfrm>
          <a:prstGeom prst="parallelogram">
            <a:avLst>
              <a:gd name="adj" fmla="val 27708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Your Strategic Alliances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8120" y="1777680"/>
            <a:ext cx="6400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Your Sub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2372760" y="2708280"/>
            <a:ext cx="49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企业合作幻灯片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5124" descr="Z:\newtek\_backgrounds_1.02\Tim\powerpoint templates\21-40\strategic_alliance\elements\shake.jpg"/>
          <p:cNvPicPr/>
          <p:nvPr/>
        </p:nvPicPr>
        <p:blipFill>
          <a:blip r:embed="rId2"/>
          <a:stretch/>
        </p:blipFill>
        <p:spPr>
          <a:xfrm>
            <a:off x="1698480" y="1066680"/>
            <a:ext cx="1600200" cy="77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平行四边形 5123"/>
          <p:cNvSpPr/>
          <p:nvPr/>
        </p:nvSpPr>
        <p:spPr>
          <a:xfrm>
            <a:off x="2819520" y="1066680"/>
            <a:ext cx="4572000" cy="762120"/>
          </a:xfrm>
          <a:prstGeom prst="parallelogram">
            <a:avLst>
              <a:gd name="adj" fmla="val 29579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124080" y="172476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E4EF-99C2-443C-9C07-E8C986BD55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" y="280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8380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14:54:59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09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