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604-0217-46E3-82B2-F30AA3B0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EBE-3882-41B5-B715-68AEDCA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E90-97FC-4A93-B960-9AFA853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A72-5606-443A-BCB5-F2C0C758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710A-241C-44B0-A4E9-3767B149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6FC5-D7D9-412C-88BE-D97DA63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475-5D6E-4E13-90DF-CC22EDF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E72D-3F1E-475E-A64C-F880F7F4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E8B6-DB83-4E5C-ABA9-22C801F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43C9-6477-4A59-8408-B5D064A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0D7-CA56-42AA-B98D-E715F35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993-DA9C-4F54-8869-F4A4568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745B-E7DF-44BF-A3FA-90345682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BEB-D56C-44B2-837F-CE49866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78EA-DA10-4414-99F4-E393CEA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611-46DB-47B5-BA94-D418F02C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E08-2AAE-4868-82E5-2653901D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54E-3E88-46C6-BA62-75E3F264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5D1-1A1B-4F51-84B5-F57AD4C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428-ABD8-4820-8425-1BD55BC0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B51-7090-4BD3-A285-E8DE049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56B-3557-454A-9A9E-FFC6DA0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217-820D-4A3F-A88C-FDE0DD3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4B8-73EF-40C8-93E7-1349B9F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63DD6F-0B74-47D8-A018-E6E8C804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45110C-00D4-4231-B5DD-E8A9433824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956F7D-E520-47D6-8358-E397C055D0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培训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808360" y="1258920"/>
            <a:ext cx="4172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56E889-2907-423A-850F-30252D49A3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504720" y="564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745799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194"/>
          <p:cNvSpPr/>
          <p:nvPr/>
        </p:nvSpPr>
        <p:spPr>
          <a:xfrm>
            <a:off x="1800360" y="219564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5"/>
          <p:cNvCxnSpPr>
            <a:stCxn id="101" idx="0"/>
            <a:endCxn id="99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3" name="AutoShape 6"/>
          <p:cNvCxnSpPr>
            <a:stCxn id="99" idx="5"/>
            <a:endCxn id="100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4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05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5761080"/>
            <a:ext cx="2600280" cy="1440"/>
            <a:chOff x="533520" y="5761080"/>
            <a:chExt cx="2600280" cy="1440"/>
          </a:xfrm>
        </p:grpSpPr>
        <p:sp>
          <p:nvSpPr>
            <p:cNvPr id="110" name="Line 12"/>
            <p:cNvSpPr/>
            <p:nvPr/>
          </p:nvSpPr>
          <p:spPr>
            <a:xfrm>
              <a:off x="533520" y="5761080"/>
              <a:ext cx="26002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33520" y="5761080"/>
              <a:ext cx="2600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575160" y="2343240"/>
            <a:ext cx="1168200" cy="116820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6"/>
          <p:cNvCxnSpPr>
            <a:stCxn id="114" idx="7"/>
            <a:endCxn id="117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0" name="AutoShape 7"/>
          <p:cNvCxnSpPr>
            <a:stCxn id="114" idx="5"/>
            <a:endCxn id="116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1" name="AutoShape 8"/>
          <p:cNvCxnSpPr>
            <a:stCxn id="114" idx="6"/>
            <a:endCxn id="115" idx="2"/>
          </p:cNvCxnSpPr>
          <p:nvPr/>
        </p:nvCxnSpPr>
        <p:spPr>
          <a:xfrm>
            <a:off x="2863440" y="448776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2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ccbb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"/>
          <p:cNvCxnSpPr>
            <a:stCxn id="131" idx="3"/>
            <a:endCxn id="132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4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a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71560" y="4808520"/>
            <a:ext cx="3633840" cy="1440"/>
            <a:chOff x="871560" y="4808520"/>
            <a:chExt cx="3633840" cy="1440"/>
          </a:xfrm>
        </p:grpSpPr>
        <p:sp>
          <p:nvSpPr>
            <p:cNvPr id="141" name="Line 6"/>
            <p:cNvSpPr/>
            <p:nvPr/>
          </p:nvSpPr>
          <p:spPr>
            <a:xfrm flipH="1">
              <a:off x="871560" y="4808520"/>
              <a:ext cx="3633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871560" y="4808520"/>
              <a:ext cx="3633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64577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"/>
          <p:cNvSpPr/>
          <p:nvPr/>
        </p:nvSpPr>
        <p:spPr>
          <a:xfrm flipV="1">
            <a:off x="1030320" y="5299200"/>
            <a:ext cx="4683240" cy="111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 flipV="1">
            <a:off x="1697040" y="4133160"/>
            <a:ext cx="337032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4"/>
          <p:cNvSpPr/>
          <p:nvPr/>
        </p:nvSpPr>
        <p:spPr>
          <a:xfrm>
            <a:off x="4464000" y="219564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1" descr=""/>
          <p:cNvPicPr/>
          <p:nvPr/>
        </p:nvPicPr>
        <p:blipFill>
          <a:blip r:embed="rId1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60" name="AutoShape 2"/>
          <p:cNvCxnSpPr>
            <a:endCxn id="161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64577a"/>
            </a:solidFill>
            <a:round/>
            <a:tailEnd len="med" type="triangle" w="med"/>
          </a:ln>
        </p:spPr>
      </p:cxnSp>
      <p:sp>
        <p:nvSpPr>
          <p:cNvPr id="161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 rot="16140000">
            <a:off x="8525880" y="443700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5"/>
          <p:cNvCxnSpPr>
            <a:stCxn id="162" idx="0"/>
            <a:endCxn id="162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64" name="AutoShape 6"/>
          <p:cNvCxnSpPr>
            <a:endCxn id="162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65" name="Text Box 7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46:42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10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License">
    <vt:lpwstr>&lt;a href="http://templates.services.openoffice.org/bsd-license"&gt;BSD&lt;/a&gt;</vt:lpwstr>
  </property>
</Properties>
</file>