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4AE-53A5-4244-9A48-3A148C4E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740-8E31-42D8-8552-1BA04585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575-7C3C-4A68-BE58-7358B23F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966-4140-4C0B-BF06-80ED89EF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EB30-45D8-4556-8F5A-ECAD23CE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8488-D939-4F9A-B4A2-776ECB8B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D2E2-ACD5-4987-BBA8-D1BB787A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1EA9-8253-4BBC-8EE7-31104F84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178E-868E-4239-BC77-A27FF383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C5B6-D380-4C33-99C1-145D89CA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8F45-199B-4CCC-BEC3-E7F70AB2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614-04F8-46C4-99CB-417D3CB8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E875-43A4-40E8-829B-0119A45B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5324-5977-4A62-98C2-FBD2E3AA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FACA-BDF4-4C03-B70F-F75BA18D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7AD1-8253-4840-8CBF-23322D1D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AD4C-A0EF-4621-AA89-5A73F5E8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4EB-6386-4161-B640-5985C44D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14A-7692-4A2C-B63B-3DCEA9C7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91A-EF9B-4447-867B-7A2FCCFD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FE0-A44E-47BC-AAAA-D06124D0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E35-E5E8-454D-9585-27F6BEB3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11C-1C1D-4715-A9EB-222C01CA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46E-F4E4-40DF-B5E0-84E7E658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1AF4-7400-44F5-B1D1-7F39090B41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26B2-7987-4A70-92AA-5291EBB7407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AF65-11BC-4992-A947-D39F0AA012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圣诞快乐卡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1403640" y="642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283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44978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198"/>
          <p:cNvSpPr/>
          <p:nvPr/>
        </p:nvSpPr>
        <p:spPr>
          <a:xfrm>
            <a:off x="2411280" y="1268280"/>
            <a:ext cx="5061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2863-4BA4-4E9F-A717-4072327BFB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1854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64980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151992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2283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6498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58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