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95AD-9DF9-4891-AB5A-282AAA6E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9D7F-D3D9-4FBF-8066-9FC1319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B2FC-A7F8-4CFA-B696-0BE8733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D360B-8B2F-459E-98C5-F0A81D9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55490-5A62-4494-AB3B-8E05C5A1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5F77-A4E9-416A-9E05-556B090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1AA0-D00C-4381-BF13-6D3465A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0D269-FBA1-4264-940B-58378FF7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3029-278C-4498-B3AD-A0911F2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046B1-FD21-480E-B364-18AD7234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48A4-3B80-4E7B-B557-3982AE2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5E12-DDA1-4706-8D43-1C027AA8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CEB4-B3BE-46CC-AEF0-C488000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6E61C-E911-423C-B27F-6A0919F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68672-F210-4AA8-8679-3B169CC0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DAC8-51EA-41B8-9696-936D24A3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8AF2C-F206-4B61-9E16-8C3E165D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7FC67-EAFC-46A1-82B1-29D6100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22D70-AA3B-491E-A56C-51E39F1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C3D35-CBAF-4143-AB81-0C8C1D0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0E4F9-E3AD-4C3E-B4D9-A019D89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774A2-6E51-4255-827A-4CA6D26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63DA6-14A7-4D28-8A46-13D8FC06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A23D-19EA-46DF-A743-CB255118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6719-2A11-4C0B-8277-883B003A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B8EE-475A-4D83-9F67-A0ABC15E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22F4-193A-4458-8FD0-4951133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0343-F7EE-46D7-8EAA-FD786E9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9489B-866B-4FF1-B718-3FAE115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9E137-9365-42A1-831E-35942EC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C78B4-011C-455F-88DA-30265B5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B7C67-ED2D-4463-B530-A028E38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20ED-6103-4690-9D83-E59F097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37B7C-9292-484E-9B84-2E8944F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65B4C-7051-4FB7-B94B-5F7EEA69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6242-40E6-4C60-A4FC-AF25D2A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3CF2-7B0F-4B09-B389-B42C43E4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8EC88-CABF-4FB6-A6CD-F0D64B7E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D790C-6F6C-4AF9-B4F3-E7328DC9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C820F-AD32-40A6-900C-87AB3B91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48644-FE5C-4A38-A36C-F1A4027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F1711-5FC6-425D-BB53-CE62769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35F51-3702-4CC6-8BA1-885B578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07B23-E7C2-4333-BCED-F81B617C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33540-A77E-4B15-87FC-3A78E9F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D912F-0EAF-4119-9630-5AF50E0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79790-7E6E-4097-9229-6985C3A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52A43-93DC-46E3-AD83-A4F193A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1EACC-449E-4F75-A1C8-4994433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A36AD-33C1-489C-A1EB-B54D2761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DAC05-120C-4A02-94B7-C4C365DD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A3658-9C55-4C76-9966-E920E333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B064D-DECC-4199-A27D-6E0C69E8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1A4BF-8D88-4121-9EBE-6756E5DF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9E3DA-47A2-4586-BDD9-A10E0B1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AA02D-FA77-4519-875E-D0DAB4F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24F1-C852-44BC-8CDF-EE29AD2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5B358-AB72-4AE6-81AF-ED93558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0767A-9B5A-434C-8791-D3280DC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695AA-BAC1-4FA9-8156-6E802B7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3DADD-63E9-4729-B1F3-13293F9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F5EFE-629A-4B83-BD91-B1B553D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1BBD5-ED9D-4ADF-AAD8-FEB3B91A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46605-7EEE-4037-8BE4-626E17ED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FF9A3-4407-45DD-BFB8-5051D225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5CA38-8AAE-4796-BB30-3AFD09F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7898B-42D0-457C-8724-1B40425C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BD38-FFE9-4E30-A503-2C282508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4C3D4-84D2-43AA-9445-4A8B23C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77D55-6671-4C94-932A-E2B1865A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F91A6-4326-49F9-8134-A889527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35948-63CD-40E7-8CFE-7748B05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4A0EA-E245-43C5-8DE2-72F4E5A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F8B80-44D1-4E93-BC90-75ED001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DB7A7-EE1B-4BE5-A9E0-E62D734C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C3FF8-DAD1-401D-B54A-F3325C79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83F1C-600B-469F-B561-8A6C4830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4350A-606E-4408-9A7C-4CA2A6B5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982A4-B5C0-4484-8E91-F3CAF7F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24209-1079-4F3A-825B-30F8A8A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5C4B-BE9D-49EB-9F55-71E4E412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DFEEA-7157-409B-9724-66A73BA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551A-1B0B-490A-8857-40EE4D96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0C1F1-4B5D-4482-A01E-92DD019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1BBFE-B4EC-422E-9339-E4393440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E64E2-51CE-440D-8351-CD3B9379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5CA7-612E-488E-AD1A-F8043F3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8941-D6F2-468E-B157-614C56D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92D5-BC8E-4FA4-8E32-A9606EA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B570-DCA1-467C-B938-550A54D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B09C-631E-48F9-AFA2-A172FCB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A832-28D1-4D03-9479-E07F6E5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A844-C7AF-4FD0-9E7E-17D9F02B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B24E-1835-4AA4-9592-A81A311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060B-59D3-4CB1-8407-5242AC1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1EF5-2F7E-477D-A368-1A3BE84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4BE3-CAA9-420F-9ED0-8B9BFC0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83DB-A406-4DD1-9DCD-FF32D6C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2602-CD81-4F7E-8416-F2F2F52F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ECEA-E103-4EF4-BDC7-95700633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D3E0-D40E-4714-8EAC-D72E073F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CD64-E175-41BF-A4BF-BECFA82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954E-A35D-4382-87A9-B396F43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AD5E-8A19-43DE-BD9C-737BE2C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1C32-9564-4237-B641-6A3ECCD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12569-BF59-46BF-8F07-7564A95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D89E-576A-4CD3-9155-1B6CAB3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D866-DB91-4E03-AEB8-EB2CBC4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89F5-AE08-4C1C-BC65-A8FF58A2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55EC-A471-44C9-BCDE-CFBBC27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DDB5-6221-4E40-9DED-B268CC08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1A96-9800-404D-8995-2B9D1BF9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C74E-1EE4-4F6E-B0EF-E1831B5C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F6E8-DC5D-49DD-A7F8-3132FF7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465F-31F9-4767-ABCB-E5C9BEBF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C2F0-BBC4-429F-ADFC-B2BB5A87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DF3B-3801-4248-880E-476D2C5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131E-FA88-4411-8855-550AAFA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7C0C-D9D0-4AD9-8D9A-D9D3528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31DD-E665-4767-AACA-EE2FD23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0B21-AC8F-4718-BC75-0F59974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78E0-3B47-4DA3-B87E-EF1E3F8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C3D5-1951-480D-A063-5C13EA1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783A-5016-4C39-8CC9-20E875F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0758-97A4-4E47-919E-66929507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222A-DCEE-43A5-AF89-3ACB74D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C70F1-055D-4DB1-8727-D225451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DD1D-997E-41BB-A8AB-D632B02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DDB3-2A2E-40F8-BCBD-34BEBDC7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2BAC-231D-49E5-9EE9-80CD29B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3CEE-880E-4B81-AC4D-759B9E21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AEC8-F36C-4E5D-B4F3-4AF5853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AADC-F230-4420-AC4F-AA7C8E3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EF57-6B5A-407A-A60A-7A3910D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18F9-0B93-4464-89D8-B3EC550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19C1-E83E-42D3-A4F6-2E1E55BB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7AEB-A230-48A3-A6E9-01CEE28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D6A4-6EE7-4BD9-B992-9DE5C16D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8FA1-7619-4C97-908E-EDE7067C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36B2-A780-460E-AC12-1ED2D070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95BA-D961-4EB9-8AE0-59263CA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FF932-DED7-4AC8-A81B-C1CEEA05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78C0-FF70-48FB-A10D-EBF012CE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3E37C-4AF7-42EB-8E0C-4B5EA6D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DA1C-1BD4-44B0-8DAD-E58D0E3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4E28-7D1C-4523-9F75-E22A909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2236-563B-4209-B781-F78984E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9C94-6678-4C2F-8AFC-D8AAE28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7E74-CAB9-452B-B434-E3F5638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CA3A-6854-44A2-BA1B-334E8F0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DEA5-CB9F-4C75-8F26-5F0AC6D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58DA9-44F8-4DC6-8D02-EC043CBA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BA5E2-6451-4F61-BFC1-89AB419C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CC1B-50B2-4873-8B2C-DBCE87B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5100-3906-40EA-A17E-ED828C10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4C135-FC13-4443-9C23-48C9A914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887F-8B23-48C4-84F1-AD7E695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C11E-BABB-4D63-A447-59A1DC7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0177-CC1C-4EB7-9CA5-06F2401B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25438-1FB5-49FF-B715-A5A2A8D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4269-E106-4A68-912E-F9D7DAD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A113-88DE-4F33-9F78-3FEC0CD7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87FE-ACDE-4B97-BBE6-807388A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555AD-DBF4-4FA8-857B-0E8F1443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674D-9A7E-4B22-8946-770C3111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246AD-668D-4194-9266-6CC29330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5E403-BAE1-4650-B91D-5A90975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91919-249A-41C7-80AE-6F81E83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577-2B78-4D2E-91FA-71B7B57A25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FB60-CDC3-4332-BC8A-630DD198D6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D37-3393-4D85-8C4C-87B9588E36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110-0059-4217-B1C8-7E06AE438C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F25-1F78-4382-A7E6-540810F096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D083-65DB-4F36-BE97-AE85C5B105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40D-D9D9-421D-B7DB-616209853E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67F0-0A83-4942-A439-B6085DBDC9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040-B294-47A2-B0F4-64FFE3DAB2F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4B8-808A-4A21-B476-B8D87B6617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9AD-ED85-4F15-B697-A3F276537D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C215-B961-40A0-8CB1-CF49E08D77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5FB-F254-47EB-AEFF-CD0802703CEF}" type="datetime">
              <a:rPr b="0" lang="ru-RU" sz="1400" spc="-1" strike="noStrike">
                <a:solidFill>
                  <a:srgbClr val="ffffff"/>
                </a:solidFill>
                <a:latin typeface="Arial"/>
                <a:ea typeface="宋体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DA6-520B-4D87-8922-E1712DB9DD7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3001-7BC0-45A7-B5D8-5C06D0AEDF2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21A-CE92-4B07-80A7-8FD199B156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BDD-F643-4E52-B837-E5F5C6C6C89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069-B6D8-4448-966B-A29F4CABB4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75F-A660-4241-A64B-8E01E327F2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A0A-1921-42AD-8FBE-662643FB61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FF2-EB4D-415E-957F-10820F69EF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E83-66CC-4966-AA96-6AAA49A9FCF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7A7-5A72-4945-8160-E5F76DB61E2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23A-AB3D-4B50-ADBB-EDACB991FE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4CE9-41D6-4A50-AD2F-B86254B59C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0330-73FC-429C-8196-133A548367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86C-DA22-4825-8327-2AF6D0BA2C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502-C04E-4400-8072-ACDB6FA44F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0920" y="1125360"/>
            <a:ext cx="684216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圣诞夜晚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文本框 15362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sketbal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9" name="文本框 17411"/>
          <p:cNvSpPr/>
          <p:nvPr/>
        </p:nvSpPr>
        <p:spPr>
          <a:xfrm>
            <a:off x="900000" y="1989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47d79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47d79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A4B-42FD-429D-9F7B-374C604E883B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0920" y="1267920"/>
            <a:ext cx="640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cript"/>
                <a:ea typeface="宋体"/>
              </a:rPr>
              <a:t>Merry Christmas </a:t>
            </a:r>
            <a:r>
              <a:rPr b="1" lang="zh-CN" sz="3600" spc="-1" strike="noStrike">
                <a:solidFill>
                  <a:srgbClr val="ffffff"/>
                </a:solidFill>
                <a:latin typeface="Segoe Script"/>
                <a:ea typeface="宋体"/>
              </a:rPr>
              <a:t>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7Z</dcterms:modified>
  <cp:revision>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