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7C7D-8890-46A7-B55C-81A56F56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C1C-40DA-4911-A232-246D89B4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DF5-1C61-4B5E-A9E8-5F9FB95B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32F9-78EE-4F59-BEAF-85206CA6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BDD6-E6D1-4310-8EC3-C5491DC7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23E6-CB81-41D2-B1F3-446B60AB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5912-7443-4EA4-B0F7-78EB4C8D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D21D-9312-42B6-8289-F96A71B5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941E-6700-45FD-BF09-0C78AFD3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8F4E-926E-414C-9318-ED2E9775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FCED-46F9-4D2B-B0F2-9DA33BAF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B3B6-EDCA-4CA1-BCDC-83E172CE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FC51-FC1B-4183-9513-6BB4E085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941E-4A9E-4B79-B813-70EADD89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2679-248E-43B3-8B69-BED09B6E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BF56-7754-4B80-91B3-E5C16D6B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9854-625D-454C-9221-1A5765F2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3713-AB63-47C6-82D5-07C8FF2A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8045-852A-4621-90F8-07656C2C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DE0-268C-4D3E-A5A8-F8FC12F4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85BF-81E5-448E-991E-5C9D565E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D6FC-8946-498E-88B4-53665112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083A-884B-4DD9-B36D-68FF6310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C89-E8E2-411E-A755-A76F7421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294D-1981-4EF0-993B-91F2E9D7749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B340-5E94-4A36-8BFD-E272E9B85B9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1FDB-0794-47FB-9F4B-A365DD68931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3060-BC66-4807-9E76-A95BABE3B7C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357200" y="221472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1785960" y="31431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卡通可爱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幻灯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"/>
          <p:cNvSpPr/>
          <p:nvPr/>
        </p:nvSpPr>
        <p:spPr>
          <a:xfrm>
            <a:off x="1403280" y="981000"/>
            <a:ext cx="724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史迪仔动漫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500040" y="142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1568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4069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66409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8"/>
          <p:cNvSpPr/>
          <p:nvPr/>
        </p:nvSpPr>
        <p:spPr>
          <a:xfrm>
            <a:off x="948600" y="142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1571760" y="3500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9"/>
          <p:cNvSpPr/>
          <p:nvPr/>
        </p:nvSpPr>
        <p:spPr>
          <a:xfrm>
            <a:off x="6069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45691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8"/>
          <p:cNvSpPr/>
          <p:nvPr/>
        </p:nvSpPr>
        <p:spPr>
          <a:xfrm>
            <a:off x="123408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3571920" y="4500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9"/>
          <p:cNvSpPr/>
          <p:nvPr/>
        </p:nvSpPr>
        <p:spPr>
          <a:xfrm>
            <a:off x="3854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/>
          <p:cNvSpPr/>
          <p:nvPr/>
        </p:nvSpPr>
        <p:spPr>
          <a:xfrm>
            <a:off x="37836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8"/>
          <p:cNvSpPr/>
          <p:nvPr/>
        </p:nvSpPr>
        <p:spPr>
          <a:xfrm>
            <a:off x="1234080" y="142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2357280" y="3571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9"/>
          <p:cNvSpPr/>
          <p:nvPr/>
        </p:nvSpPr>
        <p:spPr>
          <a:xfrm>
            <a:off x="56408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/>
          <p:cNvSpPr/>
          <p:nvPr/>
        </p:nvSpPr>
        <p:spPr>
          <a:xfrm>
            <a:off x="42120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42120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8198"/>
          <p:cNvSpPr/>
          <p:nvPr/>
        </p:nvSpPr>
        <p:spPr>
          <a:xfrm>
            <a:off x="736560" y="99684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8"/>
          <p:cNvSpPr/>
          <p:nvPr/>
        </p:nvSpPr>
        <p:spPr>
          <a:xfrm>
            <a:off x="101988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/>
          <p:cNvSpPr/>
          <p:nvPr/>
        </p:nvSpPr>
        <p:spPr>
          <a:xfrm>
            <a:off x="2643120" y="2786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9"/>
          <p:cNvSpPr/>
          <p:nvPr/>
        </p:nvSpPr>
        <p:spPr>
          <a:xfrm>
            <a:off x="54266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/>
          <p:cNvSpPr/>
          <p:nvPr/>
        </p:nvSpPr>
        <p:spPr>
          <a:xfrm>
            <a:off x="26406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5212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4217-EFA1-41E3-8359-7766253431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8"/>
          <p:cNvSpPr/>
          <p:nvPr/>
        </p:nvSpPr>
        <p:spPr>
          <a:xfrm>
            <a:off x="109116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/>
          <p:cNvSpPr/>
          <p:nvPr/>
        </p:nvSpPr>
        <p:spPr>
          <a:xfrm>
            <a:off x="428616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"/>
          <p:cNvSpPr/>
          <p:nvPr/>
        </p:nvSpPr>
        <p:spPr>
          <a:xfrm>
            <a:off x="70696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/>
          <p:cNvSpPr/>
          <p:nvPr/>
        </p:nvSpPr>
        <p:spPr>
          <a:xfrm>
            <a:off x="2211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59Z</dcterms:modified>
  <cp:revision>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