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35F-3837-4906-B9D0-432F13C3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6FA-8D15-4917-80D0-AFCC462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9C8-4920-4BF6-91AA-35579B88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6A2-1FC3-4D6E-8850-453AC7E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FE22-CE38-47B4-9F58-43579A09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C25-CEC8-459B-8BCE-1D8B4B9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2B1-D73E-4343-A4F2-911C54A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F250-505A-43D6-9E58-C6FFD6E6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39DA-5ECD-4309-8B92-F90128C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9796-232D-4CF2-A3AF-149831E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6699-DD24-48C6-ADDB-5B72E74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E0B-EBD3-4A4E-BC0C-CB18594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DB84-4255-4C7A-8EEC-31E37D8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77DE-E082-406D-9BEC-3B3CE90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96A-948A-4B4D-B919-ABEB309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3B52-E0A0-4AEC-8A2D-DCDE4059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EAE-E75C-4FA3-B308-A95075BF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095-A114-431E-9DE0-FC8F358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C1D-AD8B-4F21-BBE9-B444A64D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D9D-89E9-45C6-94D1-CCDD012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8DF-C3D4-4C5A-BAEE-AFD67F2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E48-2466-4427-B9E6-73C868E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20B-A14F-4E9D-A82D-F231B78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102-3022-48D2-A309-FFFD28F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260-DC0E-4469-BB57-19BDD1344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E2BD-79FF-4550-9683-73CF0C7584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391-D8C0-4519-8A6E-13B1C2A6EA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少儿故事花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8441" descr="girl3"/>
          <p:cNvPicPr/>
          <p:nvPr/>
        </p:nvPicPr>
        <p:blipFill>
          <a:blip r:embed="rId2"/>
          <a:stretch/>
        </p:blipFill>
        <p:spPr>
          <a:xfrm>
            <a:off x="5724360" y="404640"/>
            <a:ext cx="1511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动作按钮: 后退或前一项 18442"/>
          <p:cNvSpPr/>
          <p:nvPr/>
        </p:nvSpPr>
        <p:spPr>
          <a:xfrm>
            <a:off x="8172360" y="3645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E4DC-ED93-40F8-8EDF-C4FBFE2186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9460"/>
          <p:cNvSpPr/>
          <p:nvPr/>
        </p:nvSpPr>
        <p:spPr>
          <a:xfrm>
            <a:off x="1116000" y="220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9463" descr="m1"/>
          <p:cNvPicPr/>
          <p:nvPr/>
        </p:nvPicPr>
        <p:blipFill>
          <a:blip r:embed="rId2"/>
          <a:stretch/>
        </p:blipFill>
        <p:spPr>
          <a:xfrm>
            <a:off x="6516720" y="0"/>
            <a:ext cx="1614600" cy="1727280"/>
          </a:xfrm>
          <a:prstGeom prst="rect">
            <a:avLst/>
          </a:prstGeom>
          <a:ln w="0">
            <a:noFill/>
          </a:ln>
        </p:spPr>
      </p:pic>
      <p:sp>
        <p:nvSpPr>
          <p:cNvPr id="92" name="动作按钮: 后退或前一项 19464"/>
          <p:cNvSpPr/>
          <p:nvPr/>
        </p:nvSpPr>
        <p:spPr>
          <a:xfrm>
            <a:off x="8101080" y="595008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6:49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0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