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4809-0E69-4A9A-ADAA-5945423B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8443-2BFB-4981-9B60-9DCF14E2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817-CFDE-4F6C-93DE-15960178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AFB-CFEC-438F-B4DA-E84A91E6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B0D2-218B-4E9C-8D2D-0458EFB6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349-B4AD-4BFA-9BFF-32524863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B36-F198-49A6-9BDA-620A6C9B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8CF-89D8-4EA2-B569-C91D9D39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37F-D7AB-4AFF-9017-F16FEC35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31D0-AC69-496E-804F-BC3F0612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E4ED-D347-4BD8-9A96-C0A19B70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F5EB-A0AE-4690-BD0A-72BD07D0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2DF5-AEE6-4AAE-BB02-40918D04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D3C3-64C5-456E-8365-1E598634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43D4-A881-4360-8860-26B4ABF7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9B89-4A17-48E9-9C69-6F0030CC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8D6B-B266-4013-9792-AD6509F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1FB1-BE5A-45CA-94B9-E13E3F65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AA9-E96E-4EAC-A919-F1013BF8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2C7C-E75C-49C4-B4B6-0CAB353F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3DC4-4219-4526-AE59-11212697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CE1D-6A48-4E5E-BA38-DD13663D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974-9030-47EB-BF4D-DE0801A2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16F-61E3-49F1-A175-51386E02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3043-1A0E-4181-9163-71A56AACA175}" type="datetime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BADE-0DD5-4DDF-BF7B-87B5816F5F0F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C41D-E44E-46CA-95B6-317E04F14A9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54E8-6917-4572-9A0E-86EE2A3AC4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95748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  <a:ea typeface="宋体"/>
              </a:rPr>
              <a:t>Name of Presentation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4498560"/>
            <a:ext cx="6400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  <a:ea typeface="宋体"/>
              </a:rPr>
              <a:t>Company Name</a:t>
            </a:r>
            <a:endParaRPr b="0" lang="en-US" sz="2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6" name="文本框 7171"/>
          <p:cNvSpPr/>
          <p:nvPr/>
        </p:nvSpPr>
        <p:spPr>
          <a:xfrm>
            <a:off x="34920" y="473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7172"/>
          <p:cNvSpPr/>
          <p:nvPr/>
        </p:nvSpPr>
        <p:spPr>
          <a:xfrm>
            <a:off x="2531880" y="196920"/>
            <a:ext cx="51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适合厨师自我介绍的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050560" y="206280"/>
            <a:ext cx="6635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050560" y="1200240"/>
            <a:ext cx="66358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  <a:ea typeface="宋体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0560" y="206280"/>
            <a:ext cx="6635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050560" y="1200240"/>
            <a:ext cx="66358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  <a:ea typeface="宋体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2" name="文本框 9219"/>
          <p:cNvSpPr/>
          <p:nvPr/>
        </p:nvSpPr>
        <p:spPr>
          <a:xfrm>
            <a:off x="1547640" y="3508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7D91-530F-4FFB-A8FF-96C7DF264B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206280"/>
            <a:ext cx="74883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000" y="1200240"/>
            <a:ext cx="74883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  <a:ea typeface="宋体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22:18:16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4:4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