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360-A7A2-4F78-BBCF-AFC96D9F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6B7-9A09-4047-9209-1315E4F4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599-78AB-4787-AEB4-676563B2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EF1-CCD7-4B20-BA4B-CC57D017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3F80-5462-42F7-9572-418F9DB2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8B9A-A26C-4974-A687-593475F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AACD-76DA-4C37-98D8-8485E7A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BFA4-EDEC-4023-A9CE-50EA87AF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02E0-7BD8-4226-920E-46EC7904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7774-A88F-4B44-99B5-F039B915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74FE-B1D1-4F15-828A-FA75972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1A2-5CF0-40E0-A68C-51F2A55B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A86E-7ABE-4CA0-9D5C-23A20636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7321-1F51-4656-A03A-3B7A8DE7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5C30-7D7B-4EA4-AF75-0775A50A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3B0B-7C86-4E82-8249-EF66B056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72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016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72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016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BFEC-B998-4A7D-8FE8-018189B9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2687-B90C-4736-8C56-379B8970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7069-C6E8-4ABA-BA2A-7AAD8D00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799A-D708-43CB-A483-17990132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FEB6-D8FD-4F08-8693-D0A89660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6AFF-E038-4269-8130-84ABF33D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C17-24E5-4FE6-84C9-094DA05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BB1B-3986-4C2F-8ECC-A1093186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67DE-C3EE-44B2-B09B-B125149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8757-35B8-4CFA-9E2B-2D2CA305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FCDE-D30A-4EEB-9D55-DEF50676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F7CB-B24B-45E5-93C5-801929DE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8EBA-751E-41FB-B6CB-281B14D7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772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016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52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772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016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E292-05FF-49C9-A929-56A8D604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B37-EDE7-46DC-B133-0440EEE5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935-1091-4D39-B46E-0FE68321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4DB-00E7-4937-8AE0-C81BA5C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66D-19C0-488C-904A-2F20D70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813-7BE6-4B3D-9F99-B516A87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BC8-EC74-4ABA-AAB4-FC6AA38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1647-39C4-495D-8E55-64E96D0A4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990D-E0D9-4CC3-8593-C69DA6F3F1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096A-F61F-4D7D-AF83-A28BB9B47B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D334-B40C-4EBD-A8DD-392E4D67E4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09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2298600" y="404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水墨树创意植树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122"/>
          <p:cNvSpPr/>
          <p:nvPr/>
        </p:nvSpPr>
        <p:spPr>
          <a:xfrm>
            <a:off x="682560" y="314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B4BB-C0C5-45E9-AD67-1C6C233B1E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7:13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25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