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D11-A203-4923-8880-785DB63B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3B4-4715-47B8-B0C6-5F4E6279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2D2-97F6-4B3D-A5CA-9451CED6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439-F3CD-4550-B02B-87D8FB0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4384-0CEB-4ACA-8E9F-F14407F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90E6-B1D5-4D5C-935D-9A290E9D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44C5-8462-487D-9FFD-BE86F8DC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C88B-E659-4ED9-82C1-7F18092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002A-77B9-486E-BBD7-4756E5CF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EB2B-F68D-4B73-B3C2-173635B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13C-41EC-4D25-A499-F69E383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DC7-96A0-45D6-B6A4-F1BBA46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F441-691E-4884-9FF9-A161E0E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CACF-FA37-47E3-8A3C-2FCA6345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85DB-13E6-4BAE-927B-C860C20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E111-16F3-49EE-8CCC-E68041B7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128B-7C22-40E6-9153-EA40D34E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32A-C341-4B11-B2D5-D0C117D7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AFB-1972-4979-B6EE-01DA890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E79-6D63-439A-8B17-0966342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A26-7815-41E0-984E-C38703B4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406-9A2B-48F6-91FB-21302A8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036-6F11-4C0F-AEF1-0A5BD91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18E-2F04-4FE4-8640-8452F5B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B18E-FF63-43BE-846D-DCBC116C30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5D4-0E07-479C-849B-9B02FBAF355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ACB-56F0-46D7-B226-F8C9687072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500280" y="45720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青年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71920" y="5072040"/>
            <a:ext cx="3000240" cy="1440"/>
            <a:chOff x="3571920" y="5072040"/>
            <a:chExt cx="3000240" cy="1440"/>
          </a:xfrm>
        </p:grpSpPr>
        <p:sp>
          <p:nvSpPr>
            <p:cNvPr id="85" name="直接连接符 9"/>
            <p:cNvSpPr/>
            <p:nvPr/>
          </p:nvSpPr>
          <p:spPr>
            <a:xfrm>
              <a:off x="3571920" y="5072040"/>
              <a:ext cx="300024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571920" y="5072040"/>
              <a:ext cx="3000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08000" y="5877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927080" y="189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文艺风五四青年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428000" y="284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4428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半闭框 9"/>
          <p:cNvSpPr/>
          <p:nvPr/>
        </p:nvSpPr>
        <p:spPr>
          <a:xfrm>
            <a:off x="3362400" y="207180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半闭框 10"/>
          <p:cNvSpPr/>
          <p:nvPr/>
        </p:nvSpPr>
        <p:spPr>
          <a:xfrm flipH="1" flipV="1">
            <a:off x="3361680" y="207108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半闭框 11"/>
          <p:cNvSpPr/>
          <p:nvPr/>
        </p:nvSpPr>
        <p:spPr>
          <a:xfrm>
            <a:off x="3362400" y="278604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半闭框 12"/>
          <p:cNvSpPr/>
          <p:nvPr/>
        </p:nvSpPr>
        <p:spPr>
          <a:xfrm flipH="1" flipV="1">
            <a:off x="3361680" y="2785320"/>
            <a:ext cx="423720" cy="423720"/>
          </a:xfrm>
          <a:custGeom>
            <a:avLst/>
            <a:gdLst/>
            <a:ahLst/>
            <a:rect l="l" t="t" r="r" b="b"/>
            <a:pathLst>
              <a:path w="668" h="667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半闭框 13"/>
          <p:cNvSpPr/>
          <p:nvPr/>
        </p:nvSpPr>
        <p:spPr>
          <a:xfrm>
            <a:off x="3362400" y="3505320"/>
            <a:ext cx="423720" cy="423720"/>
          </a:xfrm>
          <a:custGeom>
            <a:avLst/>
            <a:gdLst/>
            <a:ahLst/>
            <a:rect l="l" t="t" r="r" b="b"/>
            <a:pathLst>
              <a:path w="668" h="668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8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半闭框 14"/>
          <p:cNvSpPr/>
          <p:nvPr/>
        </p:nvSpPr>
        <p:spPr>
          <a:xfrm flipH="1" flipV="1">
            <a:off x="3361680" y="3504600"/>
            <a:ext cx="423720" cy="423720"/>
          </a:xfrm>
          <a:custGeom>
            <a:avLst/>
            <a:gdLst/>
            <a:ahLst/>
            <a:rect l="l" t="t" r="r" b="b"/>
            <a:pathLst>
              <a:path w="668" h="668">
                <a:moveTo>
                  <a:pt x="0" y="0"/>
                </a:moveTo>
                <a:lnTo>
                  <a:pt x="668" y="0"/>
                </a:lnTo>
                <a:lnTo>
                  <a:pt x="445" y="222"/>
                </a:lnTo>
                <a:lnTo>
                  <a:pt x="222" y="222"/>
                </a:lnTo>
                <a:lnTo>
                  <a:pt x="222" y="445"/>
                </a:lnTo>
                <a:lnTo>
                  <a:pt x="0" y="668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剪去对角的矩形 12"/>
          <p:cNvSpPr/>
          <p:nvPr/>
        </p:nvSpPr>
        <p:spPr>
          <a:xfrm>
            <a:off x="1428840" y="2214720"/>
            <a:ext cx="1571400" cy="157140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剪去对角的矩形 13"/>
          <p:cNvSpPr/>
          <p:nvPr/>
        </p:nvSpPr>
        <p:spPr>
          <a:xfrm>
            <a:off x="3143160" y="2286000"/>
            <a:ext cx="157176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剪去对角的矩形 14"/>
          <p:cNvSpPr/>
          <p:nvPr/>
        </p:nvSpPr>
        <p:spPr>
          <a:xfrm>
            <a:off x="4857840" y="2357280"/>
            <a:ext cx="157140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剪去对角的矩形 15"/>
          <p:cNvSpPr/>
          <p:nvPr/>
        </p:nvSpPr>
        <p:spPr>
          <a:xfrm>
            <a:off x="6572160" y="2428920"/>
            <a:ext cx="1571760" cy="1571760"/>
          </a:xfrm>
          <a:custGeom>
            <a:avLst/>
            <a:gdLst/>
            <a:ahLst/>
            <a:rect l="l" t="t" r="r" b="b"/>
            <a:pathLst>
              <a:path w="2475" h="2475">
                <a:moveTo>
                  <a:pt x="1237" y="0"/>
                </a:moveTo>
                <a:lnTo>
                  <a:pt x="2062" y="0"/>
                </a:lnTo>
                <a:lnTo>
                  <a:pt x="2475" y="412"/>
                </a:lnTo>
                <a:lnTo>
                  <a:pt x="2475" y="1237"/>
                </a:lnTo>
                <a:lnTo>
                  <a:pt x="1237" y="2475"/>
                </a:lnTo>
                <a:lnTo>
                  <a:pt x="412" y="2475"/>
                </a:lnTo>
                <a:lnTo>
                  <a:pt x="0" y="2062"/>
                </a:lnTo>
                <a:lnTo>
                  <a:pt x="0" y="1237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140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855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426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1640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对角圆角矩形 11"/>
          <p:cNvSpPr/>
          <p:nvPr/>
        </p:nvSpPr>
        <p:spPr>
          <a:xfrm>
            <a:off x="2500200" y="2719440"/>
            <a:ext cx="221004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对角圆角矩形 12"/>
          <p:cNvSpPr/>
          <p:nvPr/>
        </p:nvSpPr>
        <p:spPr>
          <a:xfrm>
            <a:off x="5143680" y="2790720"/>
            <a:ext cx="220968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对角圆角矩形 23"/>
          <p:cNvSpPr/>
          <p:nvPr/>
        </p:nvSpPr>
        <p:spPr>
          <a:xfrm flipV="1" rot="16200000">
            <a:off x="3789360" y="4002120"/>
            <a:ext cx="2209680" cy="930240"/>
          </a:xfrm>
          <a:custGeom>
            <a:avLst/>
            <a:gdLst/>
            <a:ahLst/>
            <a:rect l="l" t="t" r="r" b="b"/>
            <a:pathLst>
              <a:path w="3480" h="1465">
                <a:moveTo>
                  <a:pt x="732" y="0"/>
                </a:moveTo>
                <a:lnTo>
                  <a:pt x="2747" y="0"/>
                </a:lnTo>
                <a:cubicBezTo>
                  <a:pt x="3151" y="0"/>
                  <a:pt x="3479" y="328"/>
                  <a:pt x="3479" y="732"/>
                </a:cubicBezTo>
                <a:lnTo>
                  <a:pt x="3480" y="732"/>
                </a:lnTo>
                <a:cubicBezTo>
                  <a:pt x="3480" y="1136"/>
                  <a:pt x="3152" y="1464"/>
                  <a:pt x="2748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对角圆角矩形 24"/>
          <p:cNvSpPr/>
          <p:nvPr/>
        </p:nvSpPr>
        <p:spPr>
          <a:xfrm flipV="1" rot="16200000">
            <a:off x="3858120" y="1503360"/>
            <a:ext cx="2211480" cy="930240"/>
          </a:xfrm>
          <a:custGeom>
            <a:avLst/>
            <a:gdLst/>
            <a:ahLst/>
            <a:rect l="l" t="t" r="r" b="b"/>
            <a:pathLst>
              <a:path w="3482" h="1465">
                <a:moveTo>
                  <a:pt x="732" y="0"/>
                </a:moveTo>
                <a:lnTo>
                  <a:pt x="2749" y="0"/>
                </a:lnTo>
                <a:cubicBezTo>
                  <a:pt x="3153" y="0"/>
                  <a:pt x="3481" y="328"/>
                  <a:pt x="3481" y="732"/>
                </a:cubicBezTo>
                <a:lnTo>
                  <a:pt x="3482" y="732"/>
                </a:lnTo>
                <a:cubicBezTo>
                  <a:pt x="3482" y="1136"/>
                  <a:pt x="3154" y="1464"/>
                  <a:pt x="2750" y="1464"/>
                </a:cubicBezTo>
                <a:lnTo>
                  <a:pt x="732" y="1465"/>
                </a:lnTo>
                <a:cubicBezTo>
                  <a:pt x="328" y="1465"/>
                  <a:pt x="0" y="1137"/>
                  <a:pt x="0" y="733"/>
                </a:cubicBezTo>
                <a:lnTo>
                  <a:pt x="0" y="732"/>
                </a:lnTo>
                <a:cubicBezTo>
                  <a:pt x="0" y="328"/>
                  <a:pt x="328" y="0"/>
                  <a:pt x="732" y="0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069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12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426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剪去同侧角的矩形 10"/>
          <p:cNvSpPr/>
          <p:nvPr/>
        </p:nvSpPr>
        <p:spPr>
          <a:xfrm>
            <a:off x="2643120" y="3213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剪去同侧角的矩形 11"/>
          <p:cNvSpPr/>
          <p:nvPr/>
        </p:nvSpPr>
        <p:spPr>
          <a:xfrm>
            <a:off x="4965840" y="324972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剪去同侧角的矩形 12"/>
          <p:cNvSpPr/>
          <p:nvPr/>
        </p:nvSpPr>
        <p:spPr>
          <a:xfrm flipH="1" flipV="1">
            <a:off x="4965840" y="927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剪去同侧角的矩形 13"/>
          <p:cNvSpPr/>
          <p:nvPr/>
        </p:nvSpPr>
        <p:spPr>
          <a:xfrm flipH="1" flipV="1">
            <a:off x="2643120" y="927000"/>
            <a:ext cx="2108160" cy="2108160"/>
          </a:xfrm>
          <a:custGeom>
            <a:avLst/>
            <a:gdLst/>
            <a:ahLst/>
            <a:rect l="l" t="t" r="r" b="b"/>
            <a:pathLst>
              <a:path w="3320" h="3320">
                <a:moveTo>
                  <a:pt x="553" y="0"/>
                </a:moveTo>
                <a:lnTo>
                  <a:pt x="2766" y="0"/>
                </a:lnTo>
                <a:lnTo>
                  <a:pt x="3320" y="553"/>
                </a:lnTo>
                <a:lnTo>
                  <a:pt x="3320" y="3320"/>
                </a:lnTo>
                <a:lnTo>
                  <a:pt x="3320" y="3320"/>
                </a:lnTo>
                <a:lnTo>
                  <a:pt x="0" y="3320"/>
                </a:lnTo>
                <a:lnTo>
                  <a:pt x="0" y="3320"/>
                </a:lnTo>
                <a:lnTo>
                  <a:pt x="0" y="553"/>
                </a:ln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8500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549972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5571000" y="1927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3213720" y="1855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十字形 12"/>
          <p:cNvSpPr/>
          <p:nvPr/>
        </p:nvSpPr>
        <p:spPr>
          <a:xfrm>
            <a:off x="928800" y="1428840"/>
            <a:ext cx="7286400" cy="4071960"/>
          </a:xfrm>
          <a:prstGeom prst="plus">
            <a:avLst>
              <a:gd name="adj" fmla="val 50000"/>
            </a:avLst>
          </a:prstGeom>
          <a:solidFill>
            <a:srgbClr val="fa494a"/>
          </a:solidFill>
          <a:ln w="25560">
            <a:solidFill>
              <a:srgbClr val="f8830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1425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7125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6640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1497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42138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20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77CA-2776-48F5-A25C-5A97606802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波形 12"/>
          <p:cNvSpPr/>
          <p:nvPr/>
        </p:nvSpPr>
        <p:spPr>
          <a:xfrm>
            <a:off x="2071800" y="167796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波形 13"/>
          <p:cNvSpPr/>
          <p:nvPr/>
        </p:nvSpPr>
        <p:spPr>
          <a:xfrm>
            <a:off x="4857840" y="1820880"/>
            <a:ext cx="3274920" cy="153684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840"/>
              <a:gd name="textAreaBottom" fmla="*/ 1116720 h 153684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波形 14"/>
          <p:cNvSpPr/>
          <p:nvPr/>
        </p:nvSpPr>
        <p:spPr>
          <a:xfrm>
            <a:off x="4357800" y="3249720"/>
            <a:ext cx="3274920" cy="153648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883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波形 15"/>
          <p:cNvSpPr/>
          <p:nvPr/>
        </p:nvSpPr>
        <p:spPr>
          <a:xfrm>
            <a:off x="1500120" y="3106800"/>
            <a:ext cx="3274920" cy="1536480"/>
          </a:xfrm>
          <a:custGeom>
            <a:avLst/>
            <a:gdLst>
              <a:gd name="textAreaLeft" fmla="*/ 654840 w 3274920"/>
              <a:gd name="textAreaRight" fmla="*/ 3930120 w 3274920"/>
              <a:gd name="textAreaTop" fmla="*/ 420120 h 1536480"/>
              <a:gd name="textAreaBottom" fmla="*/ 1116360 h 1536480"/>
            </a:gdLst>
            <a:ahLst/>
            <a:rect l="textAreaLeft" t="textAreaTop" r="textAreaRight" b="textAreaBottom"/>
            <a:pathLst>
              <a:path w="21600" h="21600">
                <a:moveTo>
                  <a:pt x="4320" y="2953"/>
                </a:moveTo>
                <a:cubicBezTo>
                  <a:pt x="9360" y="-7508"/>
                  <a:pt x="16560" y="13414"/>
                  <a:pt x="21600" y="2953"/>
                </a:cubicBezTo>
                <a:lnTo>
                  <a:pt x="17280" y="18647"/>
                </a:lnTo>
                <a:cubicBezTo>
                  <a:pt x="12240" y="29108"/>
                  <a:pt x="5040" y="8186"/>
                  <a:pt x="0" y="18647"/>
                </a:cubicBezTo>
                <a:close/>
              </a:path>
            </a:pathLst>
          </a:custGeom>
          <a:solidFill>
            <a:srgbClr val="fa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5569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4Z</dcterms:modified>
  <cp:revision>2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