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3F31-BAA8-46D6-9CAB-7B582CAAE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208A-0C6E-4FD9-9717-98CEDCFB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7647-AF0D-48E9-8EE4-1CE5611D4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3789-9E66-482A-8529-F67A6F4F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DFC6-6962-4CF0-932A-038D97049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99F2-8EFD-4644-926A-BA59B8A0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AB8A-B3F8-486C-96E8-887A7169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2CFA-9AD4-460B-91FF-849DA3E2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8428-2849-4CBF-9C3D-1BDDCEAF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EBCE-7A60-4ED7-9816-FAA45BE6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2770-659B-4EFC-ACCD-E8874F43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1320-848B-4B90-9353-68FF42E7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EF48-15FB-4576-8763-4766900B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7F8E-8C68-4E87-9829-32F90F01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57DC-F103-419A-901B-74CCB492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C5BB-53F0-41CF-8994-501AE1427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CE24-B7B8-4CE0-AAA2-7ACD4926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0EB0-5C87-48F0-AFDA-961A255C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6CF9-37D6-4AD0-9BE4-4B166BEA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2930-9D99-4F8F-AA95-BFD5F322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2AA6-E7F0-439F-BDB3-526333DB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D2CF-0FE9-4391-91BB-A3AC2484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F63A-6C09-42B2-8581-39707E65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C8C8-872E-48AF-A530-E78226F0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D37D-2748-4BA0-908A-8B88988E5DA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BB76-E1E4-437E-8E0D-E4C7A69CDC7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340D-5F61-403E-905C-A137A6B88ED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E25F-05C5-40E7-91A5-C74EFE2516F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jieri/chunjie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9"/>
          <p:cNvSpPr/>
          <p:nvPr/>
        </p:nvSpPr>
        <p:spPr>
          <a:xfrm>
            <a:off x="179280" y="4656240"/>
            <a:ext cx="22003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</a:t>
            </a:r>
            <a:r>
              <a:rPr b="0" lang="en-US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网 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jieri/chunjie/</a:t>
            </a:r>
            <a:r>
              <a:rPr b="0" lang="en-US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3" descr="4.png"/>
          <p:cNvPicPr/>
          <p:nvPr/>
        </p:nvPicPr>
        <p:blipFill>
          <a:blip r:embed="rId2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4" descr="12.png"/>
          <p:cNvPicPr/>
          <p:nvPr/>
        </p:nvPicPr>
        <p:blipFill>
          <a:blip r:embed="rId3"/>
          <a:stretch/>
        </p:blipFill>
        <p:spPr>
          <a:xfrm>
            <a:off x="3951360" y="1816200"/>
            <a:ext cx="5192640" cy="3327480"/>
          </a:xfrm>
          <a:prstGeom prst="rect">
            <a:avLst/>
          </a:prstGeom>
          <a:ln w="0">
            <a:noFill/>
          </a:ln>
        </p:spPr>
      </p:pic>
      <p:grpSp>
        <p:nvGrpSpPr>
          <p:cNvPr id="85" name="组合 4"/>
          <p:cNvGrpSpPr/>
          <p:nvPr/>
        </p:nvGrpSpPr>
        <p:grpSpPr>
          <a:xfrm>
            <a:off x="2602080" y="1962000"/>
            <a:ext cx="2398680" cy="1251360"/>
            <a:chOff x="2602080" y="1962000"/>
            <a:chExt cx="2398680" cy="1251360"/>
          </a:xfrm>
        </p:grpSpPr>
        <p:pic>
          <p:nvPicPr>
            <p:cNvPr id="86" name="图片 4" descr="2.png"/>
            <p:cNvPicPr/>
            <p:nvPr/>
          </p:nvPicPr>
          <p:blipFill>
            <a:blip r:embed="rId4"/>
            <a:srcRect l="0" t="0" r="56936" b="23833"/>
            <a:stretch/>
          </p:blipFill>
          <p:spPr>
            <a:xfrm>
              <a:off x="2602080" y="1981800"/>
              <a:ext cx="918720" cy="92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4" descr="2.png"/>
            <p:cNvPicPr/>
            <p:nvPr/>
          </p:nvPicPr>
          <p:blipFill>
            <a:blip r:embed="rId5"/>
            <a:srcRect l="43081" t="0" r="-10024" b="70732"/>
            <a:stretch/>
          </p:blipFill>
          <p:spPr>
            <a:xfrm>
              <a:off x="3572280" y="1962000"/>
              <a:ext cx="1428480" cy="3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7"/>
            <p:cNvSpPr/>
            <p:nvPr/>
          </p:nvSpPr>
          <p:spPr>
            <a:xfrm>
              <a:off x="3501000" y="2247840"/>
              <a:ext cx="1428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534741"/>
                  </a:solidFill>
                  <a:latin typeface="方正华隶简体"/>
                  <a:ea typeface="方正华隶简体"/>
                </a:rPr>
                <a:t>新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8"/>
            <p:cNvSpPr/>
            <p:nvPr/>
          </p:nvSpPr>
          <p:spPr>
            <a:xfrm>
              <a:off x="2652480" y="2829960"/>
              <a:ext cx="2142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534741"/>
                  </a:solidFill>
                  <a:latin typeface="方正华隶简体"/>
                  <a:ea typeface="方正华隶简体"/>
                </a:rPr>
                <a:t>2011</a:t>
              </a:r>
              <a:r>
                <a:rPr b="0" lang="zh-CN" sz="1900" spc="-1" strike="noStrike">
                  <a:solidFill>
                    <a:srgbClr val="534741"/>
                  </a:solidFill>
                  <a:latin typeface="方正华隶简体"/>
                  <a:ea typeface="方正华隶简体"/>
                </a:rPr>
                <a:t>辛卯年</a:t>
              </a:r>
              <a:r>
                <a:rPr b="0" lang="en-US" sz="1900" spc="-1" strike="noStrike">
                  <a:solidFill>
                    <a:srgbClr val="534741"/>
                  </a:solidFill>
                  <a:latin typeface="方正华隶简体"/>
                  <a:ea typeface="方正华隶简体"/>
                </a:rPr>
                <a:t>(</a:t>
              </a:r>
              <a:r>
                <a:rPr b="0" lang="zh-CN" sz="1900" spc="-1" strike="noStrike">
                  <a:solidFill>
                    <a:srgbClr val="534741"/>
                  </a:solidFill>
                  <a:latin typeface="方正华隶简体"/>
                  <a:ea typeface="方正华隶简体"/>
                </a:rPr>
                <a:t>兔年</a:t>
              </a:r>
              <a:r>
                <a:rPr b="0" lang="en-US" sz="1900" spc="-1" strike="noStrike">
                  <a:solidFill>
                    <a:srgbClr val="534741"/>
                  </a:solidFill>
                  <a:latin typeface="方正华隶简体"/>
                  <a:ea typeface="方正华隶简体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文本框 3081"/>
          <p:cNvSpPr/>
          <p:nvPr/>
        </p:nvSpPr>
        <p:spPr>
          <a:xfrm>
            <a:off x="10800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3082"/>
          <p:cNvSpPr/>
          <p:nvPr/>
        </p:nvSpPr>
        <p:spPr>
          <a:xfrm>
            <a:off x="2351880" y="113184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时尚圆圈兰花新年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3" descr="11.png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pic>
        <p:nvPicPr>
          <p:cNvPr id="93" name="图片 4" descr="2.png"/>
          <p:cNvPicPr/>
          <p:nvPr/>
        </p:nvPicPr>
        <p:blipFill>
          <a:blip r:embed="rId2"/>
          <a:stretch/>
        </p:blipFill>
        <p:spPr>
          <a:xfrm>
            <a:off x="7929720" y="142920"/>
            <a:ext cx="1000080" cy="57132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2035080" y="2143080"/>
            <a:ext cx="50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6" descr="8.png"/>
          <p:cNvPicPr/>
          <p:nvPr/>
        </p:nvPicPr>
        <p:blipFill>
          <a:blip r:embed="rId3"/>
          <a:stretch/>
        </p:blipFill>
        <p:spPr>
          <a:xfrm>
            <a:off x="1357200" y="2676600"/>
            <a:ext cx="596880" cy="6476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7" descr="9.png"/>
          <p:cNvPicPr/>
          <p:nvPr/>
        </p:nvPicPr>
        <p:blipFill>
          <a:blip r:embed="rId4"/>
          <a:stretch/>
        </p:blipFill>
        <p:spPr>
          <a:xfrm>
            <a:off x="7000920" y="1857240"/>
            <a:ext cx="542880" cy="53676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4102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6158-3A87-49AB-9DA8-C0931CDB432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3" descr="4.png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4" descr="12.png"/>
          <p:cNvPicPr/>
          <p:nvPr/>
        </p:nvPicPr>
        <p:blipFill>
          <a:blip r:embed="rId2"/>
          <a:stretch/>
        </p:blipFill>
        <p:spPr>
          <a:xfrm>
            <a:off x="3951360" y="1816200"/>
            <a:ext cx="5192640" cy="3327480"/>
          </a:xfrm>
          <a:prstGeom prst="rect">
            <a:avLst/>
          </a:prstGeom>
          <a:ln w="0">
            <a:noFill/>
          </a:ln>
        </p:spPr>
      </p:pic>
      <p:grpSp>
        <p:nvGrpSpPr>
          <p:cNvPr id="104" name="组合 6"/>
          <p:cNvGrpSpPr/>
          <p:nvPr/>
        </p:nvGrpSpPr>
        <p:grpSpPr>
          <a:xfrm>
            <a:off x="2786040" y="1968480"/>
            <a:ext cx="2643120" cy="1203480"/>
            <a:chOff x="2786040" y="1968480"/>
            <a:chExt cx="2643120" cy="1203480"/>
          </a:xfrm>
        </p:grpSpPr>
        <p:sp>
          <p:nvSpPr>
            <p:cNvPr id="105" name="TextBox 7"/>
            <p:cNvSpPr/>
            <p:nvPr/>
          </p:nvSpPr>
          <p:spPr>
            <a:xfrm>
              <a:off x="2822400" y="2468520"/>
              <a:ext cx="221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7f7f7f"/>
                  </a:solidFill>
                  <a:latin typeface="Calibri"/>
                </a:rPr>
                <a:t>THANKS!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8"/>
            <p:cNvSpPr/>
            <p:nvPr/>
          </p:nvSpPr>
          <p:spPr>
            <a:xfrm>
              <a:off x="2786040" y="1968480"/>
              <a:ext cx="2643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7f7f7f"/>
                  </a:solidFill>
                  <a:latin typeface="方正华隶简体"/>
                  <a:ea typeface="方正华隶简体"/>
                </a:rPr>
                <a:t>谢谢观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1T05:44:3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3:06Z</dcterms:modified>
  <cp:revision>1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