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312-CBD8-4D71-986A-AA63E697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436-7755-4C8B-9D7E-D3E3C2C5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4B2-1A05-4C19-AD73-392F2D39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D2D-20EE-49AA-82A3-1C23F99A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206B-0CE0-4386-A6F1-72601EAC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1B66-B44D-4BAA-89D1-B9A6FAC3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AEBC-D1E0-4114-9F47-DC3A4A6C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78CD-1037-4257-AFE7-6E3F4A93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F973-BA2C-4B0F-BD92-30EF299D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556C-D180-4010-9642-704D6FBF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9531-D978-4DDE-A22A-982D42E6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640-AFE8-44A5-AFB6-B3DE26C6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B7D0-E23F-44D9-A948-0235F702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81D4-B5E4-4950-9E66-C5551E9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1620-3AD4-4695-A40D-A8587920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D49C-6FC2-4E6F-9895-8A18840C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5B49-F156-4D23-A731-A7380997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011-3CCF-46E3-9907-488DE35B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3903-E21D-49AF-9F65-B916DD34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D66-AF67-40A8-81B0-84E135A4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811-9DED-4585-A45E-1694538F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A31-FBCF-4521-BF45-1794BCF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16F-44B4-45E2-A115-09885B47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437-188F-4AF2-964B-0B57DA4E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FE88-9215-4D66-93ED-79249C66E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59D5-6C60-4394-9D24-5093D4EDBA8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5F05-D9E8-4D47-81C6-0F1BA78F17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503280" y="1557360"/>
            <a:ext cx="77421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失物招领</a:t>
            </a: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件打包下载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8244000" y="6524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771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围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915480" y="609480"/>
            <a:ext cx="6471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w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i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围着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周围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</a:t>
            </a:r>
            <a:endParaRPr b="0" lang="en-US" sz="4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509120" y="353880"/>
            <a:ext cx="6471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gōng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人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工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596240" y="390600"/>
            <a:ext cx="42163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zhuān 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  心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  门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8200"/>
          <p:cNvSpPr/>
          <p:nvPr/>
        </p:nvSpPr>
        <p:spPr>
          <a:xfrm>
            <a:off x="1979640" y="566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3248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备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380880"/>
            <a:ext cx="69087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宋体"/>
              </a:rPr>
              <a:t>zhǔn qu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备      准确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269600" y="3124080"/>
            <a:ext cx="51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准备送还鸟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松鼠准备种松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鸭先生准备清扫小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们准备回家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队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67652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990520" y="-685800"/>
            <a:ext cx="35946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失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2575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171880" y="685800"/>
            <a:ext cx="4112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p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i  du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  队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好队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549360"/>
            <a:ext cx="59436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88960" y="838080"/>
            <a:ext cx="94208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gāng c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刚  才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 能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61722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913760" y="466560"/>
            <a:ext cx="4112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qǐ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  进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  客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659680" y="762120"/>
            <a:ext cx="4472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shuā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双眼睛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双小手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105228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文本框 8200"/>
          <p:cNvSpPr/>
          <p:nvPr/>
        </p:nvSpPr>
        <p:spPr>
          <a:xfrm>
            <a:off x="1979640" y="5734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370960" y="685800"/>
            <a:ext cx="4112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g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  自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  位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4800600" y="4419720"/>
            <a:ext cx="9144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57200" y="3352680"/>
            <a:ext cx="99072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724280" y="3429000"/>
            <a:ext cx="914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57200" y="4419720"/>
            <a:ext cx="9907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724280" y="54100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57200" y="5410080"/>
            <a:ext cx="99072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419720" y="243828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" y="2362320"/>
            <a:ext cx="9907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扩展活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220680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认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认真）队（少先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（准点）难（难题）先（先进）失（失去）备（备课）各（各自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4240" y="1295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读读比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12520" y="747720"/>
            <a:ext cx="54234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ff3300"/>
                </a:solidFill>
                <a:latin typeface="宋体"/>
              </a:rPr>
              <a:t>diū  shī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丢  失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900000" y="692280"/>
            <a:ext cx="669636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Times New Roman"/>
              </a:rPr>
              <a:t>想想</a:t>
            </a:r>
            <a:r>
              <a:rPr b="1" lang="en-US" sz="72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同学们丢了什么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348000" y="436572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垃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39640" y="54936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听得可专心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284720" y="981000"/>
            <a:ext cx="1366920" cy="360"/>
            <a:chOff x="4284720" y="981000"/>
            <a:chExt cx="1366920" cy="360"/>
          </a:xfrm>
        </p:grpSpPr>
        <p:sp>
          <p:nvSpPr>
            <p:cNvPr id="134" name="Line 5"/>
            <p:cNvSpPr/>
            <p:nvPr/>
          </p:nvSpPr>
          <p:spPr>
            <a:xfrm>
              <a:off x="4284720" y="981000"/>
              <a:ext cx="1366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284720" y="981000"/>
              <a:ext cx="136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6"/>
          <p:cNvSpPr/>
          <p:nvPr/>
        </p:nvSpPr>
        <p:spPr>
          <a:xfrm>
            <a:off x="5867280" y="404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认真好学的 孩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5280" y="1700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个一群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五个一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140360" y="2205000"/>
            <a:ext cx="1584000" cy="360"/>
            <a:chOff x="4140360" y="2205000"/>
            <a:chExt cx="1584000" cy="360"/>
          </a:xfrm>
        </p:grpSpPr>
        <p:sp>
          <p:nvSpPr>
            <p:cNvPr id="139" name="Line 8"/>
            <p:cNvSpPr/>
            <p:nvPr/>
          </p:nvSpPr>
          <p:spPr>
            <a:xfrm>
              <a:off x="4140360" y="2205000"/>
              <a:ext cx="158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140360" y="2205000"/>
              <a:ext cx="158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9"/>
          <p:cNvSpPr/>
          <p:nvPr/>
        </p:nvSpPr>
        <p:spPr>
          <a:xfrm>
            <a:off x="5867280" y="1700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团结友爱的孩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39640" y="386064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342900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睁得大大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摸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齐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924360" y="4076640"/>
            <a:ext cx="1871640" cy="360"/>
            <a:chOff x="3924360" y="4076640"/>
            <a:chExt cx="1871640" cy="360"/>
          </a:xfrm>
        </p:grpSpPr>
        <p:sp>
          <p:nvSpPr>
            <p:cNvPr id="145" name="Line 12"/>
            <p:cNvSpPr/>
            <p:nvPr/>
          </p:nvSpPr>
          <p:spPr>
            <a:xfrm>
              <a:off x="3924360" y="40766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924360" y="407664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3"/>
          <p:cNvSpPr/>
          <p:nvPr/>
        </p:nvSpPr>
        <p:spPr>
          <a:xfrm>
            <a:off x="5867280" y="3429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天真可爱的孩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539640" y="5084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脸红了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领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780000" y="5516640"/>
            <a:ext cx="2016000" cy="360"/>
            <a:chOff x="3780000" y="5516640"/>
            <a:chExt cx="2016000" cy="360"/>
          </a:xfrm>
        </p:grpSpPr>
        <p:sp>
          <p:nvSpPr>
            <p:cNvPr id="150" name="Line 15"/>
            <p:cNvSpPr/>
            <p:nvPr/>
          </p:nvSpPr>
          <p:spPr>
            <a:xfrm>
              <a:off x="3780000" y="55166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3780000" y="551664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16"/>
          <p:cNvSpPr/>
          <p:nvPr/>
        </p:nvSpPr>
        <p:spPr>
          <a:xfrm>
            <a:off x="5940360" y="494172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知错就改的孩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684360" y="98100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55640" y="299736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唐老师和张爷爷为什么会心地笑了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611280" y="765000"/>
            <a:ext cx="85327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想想做做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同学们身上发生过这样的事吗？今后你会怎样做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13716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66920" y="260280"/>
          <a:ext cx="6629400" cy="6324480"/>
        </p:xfrm>
        <a:graphic>
          <a:graphicData uri="http://schemas.openxmlformats.org/drawingml/2006/table">
            <a:tbl>
              <a:tblPr/>
              <a:tblGrid>
                <a:gridCol w="3268800"/>
                <a:gridCol w="3360600"/>
              </a:tblGrid>
              <a:tr h="3162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23"/>
          <p:cNvSpPr/>
          <p:nvPr/>
        </p:nvSpPr>
        <p:spPr>
          <a:xfrm>
            <a:off x="160020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工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1295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95640" y="-98280"/>
          <a:ext cx="6705360" cy="6629400"/>
        </p:xfrm>
        <a:graphic>
          <a:graphicData uri="http://schemas.openxmlformats.org/drawingml/2006/table">
            <a:tbl>
              <a:tblPr/>
              <a:tblGrid>
                <a:gridCol w="3306240"/>
                <a:gridCol w="3399120"/>
              </a:tblGrid>
              <a:tr h="3314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4"/>
          <p:cNvSpPr/>
          <p:nvPr/>
        </p:nvSpPr>
        <p:spPr>
          <a:xfrm>
            <a:off x="2057400" y="76320"/>
            <a:ext cx="5943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才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16002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专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916360" y="1125360"/>
          <a:ext cx="5562360" cy="5257800"/>
        </p:xfrm>
        <a:graphic>
          <a:graphicData uri="http://schemas.openxmlformats.org/drawingml/2006/table">
            <a:tbl>
              <a:tblPr/>
              <a:tblGrid>
                <a:gridCol w="2742840"/>
                <a:gridCol w="2819520"/>
              </a:tblGrid>
              <a:tr h="262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4"/>
          <p:cNvSpPr/>
          <p:nvPr/>
        </p:nvSpPr>
        <p:spPr>
          <a:xfrm>
            <a:off x="2895480" y="1219320"/>
            <a:ext cx="5410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专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916360" y="907920"/>
          <a:ext cx="5562360" cy="5257800"/>
        </p:xfrm>
        <a:graphic>
          <a:graphicData uri="http://schemas.openxmlformats.org/drawingml/2006/table">
            <a:tbl>
              <a:tblPr/>
              <a:tblGrid>
                <a:gridCol w="2742840"/>
                <a:gridCol w="2819520"/>
              </a:tblGrid>
              <a:tr h="262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14"/>
          <p:cNvSpPr/>
          <p:nvPr/>
        </p:nvSpPr>
        <p:spPr>
          <a:xfrm>
            <a:off x="2590920" y="304920"/>
            <a:ext cx="609588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同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916360" y="333360"/>
          <a:ext cx="5943600" cy="5638680"/>
        </p:xfrm>
        <a:graphic>
          <a:graphicData uri="http://schemas.openxmlformats.org/drawingml/2006/table">
            <a:tbl>
              <a:tblPr/>
              <a:tblGrid>
                <a:gridCol w="2930400"/>
                <a:gridCol w="3013200"/>
              </a:tblGrid>
              <a:tr h="281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4"/>
          <p:cNvSpPr/>
          <p:nvPr/>
        </p:nvSpPr>
        <p:spPr>
          <a:xfrm>
            <a:off x="2773440" y="9097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双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8200"/>
          <p:cNvSpPr/>
          <p:nvPr/>
        </p:nvSpPr>
        <p:spPr>
          <a:xfrm>
            <a:off x="2124000" y="61657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895480" y="1219320"/>
          <a:ext cx="5562720" cy="525780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</a:tblGrid>
              <a:tr h="262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4"/>
          <p:cNvSpPr/>
          <p:nvPr/>
        </p:nvSpPr>
        <p:spPr>
          <a:xfrm>
            <a:off x="2895480" y="1371600"/>
            <a:ext cx="548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级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级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704E-6845-4DCA-A57F-7882C71228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50920" y="404640"/>
          <a:ext cx="6629400" cy="6095880"/>
        </p:xfrm>
        <a:graphic>
          <a:graphicData uri="http://schemas.openxmlformats.org/drawingml/2006/table">
            <a:tbl>
              <a:tblPr/>
              <a:tblGrid>
                <a:gridCol w="3268800"/>
                <a:gridCol w="3360600"/>
              </a:tblGrid>
              <a:tr h="304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7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14"/>
          <p:cNvSpPr/>
          <p:nvPr/>
        </p:nvSpPr>
        <p:spPr>
          <a:xfrm>
            <a:off x="2266920" y="981000"/>
            <a:ext cx="5943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队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50120" y="1066680"/>
            <a:ext cx="526932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8800" spc="-1" strike="noStrike">
                <a:solidFill>
                  <a:srgbClr val="ff3300"/>
                </a:solidFill>
                <a:latin typeface="宋体"/>
              </a:rPr>
              <a:t>ni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1" lang="en-US" sz="8800" spc="-1" strike="noStrike">
                <a:solidFill>
                  <a:srgbClr val="ff3300"/>
                </a:solidFill>
                <a:latin typeface="宋体"/>
              </a:rPr>
              <a:t>n  j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 级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650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120480" y="304920"/>
            <a:ext cx="3129840" cy="72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t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ó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ng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学们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-249480" y="466560"/>
            <a:ext cx="94208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cān  guān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参 观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 看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6:16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2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