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413-E67B-4520-9114-F77730F5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C8A-089A-45C0-AD81-FD086CB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2A8-DE36-40B1-BD6E-E5682B8B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809-A153-4359-BFED-83217DD6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4FF-45AF-4007-BAC3-1E249CB2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F72-59E3-4FCD-BFEA-D83CF9E4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05E-7C58-4BAB-9493-96593B7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ABD-14A2-40A5-A60B-51FEDDB3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3D4-B6A1-4EE4-AC84-1F6B056B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AEF-700A-4B0C-85BD-32092108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D7E-EBE6-41AD-9D13-6207BF40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9CF-A120-499B-82BF-57DA3039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9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9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FAF2-9DFF-4461-A066-4A81E00FFBA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52A3-D337-484C-BAAC-42936D0195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962520"/>
            <a:ext cx="4648320" cy="70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我的求职简历</a:t>
            </a:r>
            <a:endParaRPr b="0" lang="en-US" sz="40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1760" y="4800240"/>
            <a:ext cx="1600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姓名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文本框 4100"/>
          <p:cNvSpPr/>
          <p:nvPr/>
        </p:nvSpPr>
        <p:spPr>
          <a:xfrm>
            <a:off x="1822320" y="3808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椭圆形状背景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简历模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0728-CAD1-4D3D-A964-334433978653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6145"/>
          <p:cNvSpPr/>
          <p:nvPr/>
        </p:nvSpPr>
        <p:spPr>
          <a:xfrm>
            <a:off x="2133720" y="15238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6491e"/>
                </a:solidFill>
                <a:uFillTx/>
                <a:latin typeface="Arial"/>
                <a:ea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19Z</dcterms:modified>
  <cp:revision>1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