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C40-4A91-4122-901E-EBC2E203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562-817B-4CF5-8BF5-81666C58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B8E-5D59-48B8-B4E3-81E74BAE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28B-D1B7-4832-B8BB-F9C62A78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FA99-ABD7-4B1E-9166-E59F8FC4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8F8-EC68-4E30-AA20-EF699900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3B3A-7B56-4B95-86A8-6AF8FDBE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A41D-A732-4244-9A40-21899EF0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B113-7AE5-4656-954F-26B5B33D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F00C-F93C-43E8-B78C-0AE0DEE8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C15B-A0F5-4B95-985E-D5D7A869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4D1-47B1-435A-AD85-0FE9312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B74B-6F56-42FF-92D8-CFE6F73F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E30B-E35D-491C-9CF3-32D15DB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29B3-AE03-481B-8D0D-F2065A4C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1041-484B-4638-ACC6-83FF20B8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41AD-0080-4B43-9CD0-E6AB5325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4AE-A2B0-4DCB-88B2-51839B6B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B30-C57B-43DB-881B-474330E0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4D6-0E09-432F-B9B7-27E75FCE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368-6406-4A42-BB57-21635CE2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762-3ED6-49E3-A8CE-D2E4202A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405-1E62-484D-96D9-631B9E92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619-2EAD-41DE-ADE0-193F5EC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BB47-4549-46BF-B105-864CF94B2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C2A2-B7B2-4009-8A9D-82D9BC1E8D4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B2D8-DA26-496F-AE55-3FD58CC9B6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ic_252907"/>
          <p:cNvPicPr/>
          <p:nvPr/>
        </p:nvPicPr>
        <p:blipFill>
          <a:blip r:embed="rId1"/>
          <a:srcRect l="7396" t="4414" r="59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295280" y="838080"/>
            <a:ext cx="747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王二小课件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04920" y="541008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体育东路小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林美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ic_252910"/>
          <p:cNvPicPr/>
          <p:nvPr/>
        </p:nvPicPr>
        <p:blipFill>
          <a:blip r:embed="rId1"/>
          <a:srcRect l="0" t="0" r="44168" b="0"/>
          <a:stretch/>
        </p:blipFill>
        <p:spPr>
          <a:xfrm>
            <a:off x="0" y="-17640"/>
            <a:ext cx="8839080" cy="6875640"/>
          </a:xfrm>
          <a:prstGeom prst="rect">
            <a:avLst/>
          </a:prstGeom>
          <a:ln w="0">
            <a:noFill/>
          </a:ln>
        </p:spPr>
      </p:pic>
      <p:pic>
        <p:nvPicPr>
          <p:cNvPr id="94" name="200612282248358242.mp3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52280" y="380880"/>
            <a:ext cx="8915400" cy="379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牛儿还在山坡吃草，放牛的却不知道哪儿去了，不是他贪玩耍丢了牛，那放牛的孩子王二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九月十六那天早上，敌人向一条山沟扫荡，山沟里掩护着后方机关，掩护着几千老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在那十分危急的时候，敌人来到这个山口，昏头昏脑地迷失了方向，抓住了二小要他带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小他顺从地走在前面，把敌人带进我们的埋伏圈，四下里砰砰叭叭响起了枪炮，敌人才知道了受了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敌人把二小挑在枪尖，摔死在大石头的旁边，我们的十三岁的王二小，英勇地牺牲在山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部和老乡得到了安全，他却睡在冰冷的山岭，他的脸上含着微笑，他的血染红蓝的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风走遍了每个村庄，它把这个动人的故事传扬，每一个村庄都含着眼泪，歌唱着二小放牛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歌唱二小放牛郎.mp3" descr=""/>
          <p:cNvPicPr/>
          <p:nvPr/>
        </p:nvPicPr>
        <p:blipFill>
          <a:blip r:embed="rId3"/>
          <a:stretch/>
        </p:blipFill>
        <p:spPr>
          <a:xfrm>
            <a:off x="83059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985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49858"/>
                            </p:stCondLst>
                            <p:childTnLst>
                              <p:par>
                                <p:cTn id="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4985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ic_252907"/>
          <p:cNvPicPr/>
          <p:nvPr/>
        </p:nvPicPr>
        <p:blipFill>
          <a:blip r:embed="rId1"/>
          <a:srcRect l="0" t="0" r="52465" b="55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pic_77520"/>
          <p:cNvPicPr/>
          <p:nvPr/>
        </p:nvPicPr>
        <p:blipFill>
          <a:blip r:embed="rId2"/>
          <a:srcRect l="3576" t="10514" r="9824" b="76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371600" y="2971800"/>
            <a:ext cx="5181480" cy="1828800"/>
            <a:chOff x="1371600" y="2971800"/>
            <a:chExt cx="5181480" cy="1828800"/>
          </a:xfrm>
        </p:grpSpPr>
        <p:sp>
          <p:nvSpPr>
            <p:cNvPr id="103" name="Line 6"/>
            <p:cNvSpPr/>
            <p:nvPr/>
          </p:nvSpPr>
          <p:spPr>
            <a:xfrm>
              <a:off x="1371600" y="2971800"/>
              <a:ext cx="5181480" cy="182880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371600" y="2971800"/>
              <a:ext cx="518148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371600" y="1752480"/>
            <a:ext cx="304920" cy="2590920"/>
            <a:chOff x="1371600" y="1752480"/>
            <a:chExt cx="304920" cy="2590920"/>
          </a:xfrm>
        </p:grpSpPr>
        <p:sp>
          <p:nvSpPr>
            <p:cNvPr id="106" name="Line 7"/>
            <p:cNvSpPr/>
            <p:nvPr/>
          </p:nvSpPr>
          <p:spPr>
            <a:xfrm>
              <a:off x="1371600" y="1752480"/>
              <a:ext cx="304920" cy="259092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1371600" y="1752480"/>
              <a:ext cx="304920" cy="259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2280" y="1828800"/>
            <a:ext cx="2819520" cy="4191120"/>
            <a:chOff x="152280" y="1828800"/>
            <a:chExt cx="2819520" cy="4191120"/>
          </a:xfrm>
        </p:grpSpPr>
        <p:sp>
          <p:nvSpPr>
            <p:cNvPr id="109" name="Line 8"/>
            <p:cNvSpPr/>
            <p:nvPr/>
          </p:nvSpPr>
          <p:spPr>
            <a:xfrm flipH="1">
              <a:off x="152280" y="1828800"/>
              <a:ext cx="2819520" cy="419112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152280" y="1828800"/>
              <a:ext cx="281952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200040" y="4038480"/>
            <a:ext cx="1600560" cy="685800"/>
            <a:chOff x="3200040" y="4038480"/>
            <a:chExt cx="1600560" cy="685800"/>
          </a:xfrm>
        </p:grpSpPr>
        <p:sp>
          <p:nvSpPr>
            <p:cNvPr id="112" name="Line 9"/>
            <p:cNvSpPr/>
            <p:nvPr/>
          </p:nvSpPr>
          <p:spPr>
            <a:xfrm flipH="1">
              <a:off x="3200040" y="4038480"/>
              <a:ext cx="1600200" cy="68580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3200400" y="40384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153280" y="4114800"/>
            <a:ext cx="76320" cy="1905120"/>
            <a:chOff x="8153280" y="4114800"/>
            <a:chExt cx="76320" cy="1905120"/>
          </a:xfrm>
        </p:grpSpPr>
        <p:sp>
          <p:nvSpPr>
            <p:cNvPr id="115" name="Line 10"/>
            <p:cNvSpPr/>
            <p:nvPr/>
          </p:nvSpPr>
          <p:spPr>
            <a:xfrm>
              <a:off x="8153280" y="4114800"/>
              <a:ext cx="76320" cy="190512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8153280" y="4114800"/>
              <a:ext cx="7632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523880" y="1752120"/>
            <a:ext cx="6400800" cy="4038840"/>
            <a:chOff x="1523880" y="1752120"/>
            <a:chExt cx="6400800" cy="4038840"/>
          </a:xfrm>
        </p:grpSpPr>
        <p:sp>
          <p:nvSpPr>
            <p:cNvPr id="118" name="Line 11"/>
            <p:cNvSpPr/>
            <p:nvPr/>
          </p:nvSpPr>
          <p:spPr>
            <a:xfrm flipV="1">
              <a:off x="1523880" y="1752120"/>
              <a:ext cx="6400800" cy="4038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10800000">
              <a:off x="1523880" y="1751760"/>
              <a:ext cx="6400800" cy="403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34120" y="2286000"/>
            <a:ext cx="304560" cy="2666880"/>
            <a:chOff x="5334120" y="2286000"/>
            <a:chExt cx="304560" cy="2666880"/>
          </a:xfrm>
        </p:grpSpPr>
        <p:sp>
          <p:nvSpPr>
            <p:cNvPr id="121" name="Line 12"/>
            <p:cNvSpPr/>
            <p:nvPr/>
          </p:nvSpPr>
          <p:spPr>
            <a:xfrm>
              <a:off x="5334120" y="2286000"/>
              <a:ext cx="304560" cy="2666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5334120" y="2286000"/>
              <a:ext cx="304560" cy="26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629400" y="3429000"/>
            <a:ext cx="990720" cy="2590920"/>
            <a:chOff x="6629400" y="3429000"/>
            <a:chExt cx="990720" cy="2590920"/>
          </a:xfrm>
        </p:grpSpPr>
        <p:sp>
          <p:nvSpPr>
            <p:cNvPr id="124" name="Line 13"/>
            <p:cNvSpPr/>
            <p:nvPr/>
          </p:nvSpPr>
          <p:spPr>
            <a:xfrm>
              <a:off x="6629400" y="3429000"/>
              <a:ext cx="990720" cy="2590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6629400" y="3429000"/>
              <a:ext cx="990720" cy="259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047760" y="3276720"/>
            <a:ext cx="686160" cy="2971800"/>
            <a:chOff x="3047760" y="3276720"/>
            <a:chExt cx="686160" cy="2971800"/>
          </a:xfrm>
        </p:grpSpPr>
        <p:sp>
          <p:nvSpPr>
            <p:cNvPr id="127" name="Line 14"/>
            <p:cNvSpPr/>
            <p:nvPr/>
          </p:nvSpPr>
          <p:spPr>
            <a:xfrm flipH="1">
              <a:off x="3047760" y="3276720"/>
              <a:ext cx="685800" cy="2971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048120" y="3276720"/>
              <a:ext cx="68580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343040" y="1676520"/>
            <a:ext cx="2134080" cy="2895480"/>
            <a:chOff x="4343040" y="1676520"/>
            <a:chExt cx="2134080" cy="2895480"/>
          </a:xfrm>
        </p:grpSpPr>
        <p:sp>
          <p:nvSpPr>
            <p:cNvPr id="130" name="Line 15"/>
            <p:cNvSpPr/>
            <p:nvPr/>
          </p:nvSpPr>
          <p:spPr>
            <a:xfrm flipH="1">
              <a:off x="4343040" y="1676520"/>
              <a:ext cx="2133720" cy="2895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4343400" y="1676520"/>
              <a:ext cx="213372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743200" y="3962520"/>
            <a:ext cx="2895480" cy="2133360"/>
            <a:chOff x="2743200" y="3962520"/>
            <a:chExt cx="2895480" cy="2133360"/>
          </a:xfrm>
        </p:grpSpPr>
        <p:sp>
          <p:nvSpPr>
            <p:cNvPr id="133" name="Line 16"/>
            <p:cNvSpPr/>
            <p:nvPr/>
          </p:nvSpPr>
          <p:spPr>
            <a:xfrm>
              <a:off x="2743200" y="3962520"/>
              <a:ext cx="2895480" cy="2133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2743200" y="3962520"/>
              <a:ext cx="289548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8200"/>
          <p:cNvSpPr/>
          <p:nvPr/>
        </p:nvSpPr>
        <p:spPr>
          <a:xfrm>
            <a:off x="1905120" y="685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ic_252907"/>
          <p:cNvPicPr/>
          <p:nvPr/>
        </p:nvPicPr>
        <p:blipFill>
          <a:blip r:embed="rId1"/>
          <a:srcRect l="0" t="0" r="52465" b="55845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ic_77521"/>
          <p:cNvPicPr/>
          <p:nvPr/>
        </p:nvPicPr>
        <p:blipFill>
          <a:blip r:embed="rId2"/>
          <a:srcRect l="8436" t="1954" r="0" b="39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pic_252907"/>
          <p:cNvPicPr/>
          <p:nvPr/>
        </p:nvPicPr>
        <p:blipFill>
          <a:blip r:embed="rId1"/>
          <a:srcRect l="0" t="0" r="52465" b="55845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pic_77521"/>
          <p:cNvPicPr/>
          <p:nvPr/>
        </p:nvPicPr>
        <p:blipFill>
          <a:blip r:embed="rId2"/>
          <a:srcRect l="10479" t="60452" r="480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8200"/>
          <p:cNvSpPr/>
          <p:nvPr/>
        </p:nvSpPr>
        <p:spPr>
          <a:xfrm>
            <a:off x="1828800" y="762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pic_252907"/>
          <p:cNvPicPr/>
          <p:nvPr/>
        </p:nvPicPr>
        <p:blipFill>
          <a:blip r:embed="rId1"/>
          <a:srcRect l="0" t="0" r="52465" b="55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533520" y="457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会填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9480" y="1371600"/>
            <a:ext cx="7391520" cy="42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ù    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助     哨     荡      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i           ā y       x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枪    杀   英    雄     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5800" y="2133720"/>
            <a:ext cx="762120" cy="360"/>
            <a:chOff x="685800" y="2133720"/>
            <a:chExt cx="762120" cy="360"/>
          </a:xfrm>
        </p:grpSpPr>
        <p:sp>
          <p:nvSpPr>
            <p:cNvPr id="154" name="Line 7"/>
            <p:cNvSpPr/>
            <p:nvPr/>
          </p:nvSpPr>
          <p:spPr>
            <a:xfrm>
              <a:off x="685800" y="2133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685800" y="2133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09680" y="2133720"/>
            <a:ext cx="762120" cy="360"/>
            <a:chOff x="2209680" y="2133720"/>
            <a:chExt cx="762120" cy="360"/>
          </a:xfrm>
        </p:grpSpPr>
        <p:sp>
          <p:nvSpPr>
            <p:cNvPr id="157" name="Line 8"/>
            <p:cNvSpPr/>
            <p:nvPr/>
          </p:nvSpPr>
          <p:spPr>
            <a:xfrm>
              <a:off x="2209680" y="2133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2209680" y="2133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14800" y="2133720"/>
            <a:ext cx="1219320" cy="360"/>
            <a:chOff x="4114800" y="2133720"/>
            <a:chExt cx="1219320" cy="360"/>
          </a:xfrm>
        </p:grpSpPr>
        <p:sp>
          <p:nvSpPr>
            <p:cNvPr id="160" name="Line 9"/>
            <p:cNvSpPr/>
            <p:nvPr/>
          </p:nvSpPr>
          <p:spPr>
            <a:xfrm>
              <a:off x="4114800" y="2133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114800" y="213372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638680" y="2133720"/>
            <a:ext cx="1447920" cy="360"/>
            <a:chOff x="5638680" y="2133720"/>
            <a:chExt cx="1447920" cy="360"/>
          </a:xfrm>
        </p:grpSpPr>
        <p:sp>
          <p:nvSpPr>
            <p:cNvPr id="163" name="Line 10"/>
            <p:cNvSpPr/>
            <p:nvPr/>
          </p:nvSpPr>
          <p:spPr>
            <a:xfrm>
              <a:off x="5638680" y="21337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638680" y="213372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4419720"/>
            <a:ext cx="838080" cy="360"/>
            <a:chOff x="1143000" y="4419720"/>
            <a:chExt cx="838080" cy="360"/>
          </a:xfrm>
        </p:grpSpPr>
        <p:sp>
          <p:nvSpPr>
            <p:cNvPr id="166" name="Line 11"/>
            <p:cNvSpPr/>
            <p:nvPr/>
          </p:nvSpPr>
          <p:spPr>
            <a:xfrm>
              <a:off x="1143000" y="4419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1143000" y="44197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09680" y="4419720"/>
            <a:ext cx="685800" cy="360"/>
            <a:chOff x="2209680" y="4419720"/>
            <a:chExt cx="685800" cy="360"/>
          </a:xfrm>
        </p:grpSpPr>
        <p:sp>
          <p:nvSpPr>
            <p:cNvPr id="169" name="Line 12"/>
            <p:cNvSpPr/>
            <p:nvPr/>
          </p:nvSpPr>
          <p:spPr>
            <a:xfrm>
              <a:off x="2209680" y="4419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209680" y="441972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581280" y="4495680"/>
            <a:ext cx="838440" cy="360"/>
            <a:chOff x="3581280" y="4495680"/>
            <a:chExt cx="838440" cy="360"/>
          </a:xfrm>
        </p:grpSpPr>
        <p:sp>
          <p:nvSpPr>
            <p:cNvPr id="172" name="Line 13"/>
            <p:cNvSpPr/>
            <p:nvPr/>
          </p:nvSpPr>
          <p:spPr>
            <a:xfrm>
              <a:off x="3581280" y="44956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581280" y="449568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05520" y="4419720"/>
            <a:ext cx="838080" cy="360"/>
            <a:chOff x="5105520" y="4419720"/>
            <a:chExt cx="838080" cy="360"/>
          </a:xfrm>
        </p:grpSpPr>
        <p:sp>
          <p:nvSpPr>
            <p:cNvPr id="175" name="Line 14"/>
            <p:cNvSpPr/>
            <p:nvPr/>
          </p:nvSpPr>
          <p:spPr>
            <a:xfrm>
              <a:off x="5105520" y="4419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5105520" y="44197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248520" y="4495680"/>
            <a:ext cx="1218960" cy="360"/>
            <a:chOff x="6248520" y="4495680"/>
            <a:chExt cx="1218960" cy="360"/>
          </a:xfrm>
        </p:grpSpPr>
        <p:sp>
          <p:nvSpPr>
            <p:cNvPr id="178" name="Line 15"/>
            <p:cNvSpPr/>
            <p:nvPr/>
          </p:nvSpPr>
          <p:spPr>
            <a:xfrm>
              <a:off x="6248520" y="4495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248520" y="449568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6"/>
          <p:cNvSpPr/>
          <p:nvPr/>
        </p:nvSpPr>
        <p:spPr>
          <a:xfrm>
            <a:off x="685800" y="15238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2133720" y="14619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411480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638680" y="13716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ù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10666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ā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133720" y="3733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3429000" y="3809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4952880" y="37339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ó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6019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hō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BBA4-68A8-4925-B03A-9B6882A670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pic_252907"/>
          <p:cNvPicPr/>
          <p:nvPr/>
        </p:nvPicPr>
        <p:blipFill>
          <a:blip r:embed="rId1"/>
          <a:srcRect l="0" t="0" r="52465" b="55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533520" y="38088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会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57200" y="1295280"/>
            <a:ext cx="8381880" cy="19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王二小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敌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带进了埋伏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敌人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王二小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带进了埋伏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371600" y="43434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把”字句      “被”字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46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41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