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B4A-2C25-4BA6-8E6B-666DC322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7A3-81E0-45A5-B584-3C892CC6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E025-0FDC-4064-9C8A-C66A5B83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B75-B8FB-42CE-9112-58DBAECD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CE76-F21A-46B9-B8DF-9FAEBD31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EA6D-A445-4BDD-8C86-91363155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4A3F-35B5-4B4D-9B5B-159C8033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848D-6E1D-4214-B5BF-D01E730D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EE4A-27A4-4D16-ABD3-3EEC2431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2C00-5434-48CC-9FF4-3077D303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8F2E-785D-446E-AE60-9FE407C8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0DF-F9DC-4D43-9016-D8816935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E3FA-2A43-4DE5-B0BB-D3674B2C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68D6-C01E-4C1C-B9A6-FBA24EA1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A0B4-F8DE-4E62-A4F6-343F67B0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A835-31A6-45B6-B6C5-42118E1F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6D48-1D4D-43CB-88AD-A7B71862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291-EC80-47C8-98A6-519F5102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F49-C493-4E14-816A-3F249C68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65F-3343-4A04-AAA0-782D31A6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D55-934E-441E-94E7-C2A19B86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8341-6D3C-4EBE-94E8-CF2ADB4D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5F14-49AE-478D-A07E-41D0EEB9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1BF4-BA8F-4621-AECF-24F0509B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892E-F557-4342-8601-D7B98F5C3E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18CF-392A-4F9D-8B57-0D69E830B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1AE5-C61A-4F4C-AFDF-8013009222C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6429-432E-4467-B91D-FE8BBDBDBF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万圣节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074"/>
          <p:cNvSpPr/>
          <p:nvPr/>
        </p:nvSpPr>
        <p:spPr>
          <a:xfrm>
            <a:off x="0" y="617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6B89-70B7-43EB-B3C1-6FA6A9DF53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4098"/>
          <p:cNvSpPr/>
          <p:nvPr/>
        </p:nvSpPr>
        <p:spPr>
          <a:xfrm>
            <a:off x="914400" y="838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8:45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