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2.png" ContentType="image/png"/>
  <Override PartName="/ppt/media/image4.png" ContentType="image/png"/>
  <Override PartName="/ppt/media/image6.png" ContentType="image/pn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750B-A653-4EC3-9CAB-FA2EBBB71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40DF-DD88-43A6-8B9F-ABF2310C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397074-1EA1-4765-8EB4-0D8681BF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6DF1B-2884-47F7-870D-1C29EDC2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898200" y="263160"/>
            <a:ext cx="610236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D17C0-DC31-475B-A5EB-C18A0008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37709-AA25-456F-B64B-E488A1AB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568EE-B411-4B98-A117-4B99DCCE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FF0C6E-9A14-453E-8263-27BD8AE8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8BF1D-4994-4BD1-AFE7-BB1A305E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BAAC3E-56D1-4057-953C-81D004161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63DAA-8FAF-40B8-B076-EAE8E3059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A22899-9CD4-4751-A4E8-712885855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6750-AC9F-4D5C-8C6B-681F79B2A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DF8E24-7FEA-4438-A360-034FC3C6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B1E7BF-1E91-4C51-94AA-0EF851ED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E1021-7F31-40F5-B25F-3B7BF2E2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E7F6B-0A38-41D5-998B-64E6BAA3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898200" y="263160"/>
            <a:ext cx="610236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3DEB56-97D7-4C64-BB39-957AB346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3247F9-CD47-4134-9120-D5837FF7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8B6080-A8D1-40D6-AB2F-3F358DC3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611785-A082-4DEB-8286-EA4C293C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D50743-DE79-434C-A431-D6762DB8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983DE4-1ECB-4E96-99D4-34AD2DFF9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6A71-99C4-400A-8CE4-F0B2E16FE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728F57-86BB-4B8B-8D32-FDD8CB33D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2731D-B537-41D4-AAE8-7DF68AE65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6D1EC-6B2B-43C3-8D39-3C35D8F2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3779B-EB3E-4D1B-AF64-7C6DBCDF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206F7-6237-4DB7-B4DB-879C78D8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3B8E9-C463-46C4-B09C-82BF1784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898200" y="263160"/>
            <a:ext cx="610236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5765F-97F4-4506-983D-E0E90E7A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6BE2F-8FC1-4D7E-BC6A-BD6F0226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02813-CB61-4582-A08C-2B145302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F51C3-2A1A-4713-951D-15D1240D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285F-D0A1-406B-B0BE-84D2B377C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41035-D676-4634-A501-8AE50EB1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E85921-E174-4B94-BC68-DBE814DEC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1D566-98DA-408F-94D1-6159B5278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DF52DD-96BC-4E6D-9D4A-84CCB5C98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BE10E6-47A7-4F59-AA08-D1F30B80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FD1CB2-0083-47FA-A7B7-E009FF51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49D5B1-1FD8-4C4A-B9CF-72E037B6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3554D4-EFE2-46B9-B440-EFE9D535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898200" y="263160"/>
            <a:ext cx="610236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7F67DF-A208-44B4-A798-C66963AB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C17518-A622-4B27-80C9-E8BB1765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75A2-381D-4872-990E-39524C78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DAC661-07A3-4FF0-9033-132E113F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EE35C3-B3D4-48EE-917C-CB0642AE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5B46EA-2E58-4BD7-9338-E9AF077F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25A974-6212-4256-9D21-35AD9DF24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E19778-9FA3-460E-93B4-9C0514B75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F48257-13C4-468A-AA76-F23F57040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B15C3E-A98D-4FE4-89CD-81F50A9B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181FEE-E930-4BD3-9783-A13A9709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63B26A-0A32-4E7D-8684-F636D86C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C5C513-CD0D-4E8E-B675-A8541254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7CEE-D6B8-4922-9A16-3775CFE2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898200" y="263160"/>
            <a:ext cx="610236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AD66A1-F0A2-406B-BD90-0F6DCBDE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8D99F2-972D-4B13-BF4B-4F3BA2D6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D0911A-D828-4229-B68B-B3D2320F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B0995D-4C07-4B4D-BDFB-AC01178C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A39D12-F5A2-4923-883F-0A891443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AC946F-6764-4107-8F9F-EA7C16A53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47A94C-61B0-4925-B209-2783B7517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106B7F-CA15-4157-8AE5-E2B224F5E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342376-B291-44D2-8906-B362407B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4A5589-C1C2-4393-BB2A-F96F5688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F408-A9F8-40A9-B26D-CB4ABB81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7B5C27-F9FB-4E86-94AE-728D6541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87D3DA-05B3-4DAA-8CA2-AB9B4793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898200" y="263160"/>
            <a:ext cx="610236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7ADB6A-CFC9-4BCE-BEAF-9BE39DAE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3FC273-0F92-4CA0-AF76-FED33E03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14EBB7-2636-41B6-A686-C4C554E9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37F52B-852C-46F8-8448-EF17EB87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04AD02-0DCB-4887-8266-A62DAF8C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C95D52-76E3-405C-ADA6-84F5533D7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23964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02208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5720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23964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02208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ABAFAD-08A6-494C-9ED2-B4FA56F90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8271CE-ACB3-4D9F-8278-CD76A9176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6402-5C65-4A00-8F25-A485B590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C60CBA-8C54-46EE-8DE1-9772B350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0BADFC-90F7-46CE-9B5D-0C9C8303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D340CF-FDE1-4EDE-AB37-1F93BE5B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FCDF76-C8A9-47BD-9FEC-2EEF5ECF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898200" y="263160"/>
            <a:ext cx="610236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3B08FB-62AB-46C6-AAD1-7F90CDAE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BDD58A-6055-406A-847F-9C692DD1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2BAB09-05DE-4F3F-9208-4CE2C8CF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E7C1B0-DBCE-4413-9C2D-50926570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9BF0BE-A09D-4878-9112-699D8C37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CE33A9-A1A2-4A55-A571-C963F571E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98200" y="263160"/>
            <a:ext cx="610236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5384-EFAC-4E45-89A6-2ACFE457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23964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02208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5720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23964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02208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48D50A-DF5C-4355-B288-250D62383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B9C853-1BBA-40AA-8BFA-BEE9882A0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6A603A-5E68-4BDB-B7C0-3481B472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09CE9D-E540-4D69-BBA0-62A51E70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2F5768-799D-4078-8EFC-486B8146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8E410B-D425-4C85-9A81-D892EF92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898200" y="263160"/>
            <a:ext cx="610236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51E48E-F42E-4E58-9245-323EF283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44667F-FA00-48E8-9EC4-BD51CBC4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702113-1C96-4604-AE81-6FA2C98C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F431EB-1D17-41E8-BB2D-713954AA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70D8-8295-4428-A810-4A2786D5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66299C-D1E0-47C8-A473-0DC81D61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2620B6-5552-47D3-94B5-1FC82CCD4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120C72-AD80-4B3D-B187-6F60FAF0C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46CB80-C766-4541-9234-5F315C484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FE3224-763A-4091-91AF-0845D225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6FDF81-ABF4-45DC-AD1E-BA5652BA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ED22EF-C1EF-442D-ADFA-AC78425D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DBB48C-0515-475E-BA60-918B6D91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898200" y="263160"/>
            <a:ext cx="610236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F76057-49DD-458C-BFB1-A61CDD97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6E70C3-DA25-4D9D-8C66-85A4A1EB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961F-2A0F-4728-B4EC-DF9734E2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9BAC-865A-4BFF-879A-36E46991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2E166D-1A26-41EC-8323-7E92B3E8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2F42DA-246F-471B-8230-928C0CDC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CAF72F-5DB1-48F1-925A-31BA6A21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0F2C2A-C595-458A-9CA3-35B24AB03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92126C-AB7D-4B64-8D48-BC5F0131C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F13BA6-F763-4EC9-A9A6-F5DEC82BD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5CAAB6-5491-47D4-90DB-7045E59D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006C44-4A14-434B-A0AB-54C26046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CF3C73-90F6-4E2B-A3E5-39EFC87C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1A3D55-165C-4771-8234-BE320506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C045-C866-4D98-89F4-BFE55291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898200" y="263160"/>
            <a:ext cx="610236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B591ED-7A5D-46F7-BC40-6A59B8D1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60187F-C190-4E1E-970A-C4CB9CE1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21D5CE-BAFB-47E6-9C62-6A774D59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208588-5C8D-45E8-A280-F2891B57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724905-BFBB-42C1-9846-86CDFF06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2D630E-CFBA-4558-935B-1C01A71D2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23964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02208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5720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323964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602208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356319-65D2-40FF-9232-D69A46D59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0AC1B5-220E-426F-9C03-1263B218E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84CF2E-1146-4271-9429-1FDBCC5F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1EEFC7-6E27-4244-BAB6-7C0C5538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1148-8B7B-4A5B-A550-A95195A3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4D8D0A-4ED7-44C4-99E4-560BB9DD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863053-EDFF-467E-8DF8-8C3CC170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898200" y="263160"/>
            <a:ext cx="610236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442B3C-7682-42C7-BF7B-7FB03803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5D29E2-EEC0-401D-824E-EAE54F5E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3A7D58-9609-418E-8CA6-AAAA8F5E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B95DD9-9F17-41CF-A2CA-F09B0314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8017E4-6898-43FA-9A99-42E0EB05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7A7F32-EEAA-4E42-8C6F-751C114BE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3964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2208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5720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3964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2208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48B723-D4DB-41E2-807D-8F077EE95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8543DF-84F7-48BA-BDC0-7DBF13976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02780-D4D2-4605-BD1D-D9C2EEC2E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ubTitle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2582B2-7C49-4770-A056-95BCF5AF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885595-DC61-4920-AD1A-B87F6712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6DC257-3721-4176-A83F-A0257F8D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FFF57B-9710-4C97-A655-1575BE59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ubTitle"/>
          </p:nvPr>
        </p:nvSpPr>
        <p:spPr>
          <a:xfrm>
            <a:off x="898200" y="263160"/>
            <a:ext cx="610236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88D9EE-4685-42FC-8715-AA431131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859C41-1D19-48C7-BABE-8793F5A9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87CE42-B232-4DFE-9231-BBEEF44B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E1BF4E-8FAD-429A-B6DC-DFE034CE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A898B6-FC9C-412D-B9E5-79CED09C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904308-8748-40B2-8423-BC546ED4E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BB42-41E7-4B2C-99D7-2BBA4DB86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323964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602208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5720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6"/>
          <p:cNvSpPr>
            <a:spLocks noGrp="1"/>
          </p:cNvSpPr>
          <p:nvPr>
            <p:ph/>
          </p:nvPr>
        </p:nvSpPr>
        <p:spPr>
          <a:xfrm>
            <a:off x="323964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7"/>
          <p:cNvSpPr>
            <a:spLocks noGrp="1"/>
          </p:cNvSpPr>
          <p:nvPr>
            <p:ph/>
          </p:nvPr>
        </p:nvSpPr>
        <p:spPr>
          <a:xfrm>
            <a:off x="602208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FE74E7-3CE0-4F06-8B20-DB1D153F9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7C64FB-1A5B-42E0-AE69-9076C0E7A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ubTitle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E2C2B5-D82E-45B0-BF05-7674587A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012BA3-3B12-40BE-98AD-1E50C884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86818A-0564-4984-8895-2B2A01CD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B2E37F-A075-431F-A8E2-FEF917D9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ubTitle"/>
          </p:nvPr>
        </p:nvSpPr>
        <p:spPr>
          <a:xfrm>
            <a:off x="898200" y="263160"/>
            <a:ext cx="610236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411C60-E5D1-4A31-AACA-F7F8DDE4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2C8BC5-96FD-4168-B18F-61EFA097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B2A567-842C-42F9-95D3-5B8E44F6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19F41C-117D-46AA-A9D0-EF8AAECD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ABB94-2CB9-4AD3-A978-58CD9C6E7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FD9A65-D289-451D-AE5C-0341F999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D5C128-7824-4049-BB8E-BB20BD4C4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323964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02208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5720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6"/>
          <p:cNvSpPr>
            <a:spLocks noGrp="1"/>
          </p:cNvSpPr>
          <p:nvPr>
            <p:ph/>
          </p:nvPr>
        </p:nvSpPr>
        <p:spPr>
          <a:xfrm>
            <a:off x="323964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7"/>
          <p:cNvSpPr>
            <a:spLocks noGrp="1"/>
          </p:cNvSpPr>
          <p:nvPr>
            <p:ph/>
          </p:nvPr>
        </p:nvSpPr>
        <p:spPr>
          <a:xfrm>
            <a:off x="602208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B0F9CF-5C56-43EE-8EB5-CD53EBF61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F53865-EBDA-44D1-B95D-BB8942DA9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subTitle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2CBFC9-9DEA-407F-B7F1-9BA514EC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2B3D94-5805-442F-86C9-3FAE1C50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4CA5E3-D321-4D95-9010-D706B642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08538C-6B23-4A6F-B2C3-3F570BC1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ubTitle"/>
          </p:nvPr>
        </p:nvSpPr>
        <p:spPr>
          <a:xfrm>
            <a:off x="898200" y="263160"/>
            <a:ext cx="610236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8C5278-3694-4253-97C5-0FA22C21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03C1BE-DF57-4051-BAA7-826BFE7D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FA662-58BA-4BD2-AACA-08DA9D6C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9AA726-E12E-443C-B09B-C6F65555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7E728E-21BB-4EED-99BA-1B028CA9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565D74-8BE7-49D3-AC6E-E60F738C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9CD509-1E9D-4F1D-960D-7FCF8CD99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323964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602208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5720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6"/>
          <p:cNvSpPr>
            <a:spLocks noGrp="1"/>
          </p:cNvSpPr>
          <p:nvPr>
            <p:ph/>
          </p:nvPr>
        </p:nvSpPr>
        <p:spPr>
          <a:xfrm>
            <a:off x="323964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7"/>
          <p:cNvSpPr>
            <a:spLocks noGrp="1"/>
          </p:cNvSpPr>
          <p:nvPr>
            <p:ph/>
          </p:nvPr>
        </p:nvSpPr>
        <p:spPr>
          <a:xfrm>
            <a:off x="602208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B7C52F-35AF-4C55-AA74-EE76C5CBF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E0D9B7-C218-43CE-8D97-5AC4650D7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subTitle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85B6D5-C687-49F3-851D-BE0F530E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D122AE-466B-429F-B5C1-A6841D9A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EA2FEE-6A6A-4F34-BBA2-938CC153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256241-9CA2-4277-B95F-553405F5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1699D-7873-4F8A-B988-8C707834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ubTitle"/>
          </p:nvPr>
        </p:nvSpPr>
        <p:spPr>
          <a:xfrm>
            <a:off x="898200" y="263160"/>
            <a:ext cx="610236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28F2F6-7EE5-4521-89D8-40CDBE51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42C994-0F9D-445D-B33F-AB09082A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53B96D-AF90-420B-AD5B-9A896A89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6D2FCE-128E-48CF-AA34-55E79225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AABFF3-64AE-4677-B3A0-B8F34776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D4E90D-D2E2-4CFB-B6D7-16212FCA6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323964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602208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45720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6"/>
          <p:cNvSpPr>
            <a:spLocks noGrp="1"/>
          </p:cNvSpPr>
          <p:nvPr>
            <p:ph/>
          </p:nvPr>
        </p:nvSpPr>
        <p:spPr>
          <a:xfrm>
            <a:off x="323964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7"/>
          <p:cNvSpPr>
            <a:spLocks noGrp="1"/>
          </p:cNvSpPr>
          <p:nvPr>
            <p:ph/>
          </p:nvPr>
        </p:nvSpPr>
        <p:spPr>
          <a:xfrm>
            <a:off x="602208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C3860F-DA6A-43AD-BA93-36DA6646C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0F23A2-6B94-405E-A16B-BC1A69925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subTitle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7A107E-7EF1-4F47-B951-2A39A4BC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F2D9D4-FF6A-4BBC-8F73-8BCD3277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A8332-E7D9-4235-A074-8E5CB759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2371E7-BC75-4D90-BD60-8F4CB79F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ADF8D5-C944-47C5-84F4-21124F54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ubTitle"/>
          </p:nvPr>
        </p:nvSpPr>
        <p:spPr>
          <a:xfrm>
            <a:off x="898200" y="263160"/>
            <a:ext cx="610236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3960E1-C88F-45DA-87BC-58CD6A33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C4E825-93BA-4784-9ECE-97533A7D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3D121E-7EF9-43AB-9B73-5E88DC40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7CA6B5-42C3-4012-8D70-AE76E6AC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EF8899-FB46-4694-89BA-80C359A1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33B25C-C67D-4FEC-8779-5E37C6C14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323964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602208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45720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/>
          </p:nvPr>
        </p:nvSpPr>
        <p:spPr>
          <a:xfrm>
            <a:off x="323964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7"/>
          <p:cNvSpPr>
            <a:spLocks noGrp="1"/>
          </p:cNvSpPr>
          <p:nvPr>
            <p:ph/>
          </p:nvPr>
        </p:nvSpPr>
        <p:spPr>
          <a:xfrm>
            <a:off x="602208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DB2B8F-993B-48A9-84BB-0F55A26B0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7EE9658-9177-4E80-B318-44A9D4F1B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AFEC7-51C0-4CCA-A4BE-94A9D4AE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DAB2B8D-C641-4757-BD24-EB1041D3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B590E70-53CF-42BF-8549-0FA1B9B0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0C66DB5-32E2-4D32-A55F-BF5EF335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17D3D8B-2E3B-44F7-82E1-54B3532F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ubTitle"/>
          </p:nvPr>
        </p:nvSpPr>
        <p:spPr>
          <a:xfrm>
            <a:off x="898200" y="263160"/>
            <a:ext cx="610236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417A3C-1BE8-45DB-9917-075B5DB5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87263BD-1BFE-4327-BFA3-1FB41276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FA928E6-7045-4FC5-AC4E-17AB0948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B596106-C8C4-4347-B10E-4C1F19F3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BFDC1C1-6249-4828-8AF9-3589C02E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CA90353-F574-44D6-8D88-0A8E06394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F439-8D0A-4E61-AC6A-67EB5D0F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898200" y="263160"/>
            <a:ext cx="610236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2D071-53EB-46ED-A200-BA4CE702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323964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602208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45720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6"/>
          <p:cNvSpPr>
            <a:spLocks noGrp="1"/>
          </p:cNvSpPr>
          <p:nvPr>
            <p:ph/>
          </p:nvPr>
        </p:nvSpPr>
        <p:spPr>
          <a:xfrm>
            <a:off x="323964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7"/>
          <p:cNvSpPr>
            <a:spLocks noGrp="1"/>
          </p:cNvSpPr>
          <p:nvPr>
            <p:ph/>
          </p:nvPr>
        </p:nvSpPr>
        <p:spPr>
          <a:xfrm>
            <a:off x="602208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42D2F7-AD64-4A46-9504-D72F6863E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A5DB0-296A-4A0D-A4DB-A55BD4AE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7D233-1161-4E98-AD5B-B12FCFBD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5F44F-DA4B-43FE-8F15-BBCEB739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03A2F-1A93-46EA-B744-964CCB53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05369-5774-4BC3-8DF6-7C93F686D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7CCD3-BFAD-41D8-AA01-F9B5AA0FF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4061A-79CB-436D-A13B-78C1464A6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416F3-49C7-4623-9BE6-B8AB7F21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76939-AC3D-4B0D-BD95-008FBE1A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7329-F4E2-41EC-9494-E2A37505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2D5D6-D2C4-4324-8A37-367C36E4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598D9-E686-440A-9DEC-2129C07D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898200" y="263160"/>
            <a:ext cx="610236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214D9-AE5B-4901-8B7F-100D8910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27CDA-A7E9-462E-B3F4-284157E9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8FC87-67B4-47D3-9D03-251EDF49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4E6A6-450E-43F8-8C47-7DD324D4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C9F9A-8FA7-420E-BEFA-4E953CD3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A79F2-24E5-4320-AEF5-337B6DB65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7675C-AA6F-41CA-960D-859C27F2E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72EFE-C1DA-477D-9EC5-687BC4DE4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7F62-8CD7-4995-A63F-170C10DE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BA65D-3E24-416A-A9C5-FB887F0E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220EC-DE6C-4698-BB18-482432D6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FE994-84F3-43F5-B897-9F9AE795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87D09-85E4-482C-9094-0AA5B17D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98200" y="263160"/>
            <a:ext cx="610236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4DDC1-962C-4FD3-BEC5-8371D23C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00DD5-8388-4563-8905-BC38935F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D78BA-6613-4ECC-879E-29077980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8AD1D-6D6A-4325-9EF4-63DC2F00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88CF7-88C1-4135-A52A-378FBA21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7B520-2163-41CA-9E78-EEAF7FCE6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898200" y="263160"/>
            <a:ext cx="610236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2D3E-D90D-4B10-BADC-0A5343FF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590D6-713E-4AE0-BFA2-93CDE4224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EB794-B384-47C3-B411-660FCE7FF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AEF6C-7E5F-4FFE-A425-DACA23E5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4750F-4319-4464-9AF3-7EB801F9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C7BCE-D260-4335-8EE6-6DF571F8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64F56-A472-45E5-811F-DB7C3AAA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898200" y="263160"/>
            <a:ext cx="610236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ACB5E-B1DD-4024-BE4D-D29AC469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F16B8-312D-47AA-AA36-7396251A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635CD-1D06-4FB8-8049-1C6F3E3E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13D09-D7FF-4116-8052-20117844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7D64-01EF-4EF2-9C4D-81E04563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5E34B-8A4A-49CB-A558-A00BDBEC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C2A15-5F47-4A86-AC03-C4D116DD4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8B484-BA52-48F3-A7A1-E12BDF902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2B8B2-886E-4F5A-92E8-D6E438529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4243D-6129-4168-83A2-D011AC5A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6F8F9-BB7F-4EE3-AB9D-869C41EB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D800F-DB58-4D9A-B702-8819273D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7FA82-8538-4126-8D9E-43CCF485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898200" y="263160"/>
            <a:ext cx="610236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9217A-275D-4DE3-8E4F-6EBAC0EC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7477F-9B5A-498E-9BAD-72AE9F3E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D493-2EEF-4005-8842-42978CAA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B401A-DC36-4F25-A85A-A1992DC0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E9917-58B6-4920-898D-A631486C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EC492-0500-4D16-8455-21703EC9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66CB7-8673-45F4-938F-0B57BEA20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83286-9673-4E05-8AFD-E62DC9221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FEF2F-13C3-434D-84CE-F7243E05C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920A4-9F2A-448A-942A-BA4A6174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B2DE8-C27F-4FDB-9B7C-8851E188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A76A8-C2A6-43C9-AB1E-643EBBEA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09EA6-C102-4779-B25D-F3BE4E53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4CE1-586D-4CB6-9A79-128B5947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98200" y="263160"/>
            <a:ext cx="610236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C8275-236D-454C-A16B-7800B1CC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45B4E-D9A7-4C99-AA91-B9A5577F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EE28A-473A-4743-984C-CF2C7AAC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A75DB-0302-4B32-A48B-3448AA4C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137040"/>
            <a:ext cx="822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FA966-E30D-4194-A4B2-C992F4CB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9842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137040"/>
            <a:ext cx="40158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132CB-AE9C-4A37-BEDA-939BF41EB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9842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137040"/>
            <a:ext cx="2649600" cy="19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726EB-91D4-43EF-99B7-669458204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548DE-BCF0-430C-BCEC-78881AECE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1FECE-120F-4D41-9B98-BE8ABCAA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857BE3-6B1E-4012-A332-4F30B8F1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19080" y="0"/>
            <a:ext cx="9163080" cy="5715000"/>
          </a:xfrm>
          <a:prstGeom prst="rect">
            <a:avLst/>
          </a:prstGeom>
          <a:ln w="0">
            <a:noFill/>
          </a:ln>
        </p:spPr>
      </p:pic>
      <p:sp>
        <p:nvSpPr>
          <p:cNvPr id="1" name="矩形 10"/>
          <p:cNvSpPr/>
          <p:nvPr/>
        </p:nvSpPr>
        <p:spPr>
          <a:xfrm>
            <a:off x="-7920" y="912960"/>
            <a:ext cx="9140760" cy="46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7875720" y="3938760"/>
            <a:ext cx="1268280" cy="170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98200" y="263160"/>
            <a:ext cx="61023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51C2-E397-4CE3-B061-676893919C3A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F453-BDE2-44CB-A9C7-92F27A9FE2B1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3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0" y="58680"/>
            <a:ext cx="878040" cy="912960"/>
          </a:xfrm>
          <a:prstGeom prst="rect">
            <a:avLst/>
          </a:prstGeom>
          <a:ln w="0">
            <a:noFill/>
          </a:ln>
        </p:spPr>
      </p:pic>
      <p:pic>
        <p:nvPicPr>
          <p:cNvPr id="9" name="Picture 3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365040" y="311040"/>
            <a:ext cx="608040" cy="63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2"/>
          <a:stretch/>
        </p:blipFill>
        <p:spPr>
          <a:xfrm>
            <a:off x="-19080" y="0"/>
            <a:ext cx="9163080" cy="5715000"/>
          </a:xfrm>
          <a:prstGeom prst="rect">
            <a:avLst/>
          </a:prstGeom>
          <a:ln w="0">
            <a:noFill/>
          </a:ln>
        </p:spPr>
      </p:pic>
      <p:sp>
        <p:nvSpPr>
          <p:cNvPr id="410" name="矩形 10"/>
          <p:cNvSpPr/>
          <p:nvPr/>
        </p:nvSpPr>
        <p:spPr>
          <a:xfrm>
            <a:off x="-7920" y="912960"/>
            <a:ext cx="9140760" cy="46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7875720" y="3938760"/>
            <a:ext cx="1268280" cy="17049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0" y="58680"/>
            <a:ext cx="878040" cy="9129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365040" y="311040"/>
            <a:ext cx="608040" cy="63180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98200" y="263160"/>
            <a:ext cx="61023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8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08F7-4F62-4087-8039-3A9CA29A5EC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9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0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C76E-E7B3-4224-97D5-2DBBE96CD12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2" descr=""/>
          <p:cNvPicPr/>
          <p:nvPr/>
        </p:nvPicPr>
        <p:blipFill>
          <a:blip r:embed="rId2"/>
          <a:stretch/>
        </p:blipFill>
        <p:spPr>
          <a:xfrm>
            <a:off x="-19080" y="0"/>
            <a:ext cx="9163080" cy="5715000"/>
          </a:xfrm>
          <a:prstGeom prst="rect">
            <a:avLst/>
          </a:prstGeom>
          <a:ln w="0">
            <a:noFill/>
          </a:ln>
        </p:spPr>
      </p:pic>
      <p:sp>
        <p:nvSpPr>
          <p:cNvPr id="456" name="矩形 10"/>
          <p:cNvSpPr/>
          <p:nvPr/>
        </p:nvSpPr>
        <p:spPr>
          <a:xfrm>
            <a:off x="-7920" y="912960"/>
            <a:ext cx="9140760" cy="46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7875720" y="3938760"/>
            <a:ext cx="1268280" cy="170496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3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0" y="58680"/>
            <a:ext cx="878040" cy="9129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3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365040" y="311040"/>
            <a:ext cx="608040" cy="63180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98200" y="263160"/>
            <a:ext cx="61023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10EE-4700-4105-AF7A-F0AC90D71B8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637E-0338-4E70-ACD0-4F641C0129E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"/>
          <p:cNvPicPr/>
          <p:nvPr/>
        </p:nvPicPr>
        <p:blipFill>
          <a:blip r:embed="rId2"/>
          <a:stretch/>
        </p:blipFill>
        <p:spPr>
          <a:xfrm>
            <a:off x="-19080" y="0"/>
            <a:ext cx="9163080" cy="5715000"/>
          </a:xfrm>
          <a:prstGeom prst="rect">
            <a:avLst/>
          </a:prstGeom>
          <a:ln w="0">
            <a:noFill/>
          </a:ln>
        </p:spPr>
      </p:pic>
      <p:sp>
        <p:nvSpPr>
          <p:cNvPr id="502" name="矩形 10"/>
          <p:cNvSpPr/>
          <p:nvPr/>
        </p:nvSpPr>
        <p:spPr>
          <a:xfrm>
            <a:off x="-7920" y="912960"/>
            <a:ext cx="9140760" cy="46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7875720" y="3938760"/>
            <a:ext cx="1268280" cy="17049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3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0" y="58680"/>
            <a:ext cx="878040" cy="91296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3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365040" y="311040"/>
            <a:ext cx="608040" cy="631800"/>
          </a:xfrm>
          <a:prstGeom prst="rect">
            <a:avLst/>
          </a:prstGeom>
          <a:ln w="0">
            <a:noFill/>
          </a:ln>
        </p:spPr>
      </p:pic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98200" y="263160"/>
            <a:ext cx="61023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950F-93D8-4DD1-95EE-3E56DCAD75F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670D-A422-41B0-A2DD-E432D70358F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"/>
          <p:cNvPicPr/>
          <p:nvPr/>
        </p:nvPicPr>
        <p:blipFill>
          <a:blip r:embed="rId2"/>
          <a:stretch/>
        </p:blipFill>
        <p:spPr>
          <a:xfrm>
            <a:off x="-19080" y="0"/>
            <a:ext cx="9163080" cy="5715000"/>
          </a:xfrm>
          <a:prstGeom prst="rect">
            <a:avLst/>
          </a:prstGeom>
          <a:ln w="0">
            <a:noFill/>
          </a:ln>
        </p:spPr>
      </p:pic>
      <p:sp>
        <p:nvSpPr>
          <p:cNvPr id="548" name="矩形 10"/>
          <p:cNvSpPr/>
          <p:nvPr/>
        </p:nvSpPr>
        <p:spPr>
          <a:xfrm>
            <a:off x="-7920" y="912960"/>
            <a:ext cx="9140760" cy="46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7875720" y="3938760"/>
            <a:ext cx="1268280" cy="17049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3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0" y="58680"/>
            <a:ext cx="878040" cy="9129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365040" y="311040"/>
            <a:ext cx="608040" cy="63180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98200" y="263160"/>
            <a:ext cx="61023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3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DA70-D2B8-4849-A720-F91F6AEC03A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3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3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41CC-F191-4EF8-9851-5365171C7E5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"/>
          <p:cNvPicPr/>
          <p:nvPr/>
        </p:nvPicPr>
        <p:blipFill>
          <a:blip r:embed="rId2"/>
          <a:stretch/>
        </p:blipFill>
        <p:spPr>
          <a:xfrm>
            <a:off x="-19080" y="0"/>
            <a:ext cx="9163080" cy="5715000"/>
          </a:xfrm>
          <a:prstGeom prst="rect">
            <a:avLst/>
          </a:prstGeom>
          <a:ln w="0">
            <a:noFill/>
          </a:ln>
        </p:spPr>
      </p:pic>
      <p:sp>
        <p:nvSpPr>
          <p:cNvPr id="594" name="矩形 10"/>
          <p:cNvSpPr/>
          <p:nvPr/>
        </p:nvSpPr>
        <p:spPr>
          <a:xfrm>
            <a:off x="-7920" y="912960"/>
            <a:ext cx="9140760" cy="46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7875720" y="3938760"/>
            <a:ext cx="1268280" cy="17049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0" y="58680"/>
            <a:ext cx="878040" cy="91296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3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365040" y="311040"/>
            <a:ext cx="608040" cy="631800"/>
          </a:xfrm>
          <a:prstGeom prst="rect">
            <a:avLst/>
          </a:prstGeom>
          <a:ln w="0">
            <a:noFill/>
          </a:ln>
        </p:spPr>
      </p:pic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98200" y="263160"/>
            <a:ext cx="61023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4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E48C-A2D5-4C00-A59D-D201403097D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4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4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2096-F706-420D-9AA8-E0A1812DE8C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4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2439-499A-4499-8AE2-CB71098FFE0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4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4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FF7B-52D9-4599-BDF2-24459ABB738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E154-92FF-4F5C-9688-CEC9801D38C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4548-F95A-4183-B61C-4094506025E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6FF9-0A1A-44F4-AA78-9647DC46901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5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5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27EA-547F-429E-83D8-D1C2ADDA8A5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 type="dt" idx="5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68B8-001A-47BF-A5E4-FF7F64E46A8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 type="ftr" idx="5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 type="sldNum" idx="5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0CDB-A69B-46A1-B1CB-97D79B14A40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C42E-DE3C-46DF-BF54-37385703BAB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BB06-8809-4B77-B835-F4898192FA3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8B13-4889-4968-B72B-683ECE1A8DE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5BA9-560D-4F72-9057-98075692A0D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 type="dt" idx="58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35E5-16AA-4F31-BB13-2C49D94738B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 type="ftr" idx="59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 type="sldNum" idx="60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EAB3-B4D3-47FA-AA90-4586C23F6C1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 type="dt" idx="6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FB54-DA34-482E-8868-6AFEADBB5C1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 type="ftr" idx="6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 type="sldNum" idx="6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10D6-913F-4B8D-AF56-82FDC77BD2E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 type="dt" idx="6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36F4-F335-4F39-A464-DB73B0CD16D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 type="ftr" idx="6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 type="sldNum" idx="6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4CC8-0493-4ABD-A98C-2E2833660A8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 type="dt" idx="6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9A9B-9F8B-493E-94A3-413C6340B8F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 type="ftr" idx="6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 type="sldNum" idx="6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6E7A-9559-498C-A9C4-E90A682BF88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 type="dt" idx="7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0807-DD12-433F-9D97-64E9C934945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 type="ftr" idx="7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 type="sldNum" idx="7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3860-96EB-4B13-ABCC-36B0BBC1CDD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6852-E7FD-4651-A773-E3397F893F7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2207-936E-4A5D-955E-A63B21A146A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-19080" y="0"/>
            <a:ext cx="9163080" cy="5715000"/>
          </a:xfrm>
          <a:prstGeom prst="rect">
            <a:avLst/>
          </a:prstGeom>
          <a:ln w="0">
            <a:noFill/>
          </a:ln>
        </p:spPr>
      </p:pic>
      <p:sp>
        <p:nvSpPr>
          <p:cNvPr id="88" name="矩形 10"/>
          <p:cNvSpPr/>
          <p:nvPr/>
        </p:nvSpPr>
        <p:spPr>
          <a:xfrm>
            <a:off x="-7920" y="912960"/>
            <a:ext cx="9140760" cy="46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7875720" y="3938760"/>
            <a:ext cx="1268280" cy="1704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0" y="58680"/>
            <a:ext cx="878040" cy="912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365040" y="311040"/>
            <a:ext cx="608040" cy="6318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98200" y="263160"/>
            <a:ext cx="61023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8114-4E32-4202-BF14-0B868805AA8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EB0F-8333-4959-93E1-5F63F0462BE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-19080" y="0"/>
            <a:ext cx="9163080" cy="5715000"/>
          </a:xfrm>
          <a:prstGeom prst="rect">
            <a:avLst/>
          </a:prstGeom>
          <a:ln w="0">
            <a:noFill/>
          </a:ln>
        </p:spPr>
      </p:pic>
      <p:sp>
        <p:nvSpPr>
          <p:cNvPr id="134" name="矩形 10"/>
          <p:cNvSpPr/>
          <p:nvPr/>
        </p:nvSpPr>
        <p:spPr>
          <a:xfrm>
            <a:off x="-7920" y="912960"/>
            <a:ext cx="9140760" cy="46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7875720" y="3938760"/>
            <a:ext cx="1268280" cy="1704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0" y="58680"/>
            <a:ext cx="878040" cy="912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365040" y="311040"/>
            <a:ext cx="608040" cy="6318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98200" y="263160"/>
            <a:ext cx="61023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49DD-362A-4F0A-AFFC-F8B252B6775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A20F-8AC6-486F-A268-FF6D4381175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-19080" y="0"/>
            <a:ext cx="9163080" cy="5715000"/>
          </a:xfrm>
          <a:prstGeom prst="rect">
            <a:avLst/>
          </a:prstGeom>
          <a:ln w="0">
            <a:noFill/>
          </a:ln>
        </p:spPr>
      </p:pic>
      <p:sp>
        <p:nvSpPr>
          <p:cNvPr id="180" name="矩形 10"/>
          <p:cNvSpPr/>
          <p:nvPr/>
        </p:nvSpPr>
        <p:spPr>
          <a:xfrm>
            <a:off x="-7920" y="912960"/>
            <a:ext cx="9140760" cy="46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7875720" y="3938760"/>
            <a:ext cx="1268280" cy="1704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0" y="58680"/>
            <a:ext cx="878040" cy="9129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365040" y="311040"/>
            <a:ext cx="608040" cy="6318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8200" y="263160"/>
            <a:ext cx="61023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4687-006A-4139-A3DE-19060BEA41B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9CF3-A2E6-48B2-9D09-2B31C61826C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2"/>
          <a:stretch/>
        </p:blipFill>
        <p:spPr>
          <a:xfrm>
            <a:off x="-19080" y="0"/>
            <a:ext cx="9163080" cy="5715000"/>
          </a:xfrm>
          <a:prstGeom prst="rect">
            <a:avLst/>
          </a:prstGeom>
          <a:ln w="0">
            <a:noFill/>
          </a:ln>
        </p:spPr>
      </p:pic>
      <p:sp>
        <p:nvSpPr>
          <p:cNvPr id="226" name="矩形 10"/>
          <p:cNvSpPr/>
          <p:nvPr/>
        </p:nvSpPr>
        <p:spPr>
          <a:xfrm>
            <a:off x="-7920" y="912960"/>
            <a:ext cx="9140760" cy="46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7875720" y="3938760"/>
            <a:ext cx="1268280" cy="1704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0" y="58680"/>
            <a:ext cx="878040" cy="912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365040" y="311040"/>
            <a:ext cx="608040" cy="6318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98200" y="263160"/>
            <a:ext cx="61023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6CFE-433A-4C51-8CD0-D5EA1A99DC1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9423-282E-4BD2-B8B3-1A425E54548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2"/>
          <a:stretch/>
        </p:blipFill>
        <p:spPr>
          <a:xfrm>
            <a:off x="-19080" y="0"/>
            <a:ext cx="9163080" cy="5715000"/>
          </a:xfrm>
          <a:prstGeom prst="rect">
            <a:avLst/>
          </a:prstGeom>
          <a:ln w="0">
            <a:noFill/>
          </a:ln>
        </p:spPr>
      </p:pic>
      <p:sp>
        <p:nvSpPr>
          <p:cNvPr id="272" name="矩形 10"/>
          <p:cNvSpPr/>
          <p:nvPr/>
        </p:nvSpPr>
        <p:spPr>
          <a:xfrm>
            <a:off x="-7920" y="912960"/>
            <a:ext cx="9140760" cy="46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7875720" y="3938760"/>
            <a:ext cx="1268280" cy="17049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0" y="58680"/>
            <a:ext cx="878040" cy="9129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365040" y="311040"/>
            <a:ext cx="608040" cy="6318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98200" y="263160"/>
            <a:ext cx="61023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72E7-EF90-473C-8BD7-121ECD32D18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7655-809A-4CD4-B5BF-98F0A11182F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"/>
          <p:cNvPicPr/>
          <p:nvPr/>
        </p:nvPicPr>
        <p:blipFill>
          <a:blip r:embed="rId2"/>
          <a:stretch/>
        </p:blipFill>
        <p:spPr>
          <a:xfrm>
            <a:off x="-19080" y="0"/>
            <a:ext cx="9163080" cy="5715000"/>
          </a:xfrm>
          <a:prstGeom prst="rect">
            <a:avLst/>
          </a:prstGeom>
          <a:ln w="0">
            <a:noFill/>
          </a:ln>
        </p:spPr>
      </p:pic>
      <p:sp>
        <p:nvSpPr>
          <p:cNvPr id="318" name="矩形 10"/>
          <p:cNvSpPr/>
          <p:nvPr/>
        </p:nvSpPr>
        <p:spPr>
          <a:xfrm>
            <a:off x="-7920" y="912960"/>
            <a:ext cx="9140760" cy="46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7875720" y="3938760"/>
            <a:ext cx="1268280" cy="17049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3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0" y="58680"/>
            <a:ext cx="878040" cy="9129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365040" y="311040"/>
            <a:ext cx="608040" cy="63180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98200" y="263160"/>
            <a:ext cx="61023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0799-34EC-44DE-A12C-D80C8B98100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429D-9AF4-4146-9966-3F72A8F18F5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>
            <a:off x="-19080" y="0"/>
            <a:ext cx="9163080" cy="5715000"/>
          </a:xfrm>
          <a:prstGeom prst="rect">
            <a:avLst/>
          </a:prstGeom>
          <a:ln w="0">
            <a:noFill/>
          </a:ln>
        </p:spPr>
      </p:pic>
      <p:sp>
        <p:nvSpPr>
          <p:cNvPr id="364" name="矩形 10"/>
          <p:cNvSpPr/>
          <p:nvPr/>
        </p:nvSpPr>
        <p:spPr>
          <a:xfrm>
            <a:off x="-7920" y="912960"/>
            <a:ext cx="9140760" cy="46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7875720" y="3938760"/>
            <a:ext cx="1268280" cy="17049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0" y="58680"/>
            <a:ext cx="878040" cy="9129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365040" y="311040"/>
            <a:ext cx="608040" cy="63180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98200" y="263160"/>
            <a:ext cx="61023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9842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5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E677-98C9-4A4F-BCE3-91EF033F830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6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7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B299-99B3-4961-A39E-B9501D68B83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矩形 12"/>
          <p:cNvSpPr/>
          <p:nvPr/>
        </p:nvSpPr>
        <p:spPr>
          <a:xfrm>
            <a:off x="8298000" y="17640"/>
            <a:ext cx="7905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1" name="Picture 2" descr=""/>
          <p:cNvPicPr/>
          <p:nvPr/>
        </p:nvPicPr>
        <p:blipFill>
          <a:blip r:embed="rId2"/>
          <a:stretch/>
        </p:blipFill>
        <p:spPr>
          <a:xfrm>
            <a:off x="-9360" y="0"/>
            <a:ext cx="9162720" cy="571500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3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5292720" y="1128600"/>
            <a:ext cx="3851280" cy="458640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3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0" y="2913120"/>
            <a:ext cx="2521080" cy="2801880"/>
          </a:xfrm>
          <a:prstGeom prst="rect">
            <a:avLst/>
          </a:prstGeom>
          <a:ln w="0">
            <a:noFill/>
          </a:ln>
        </p:spPr>
      </p:pic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717480" y="213660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万圣节夜晚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在线下载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95" name="Picture 2" descr=""/>
          <p:cNvPicPr/>
          <p:nvPr/>
        </p:nvPicPr>
        <p:blipFill>
          <a:blip r:embed="rId5"/>
          <a:stretch/>
        </p:blipFill>
        <p:spPr>
          <a:xfrm rot="21107400">
            <a:off x="6392880" y="1254240"/>
            <a:ext cx="770040" cy="34272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2" descr=""/>
          <p:cNvPicPr/>
          <p:nvPr/>
        </p:nvPicPr>
        <p:blipFill>
          <a:blip r:embed="rId6"/>
          <a:stretch/>
        </p:blipFill>
        <p:spPr>
          <a:xfrm>
            <a:off x="7846920" y="3578400"/>
            <a:ext cx="1297080" cy="71892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2" descr=""/>
          <p:cNvPicPr/>
          <p:nvPr/>
        </p:nvPicPr>
        <p:blipFill>
          <a:blip r:embed="rId7"/>
          <a:stretch/>
        </p:blipFill>
        <p:spPr>
          <a:xfrm>
            <a:off x="538200" y="768240"/>
            <a:ext cx="519120" cy="43200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2" descr=""/>
          <p:cNvPicPr/>
          <p:nvPr/>
        </p:nvPicPr>
        <p:blipFill>
          <a:blip r:embed="rId8"/>
          <a:stretch/>
        </p:blipFill>
        <p:spPr>
          <a:xfrm rot="1977600">
            <a:off x="8167320" y="1181160"/>
            <a:ext cx="584280" cy="41760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2" descr=""/>
          <p:cNvPicPr/>
          <p:nvPr/>
        </p:nvPicPr>
        <p:blipFill>
          <a:blip r:embed="rId9"/>
          <a:stretch/>
        </p:blipFill>
        <p:spPr>
          <a:xfrm>
            <a:off x="8174160" y="552600"/>
            <a:ext cx="519120" cy="288720"/>
          </a:xfrm>
          <a:prstGeom prst="rect">
            <a:avLst/>
          </a:prstGeom>
          <a:ln w="0">
            <a:noFill/>
          </a:ln>
        </p:spPr>
      </p:pic>
      <p:sp>
        <p:nvSpPr>
          <p:cNvPr id="1100" name="文本框 26635"/>
          <p:cNvSpPr/>
          <p:nvPr/>
        </p:nvSpPr>
        <p:spPr>
          <a:xfrm>
            <a:off x="249120" y="5164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10726 -0.046 -0.20011 -0.113 -0.20651 C -0.177 -0.21452 -0.237 -0.14248 -0.241 -0.03842 C -0.246 0.05763 -0.204 0.14728 -0.144 0.15369 C -0.089 0.15849 -0.037 0.09926 -0.033 0.00961 C -0.029 -0.07204 -0.064 -0.14888 -0.115 -0.15529 C -0.162 -0.16009 -0.206 -0.11046 -0.209 -0.03522 C -0.212 0.03202 -0.184 0.09765 -0.142 0.10086 C -0.104 0.10566 -0.068 0.06724 -0.065 0.0064 C -0.063 -0.04803 -0.084 -0.10086 -0.117 -0.10406 C -0.146 -0.10726 -0.175 -0.07844 -0.177 -0.03202 C -0.179 0.008 -0.164 0.04643 -0.14 0.04963 C -0.12 0.05283 -0.099 0.03522 -0.098 0.0032 C -0.096 -0.02241 -0.104 -0.04963 -0.119 -0.05283 C -0.131 -0.05283 -0.143 -0.04643 -0.145 -0.02882 C -0.146 -0.01761 -0.144 -0.0064 -0.138 -0.0016 C -0.135 0 -0.133 0 -0.13 -0.0016 E">
                                      <p:cBhvr>
                                        <p:cTn id="6" dur="5000" fill="hold"/>
                                        <p:tgtEl>
                                          <p:spTgt spid="10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path" presetID="55">
                                  <p:stCondLst>
                                    <p:cond delay="4100"/>
                                  </p:stCondLst>
                                  <p:childTnLst>
                                    <p:animMotion origin="layout" path="M 0 0 C 0.004 -0.10726 -0.046 -0.20011 -0.113 -0.20651 C -0.177 -0.21452 -0.237 -0.14248 -0.241 -0.03842 C -0.246 0.05763 -0.204 0.14728 -0.144 0.15369 C -0.089 0.15849 -0.037 0.09926 -0.033 0.00961 C -0.029 -0.07204 -0.064 -0.14888 -0.115 -0.15529 C -0.162 -0.16009 -0.206 -0.11046 -0.209 -0.03522 C -0.212 0.03202 -0.184 0.09765 -0.142 0.10086 C -0.104 0.10566 -0.068 0.06724 -0.065 0.0064 C -0.063 -0.04803 -0.084 -0.10086 -0.117 -0.10406 C -0.146 -0.10726 -0.175 -0.07844 -0.177 -0.03202 C -0.179 0.008 -0.164 0.04643 -0.14 0.04963 C -0.12 0.05283 -0.099 0.03522 -0.098 0.0032 C -0.096 -0.02241 -0.104 -0.04963 -0.119 -0.05283 C -0.131 -0.05283 -0.143 -0.04643 -0.145 -0.02882 C -0.146 -0.01761 -0.144 -0.0064 -0.138 -0.0016 C -0.135 0 -0.133 0 -0.13 -0.0016 E">
                                      <p:cBhvr>
                                        <p:cTn id="8" dur="5000" fill="hold"/>
                                        <p:tgtEl>
                                          <p:spTgt spid="10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path" presetID="5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C 0.004 -0.10726 -0.046 -0.20011 -0.113 -0.20651 C -0.177 -0.21452 -0.237 -0.14248 -0.241 -0.03842 C -0.246 0.05763 -0.204 0.14728 -0.144 0.15369 C -0.089 0.15849 -0.037 0.09926 -0.033 0.00961 C -0.029 -0.07204 -0.064 -0.14888 -0.115 -0.15529 C -0.162 -0.16009 -0.206 -0.11046 -0.209 -0.03522 C -0.212 0.03202 -0.184 0.09765 -0.142 0.10086 C -0.104 0.10566 -0.068 0.06724 -0.065 0.0064 C -0.063 -0.04803 -0.084 -0.10086 -0.117 -0.10406 C -0.146 -0.10726 -0.175 -0.07844 -0.177 -0.03202 C -0.179 0.008 -0.164 0.04643 -0.14 0.04963 C -0.12 0.05283 -0.099 0.03522 -0.098 0.0032 C -0.096 -0.02241 -0.104 -0.04963 -0.119 -0.05283 C -0.131 -0.05283 -0.143 -0.04643 -0.145 -0.02882 C -0.146 -0.01761 -0.144 -0.0064 -0.138 -0.0016 C -0.135 0 -0.133 0 -0.13 -0.0016 E">
                                      <p:cBhvr>
                                        <p:cTn id="10" dur="5000" fill="hold"/>
                                        <p:tgtEl>
                                          <p:spTgt spid="10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mph" presetID="26" repeatCount="indefinite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2" dur="5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0" autoRev="1" fill="hold"/>
                                        <p:tgtEl>
                                          <p:spTgt spid="10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mph" presetID="26" repeatCount="indefinite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2500" autoRev="1" fill="hold"/>
                                        <p:tgtEl>
                                          <p:spTgt spid="10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mph" presetID="26" repeatCount="indefinite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8" dur="5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0" autoRev="1" fill="hold"/>
                                        <p:tgtEl>
                                          <p:spTgt spid="10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1" dur="5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2500" autoRev="1" fill="hold"/>
                                        <p:tgtEl>
                                          <p:spTgt spid="10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日期占位符 2"/>
          <p:cNvSpPr/>
          <p:nvPr/>
        </p:nvSpPr>
        <p:spPr>
          <a:xfrm>
            <a:off x="45720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430A-EDE6-4687-A153-6AA5892E414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03" name="Picture 2" descr=""/>
          <p:cNvPicPr/>
          <p:nvPr/>
        </p:nvPicPr>
        <p:blipFill>
          <a:blip r:embed="rId1"/>
          <a:srcRect l="12672" t="63055" r="43968" b="13591"/>
          <a:stretch/>
        </p:blipFill>
        <p:spPr>
          <a:xfrm>
            <a:off x="-11160" y="903240"/>
            <a:ext cx="25923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日期占位符 2"/>
          <p:cNvSpPr/>
          <p:nvPr/>
        </p:nvSpPr>
        <p:spPr>
          <a:xfrm>
            <a:off x="45720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00C3-1A7D-495E-B959-2A60BB4A965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06" name="Picture 3" descr=""/>
          <p:cNvPicPr/>
          <p:nvPr/>
        </p:nvPicPr>
        <p:blipFill>
          <a:blip r:embed="rId1"/>
          <a:srcRect l="39176" t="34086" r="9030" b="42749"/>
          <a:stretch/>
        </p:blipFill>
        <p:spPr>
          <a:xfrm>
            <a:off x="6013440" y="4370400"/>
            <a:ext cx="3097080" cy="1152360"/>
          </a:xfrm>
          <a:prstGeom prst="rect">
            <a:avLst/>
          </a:prstGeom>
          <a:ln w="0">
            <a:noFill/>
          </a:ln>
        </p:spPr>
      </p:pic>
      <p:sp>
        <p:nvSpPr>
          <p:cNvPr id="1107" name="文本框 28676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7bbfd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17bbfd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日期占位符 2"/>
          <p:cNvSpPr/>
          <p:nvPr/>
        </p:nvSpPr>
        <p:spPr>
          <a:xfrm>
            <a:off x="45720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F9E8-BAA9-484B-974F-B48D0BBE5FD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10" name="Picture 3" descr=""/>
          <p:cNvPicPr/>
          <p:nvPr/>
        </p:nvPicPr>
        <p:blipFill>
          <a:blip r:embed="rId1"/>
          <a:srcRect l="12672" t="76060" r="46376" b="-3561"/>
          <a:stretch/>
        </p:blipFill>
        <p:spPr>
          <a:xfrm>
            <a:off x="6805440" y="912960"/>
            <a:ext cx="2449800" cy="1368360"/>
          </a:xfrm>
          <a:prstGeom prst="rect">
            <a:avLst/>
          </a:prstGeom>
          <a:ln w="0">
            <a:noFill/>
          </a:ln>
        </p:spPr>
      </p:pic>
      <p:sp>
        <p:nvSpPr>
          <p:cNvPr id="1111" name="矩形 4"/>
          <p:cNvSpPr/>
          <p:nvPr/>
        </p:nvSpPr>
        <p:spPr>
          <a:xfrm>
            <a:off x="3166920" y="26733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Picture 2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5715000"/>
          </a:xfrm>
          <a:prstGeom prst="rect">
            <a:avLst/>
          </a:prstGeom>
          <a:ln w="0">
            <a:noFill/>
          </a:ln>
        </p:spPr>
      </p:pic>
      <p:sp>
        <p:nvSpPr>
          <p:cNvPr id="1113" name="矩形 6"/>
          <p:cNvSpPr/>
          <p:nvPr/>
        </p:nvSpPr>
        <p:spPr>
          <a:xfrm>
            <a:off x="0" y="552600"/>
            <a:ext cx="9144000" cy="475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4" name="Picture 2" descr=""/>
          <p:cNvPicPr/>
          <p:nvPr/>
        </p:nvPicPr>
        <p:blipFill>
          <a:blip r:embed="rId2"/>
          <a:stretch/>
        </p:blipFill>
        <p:spPr>
          <a:xfrm>
            <a:off x="2338560" y="2281320"/>
            <a:ext cx="1081080" cy="1163520"/>
          </a:xfrm>
          <a:prstGeom prst="rect">
            <a:avLst/>
          </a:prstGeom>
          <a:ln w="0">
            <a:noFill/>
          </a:ln>
        </p:spPr>
      </p:pic>
      <p:sp>
        <p:nvSpPr>
          <p:cNvPr id="1115" name="标题 3"/>
          <p:cNvSpPr/>
          <p:nvPr/>
        </p:nvSpPr>
        <p:spPr>
          <a:xfrm>
            <a:off x="3419640" y="2425680"/>
            <a:ext cx="3601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日期占位符 2"/>
          <p:cNvSpPr/>
          <p:nvPr/>
        </p:nvSpPr>
        <p:spPr>
          <a:xfrm>
            <a:off x="45720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808C-559F-4733-8F72-AFB06FDA16F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18" name="Picture 2" descr=""/>
          <p:cNvPicPr/>
          <p:nvPr/>
        </p:nvPicPr>
        <p:blipFill>
          <a:blip r:embed="rId1"/>
          <a:stretch/>
        </p:blipFill>
        <p:spPr>
          <a:xfrm>
            <a:off x="2482920" y="2136600"/>
            <a:ext cx="3889440" cy="21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日期占位符 2"/>
          <p:cNvSpPr/>
          <p:nvPr/>
        </p:nvSpPr>
        <p:spPr>
          <a:xfrm>
            <a:off x="45720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DD73-7508-4E3D-A6A4-71F1640A222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21" name="Picture 2" descr=""/>
          <p:cNvPicPr/>
          <p:nvPr/>
        </p:nvPicPr>
        <p:blipFill>
          <a:blip r:embed="rId1"/>
          <a:stretch/>
        </p:blipFill>
        <p:spPr>
          <a:xfrm rot="4983600">
            <a:off x="2844360" y="1307880"/>
            <a:ext cx="3332160" cy="3681360"/>
          </a:xfrm>
          <a:prstGeom prst="rect">
            <a:avLst/>
          </a:prstGeom>
          <a:ln w="0">
            <a:noFill/>
          </a:ln>
        </p:spPr>
      </p:pic>
      <p:sp>
        <p:nvSpPr>
          <p:cNvPr id="1122" name="六边形 4"/>
          <p:cNvSpPr/>
          <p:nvPr/>
        </p:nvSpPr>
        <p:spPr>
          <a:xfrm>
            <a:off x="2843280" y="1279440"/>
            <a:ext cx="576360" cy="496800"/>
          </a:xfrm>
          <a:prstGeom prst="hexagon">
            <a:avLst>
              <a:gd name="adj" fmla="val 24975"/>
              <a:gd name="vf" fmla="val 115470"/>
            </a:avLst>
          </a:prstGeom>
          <a:solidFill>
            <a:srgbClr val="ff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六边形 5"/>
          <p:cNvSpPr/>
          <p:nvPr/>
        </p:nvSpPr>
        <p:spPr>
          <a:xfrm>
            <a:off x="5364000" y="1279440"/>
            <a:ext cx="576360" cy="496800"/>
          </a:xfrm>
          <a:prstGeom prst="hexagon">
            <a:avLst>
              <a:gd name="adj" fmla="val 24975"/>
              <a:gd name="vf" fmla="val 115470"/>
            </a:avLst>
          </a:prstGeom>
          <a:solidFill>
            <a:srgbClr val="ff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六边形 6"/>
          <p:cNvSpPr/>
          <p:nvPr/>
        </p:nvSpPr>
        <p:spPr>
          <a:xfrm>
            <a:off x="6300720" y="2647800"/>
            <a:ext cx="576360" cy="497160"/>
          </a:xfrm>
          <a:prstGeom prst="hexagon">
            <a:avLst>
              <a:gd name="adj" fmla="val 24957"/>
              <a:gd name="vf" fmla="val 115470"/>
            </a:avLst>
          </a:prstGeom>
          <a:solidFill>
            <a:srgbClr val="ff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六边形 7"/>
          <p:cNvSpPr/>
          <p:nvPr/>
        </p:nvSpPr>
        <p:spPr>
          <a:xfrm>
            <a:off x="6156360" y="4449600"/>
            <a:ext cx="577800" cy="497160"/>
          </a:xfrm>
          <a:prstGeom prst="hexagon">
            <a:avLst>
              <a:gd name="adj" fmla="val 25020"/>
              <a:gd name="vf" fmla="val 115470"/>
            </a:avLst>
          </a:prstGeom>
          <a:solidFill>
            <a:srgbClr val="ff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六边形 8"/>
          <p:cNvSpPr/>
          <p:nvPr/>
        </p:nvSpPr>
        <p:spPr>
          <a:xfrm>
            <a:off x="2482920" y="4521240"/>
            <a:ext cx="576360" cy="496800"/>
          </a:xfrm>
          <a:prstGeom prst="hexagon">
            <a:avLst>
              <a:gd name="adj" fmla="val 24975"/>
              <a:gd name="vf" fmla="val 115470"/>
            </a:avLst>
          </a:prstGeom>
          <a:solidFill>
            <a:srgbClr val="ff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六边形 9"/>
          <p:cNvSpPr/>
          <p:nvPr/>
        </p:nvSpPr>
        <p:spPr>
          <a:xfrm>
            <a:off x="2122560" y="2720880"/>
            <a:ext cx="576360" cy="497160"/>
          </a:xfrm>
          <a:prstGeom prst="hexagon">
            <a:avLst>
              <a:gd name="adj" fmla="val 24957"/>
              <a:gd name="vf" fmla="val 115470"/>
            </a:avLst>
          </a:prstGeom>
          <a:solidFill>
            <a:srgbClr val="ff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Box 11"/>
          <p:cNvSpPr/>
          <p:nvPr/>
        </p:nvSpPr>
        <p:spPr>
          <a:xfrm>
            <a:off x="687600" y="307332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Box 12"/>
          <p:cNvSpPr/>
          <p:nvPr/>
        </p:nvSpPr>
        <p:spPr>
          <a:xfrm>
            <a:off x="1047960" y="120024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Box 13"/>
          <p:cNvSpPr/>
          <p:nvPr/>
        </p:nvSpPr>
        <p:spPr>
          <a:xfrm>
            <a:off x="759240" y="437040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Box 14"/>
          <p:cNvSpPr/>
          <p:nvPr/>
        </p:nvSpPr>
        <p:spPr>
          <a:xfrm>
            <a:off x="6018480" y="127332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Box 15"/>
          <p:cNvSpPr/>
          <p:nvPr/>
        </p:nvSpPr>
        <p:spPr>
          <a:xfrm>
            <a:off x="6810840" y="285768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Box 16"/>
          <p:cNvSpPr/>
          <p:nvPr/>
        </p:nvSpPr>
        <p:spPr>
          <a:xfrm>
            <a:off x="6882120" y="458640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矩形 16"/>
          <p:cNvSpPr/>
          <p:nvPr/>
        </p:nvSpPr>
        <p:spPr>
          <a:xfrm>
            <a:off x="3000240" y="42861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79E7-8289-417C-9A2A-1DAAF554FC2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日期占位符 2"/>
          <p:cNvSpPr/>
          <p:nvPr/>
        </p:nvSpPr>
        <p:spPr>
          <a:xfrm>
            <a:off x="45720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6E68-1014-48C2-B534-001323C2B5A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898200" y="245880"/>
            <a:ext cx="610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41" name="Picture 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338560" y="1273320"/>
            <a:ext cx="4109760" cy="4271760"/>
          </a:xfrm>
          <a:prstGeom prst="rect">
            <a:avLst/>
          </a:prstGeom>
          <a:ln w="0">
            <a:noFill/>
          </a:ln>
        </p:spPr>
      </p:pic>
      <p:sp>
        <p:nvSpPr>
          <p:cNvPr id="1142" name="TextBox 11"/>
          <p:cNvSpPr/>
          <p:nvPr/>
        </p:nvSpPr>
        <p:spPr>
          <a:xfrm>
            <a:off x="832320" y="307332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12"/>
          <p:cNvSpPr/>
          <p:nvPr/>
        </p:nvSpPr>
        <p:spPr>
          <a:xfrm>
            <a:off x="903600" y="206532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Box 13"/>
          <p:cNvSpPr/>
          <p:nvPr/>
        </p:nvSpPr>
        <p:spPr>
          <a:xfrm>
            <a:off x="6305760" y="379404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Box 14"/>
          <p:cNvSpPr/>
          <p:nvPr/>
        </p:nvSpPr>
        <p:spPr>
          <a:xfrm>
            <a:off x="5947200" y="148896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Box 15"/>
          <p:cNvSpPr/>
          <p:nvPr/>
        </p:nvSpPr>
        <p:spPr>
          <a:xfrm>
            <a:off x="6018480" y="264168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矩形 14"/>
          <p:cNvSpPr/>
          <p:nvPr/>
        </p:nvSpPr>
        <p:spPr>
          <a:xfrm>
            <a:off x="3166920" y="26733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文本框 33802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7bbfd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17bbfd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07:3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28:42Z</dcterms:modified>
  <cp:revision>4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