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5FB8-AE88-473C-8C9C-006E3B6E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576A-B686-4B74-A900-C90411E9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07AB-BC55-49BF-8686-EA371F9A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44F2-7248-4691-B21C-CFDA3D0F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A9BB-E978-4E09-8855-9DB86AF9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6A48-EC4E-4145-82C2-2EDD1861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15B8-DCFE-42A2-8D58-E2CA5685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7C81-005E-4EC0-B3D1-B03D4609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5720-3A36-40DE-8A26-86EDDC4D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B7F9-6E0D-4601-A049-72B11FAC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FF60-A47D-4B4C-803F-04BEA44C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70C6-71D8-4A37-A146-CFC11985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8E47-C77A-4124-B637-4D5DCF6A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BC55-BF56-4C0B-93F8-71BFDF02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67B3-0338-4240-98ED-602B3D7C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70BD-5DE1-45A0-AE12-8D133918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117A-A8A8-4BF9-B177-DCEDE756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2DD1-68DA-4062-B7AB-46BCC216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6BEA-26A6-4CF3-A0C9-94C44F03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982F-533D-41B6-83EA-61BA1D71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4C8A-C2FF-435F-A73E-B90A3085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EF93-0835-44CA-B467-2AC95548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78A8-93DB-4D80-81FA-BC804B13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1F6B-0CA3-4466-BFCF-7D4FE06B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DEB2-4196-4DAE-ACA2-E8041FED7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D051-ED0B-4D0B-9422-996C6B5F677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5F15-175D-4631-9DCC-1E8311FF5B5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3073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074"/>
          <p:cNvSpPr/>
          <p:nvPr/>
        </p:nvSpPr>
        <p:spPr>
          <a:xfrm>
            <a:off x="3806640" y="3645000"/>
            <a:ext cx="37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五一促销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0AB1-0F63-4307-9F5A-1BABBEBE6BA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4099"/>
          <p:cNvSpPr/>
          <p:nvPr/>
        </p:nvSpPr>
        <p:spPr>
          <a:xfrm>
            <a:off x="1187280" y="2852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7:34:5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39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