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6C9-FB84-4F98-B77E-1370E189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864-AFB4-4A0F-8E5A-28E1B9B0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E621F-D28D-4698-8A64-EE106414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61A43-1C56-4884-80C6-EA9FAC5E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261E8-4EE0-496D-8D53-40F51C06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E266B-C96A-4947-9288-3C15FEEB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D0076-D694-49C7-B3B4-CC6B17DB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791E1-6AFD-4EC6-ABFF-4A1B0AA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50501-4091-49B8-AA9F-ED9B033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C55D9-EABC-4F4C-AA24-4F4CBD02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8F149-679D-4233-8D14-D3F548F6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B52E8-7895-40E4-ADD1-CFD98B09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EF1-2310-4D4F-8DC5-B8FD44FA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8B5CB-B7FB-40DB-95CA-19DC78D8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0B415-D9A8-4C06-B195-9AC71059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396E1-2194-487E-9D31-31CFAD2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C4F29-EE3E-41BB-A40A-F501C34B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F3087-D133-4A44-B367-2764A334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75915-98E6-4857-BF6B-7344F90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648D7-5B8F-48B6-BDF2-0F6ED6C8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3D53C-5DA6-4B35-86DA-88155C7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CF8D8-1BF5-467B-A01B-D0B6864D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31615-41CF-493F-A1E8-54A7508F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997-BE8C-4746-8299-A0611F80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1E6C4-4CBA-49E9-B427-8E6B9A9B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99709-C0AD-4FE5-B709-B99AEE7A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6A99C-880A-445D-A8D0-73A7795A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B094B-DF54-4EC6-A46C-C6D15C5E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FA963-7B33-4BCB-8FD4-2EC35ED8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C0FD6-7146-4FDE-B6B1-10D1EF68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1F55A-81BB-4A92-A775-93B21339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84CCC-D699-4269-BFF2-7A105A5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6F733-61FE-4006-AD1B-53931FD5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2A18C-BBA1-47B0-A39B-6436106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0C0D-FA09-474C-94E4-C6E13FC9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F92D5-1989-4ED8-88DB-F4A66EF0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BB69C-C7A1-4A6C-8950-D948C22C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95D19-3C0B-4F71-A8EB-B3DB4F90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7D66B-2866-43B1-8563-66923E3B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6B4FB-C69B-42D3-A840-08E29333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64184-1B6B-4B48-AD82-0178D0D7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70E6E-9F84-4E84-9E54-CB99E380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91442-9612-4C00-939C-190D606C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CF8AD-3D96-4D1B-B30D-A9072B4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CF477-551C-46ED-9618-5ACCABB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7E53-FC2D-47E9-A425-81DEF177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FDFFB-87E8-4E03-B1A5-B9A996A9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79006-30DA-40DC-9E08-5CBF25B6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5D6A4-B487-4D73-86F1-240EAEE9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67EFC-67DC-414E-8597-99FC09AF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51344-D433-49C0-B4E4-5889CE39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9596A-7720-40F8-8173-46959B29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9FA25-D24D-42C0-92AC-49A327A3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E4403-E914-4B35-98BB-4193EF6D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EFA24-ECBC-4B3D-A017-B0DA5401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62411-A520-45AF-AFDB-C24BCE1A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B603-52A4-4656-BF15-116F625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27BDC-5880-462E-9CD3-C6E4AFDD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2F7E1-39FD-4852-B465-D30F9F74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969DF-581A-49F6-A170-B646F6B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D288D-1779-4B78-8EF6-B17A320B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31F32-26A9-4310-AF89-19BDD217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97F9E-2946-47AA-B67F-268296D2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55E65-7F4B-4788-8E5C-439EF654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6472-4163-41FE-9ADD-AFBE6B62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C9AF-131D-47AE-8FF5-53124C14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39E0-BAB7-4759-B4FF-857A01A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5A02-225B-48A9-9F2A-9BDE4922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C08-E0A3-4AA6-92EA-97A6B19C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E450-C55B-42E4-8338-5497291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F6FE-F616-4D24-AB0F-3DEF494C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8C7F-D508-461D-8495-E5B4370C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45A2-5D1A-4D74-A466-4B88BACD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5EEA-A4CD-4D86-A30D-AFC04760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AC53-7D01-47A0-A880-0ED84778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F050-3C65-41A7-B8A1-6454A589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52C2-6ACF-4B80-BC12-79A3DC61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0279-C243-4CAC-9E51-83A65630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73C4-34CC-47E7-B27E-56DCBDCD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40C-1BE1-4763-A5CA-69B61C27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5684-36BB-4121-AB63-91674755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070E-5D44-4F77-82C1-2C108103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3E4A-C295-42BF-91FF-032B0AAC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7995-C49B-4F85-BB96-2775152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84D7-6187-4AF6-BD8A-4A81640A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6868-9C3B-414A-A3AE-E3BAB04C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BE9E-C81A-49E2-915B-3A63FDC3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7207-B752-4013-9C89-A37EF0C8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6F16-BFD4-4203-9563-C27B5E43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1E4F-9D7C-4BD5-A983-38556EEF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AA7-51F2-4788-A1EC-5DC7FAD0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2F08-76CB-4030-AFB2-9B231751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D0274-87A2-474B-919F-DB4B0CF4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2B02-EE16-43C3-A5B3-491129D8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4970-0AE1-42FE-A6B5-CE37244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4F0E4-59A0-4E1A-A09E-06BDC46D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8060-EDF4-4B8C-9AC5-DAF06D5E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EF12-49FE-40E2-9A46-19F14C95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E98B-1A86-494D-A2AE-C08A2F20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876A-3D5E-450F-B621-EF88138A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E728-1898-4493-9172-44D75794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23A-C116-46E5-B961-35A98F5D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DF9C-D594-4C5F-A5AA-3269B3AA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133C-90E4-453C-89AD-00AD7960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C1591-CA7A-4FEC-9FCE-572206A1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605E1-5E0E-4031-BF3B-1F694E17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094B9-658C-4144-A991-D2CA69E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DFDC-DCE6-4895-8FD8-7220CB8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7D4E0-A88F-47A6-B017-2FA45C3F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17811-E29D-4202-805D-C724EA65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570D-6F33-4894-AC65-4F077049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0093-D976-4D46-A3CB-BCDC3BE8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6C4-A6B6-42D5-B398-842D48FB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7E9F8-933D-45FD-BD82-30526EB6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246CC-6EC9-40E9-B3D7-A4069167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CAEF0-94DE-4BB1-A27A-09C619A8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11F4E-3521-40A2-B848-A4675CBA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03FB3-FC93-4127-B746-C56BF77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2E2B-E4AD-4295-8C06-6C092629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E91E4-ADC2-4FF3-B7DB-A2779592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7133E-6A7C-4746-89C1-07C33DA2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14E5A-393F-4602-BC7E-8C81507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0557D-16D7-461B-815F-43DDF24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FA8-05D5-4368-9BF6-338644B5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C86E-2233-4C66-9432-5FEBC58A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84FDC-0E2E-418B-9989-C7A5D6AF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30A1B-5ED4-424C-990D-4050A5DA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2A782-CF7C-4F56-8255-AC3F32EE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FBAC-DD94-410C-9071-2C67C5EF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78C2A-D815-42C5-B846-B4265AF5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B0100-474E-4927-A62A-98D680B0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CA3F7-CD4B-4FB4-835A-CB4FD166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855B9-C9F2-4D5F-B1B9-FDB2B526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2370-CE12-408F-BA67-69E2C5F5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8D0-821B-46ED-9CE4-FA2755DE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0B876-D8EA-40EA-A0CE-7203ADD9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3747B-611C-49B8-B52B-C39EF05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D6DDD-91E5-4FFD-84C2-D268ABDC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F93A-DD64-4837-AFCE-B4D8E326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6DF70-4AED-452A-8930-3FC40253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CD8F0-45CF-482E-9B0F-E3FC1CDF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5B7DE-9B92-4405-A9C4-092D5554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ACEC1-EB05-4D1C-811B-C7CD4435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B9B47-C107-4340-B14B-C32F4FB4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F591D-3AE2-41A1-BEFD-88A743FC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B5A-A64F-4B6D-8E2A-A00E1078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FA1E-BCA5-4C2A-ADD7-A85ED494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7814C-7786-4AE4-9FBB-95B82E0C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CC2F-9AE5-4DBA-B5D0-E6DBF235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1562B-501D-423D-AC4B-6A0A90C3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BDB06-C082-4806-A7CA-A96DBBC0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0FA7B-2042-4C22-B6D4-C798E313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3E1D8-D87A-4CC8-A6EE-87A10881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38668-42B5-4666-9346-C3FC084E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00892-90A4-4002-A334-67C6F7B9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59C46-BEE2-43D8-8B9F-8A658492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D550-681B-4935-A544-0AC470B57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39CD-B44B-4BB6-8873-19378745315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1166-A749-4ED0-8F9F-91F24A31FD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FFEF-2228-438F-86F0-CD28DC1D360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150E-4EEA-4566-9A14-27E7A51C10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62E7-A96A-4C96-BB50-57F76B4BE12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F884-612A-45C4-87B7-F6B0CCE0C9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DAE-A2BD-40AE-8477-028C038D20E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C54B-BC46-447E-8B52-16903843CB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B150-DC18-441F-9725-10E2D4DA37D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78F3-E06A-49BB-9DFC-4A71906087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F9E3-60B7-4BDB-BE6F-032CDDB538D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B8F9-7BDD-4269-86D4-D975C4AF2C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5CA5-F425-40A1-86E8-6A7350D4728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7221-4E6A-40CD-8123-80213218575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D847-C4B4-4C6F-B753-F006DF61E70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9553-3E6D-4FEF-8267-DE24993F47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0215-67F1-4844-93A6-9DDC8F0FAFC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2337-737E-48A1-99E7-6ACC89ED6B9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82BF-0EBD-4160-9D44-E87A28EF949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D1B5-5BC9-4AA3-A596-FDC0C85E054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E7E0-8B72-4A54-B9EA-3DDBCB1632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EAB-E4D6-4E15-BE8A-9A63183684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67E4-3715-4E44-90C1-2B2EDA568D0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F958-29EC-4448-89B9-60E2C82D342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0F50-9480-4C84-80C7-2EC0E03900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文本框 1433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4338"/>
          <p:cNvSpPr/>
          <p:nvPr/>
        </p:nvSpPr>
        <p:spPr>
          <a:xfrm>
            <a:off x="2455560" y="3933720"/>
            <a:ext cx="46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五一促销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34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40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