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167-9785-4A2D-989B-2B7022A1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B08-373E-4294-83CE-784FF7E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99C-34BC-40A3-AE8B-1B162350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C7F-8063-4FBC-91EC-8B29DDE4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242F-4962-42ED-B6DF-9B466E81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C0A0-AB1B-45DF-ACF1-8901D43D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C53-84AA-4811-8068-F78910DE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D4B3-39A4-4564-B611-4BAB9812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68DE-18F1-4FA3-B94B-ECC8B28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F77-D329-4CB6-A01F-AC8ED39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506-987A-4AD8-A56C-A1D4862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2F3-A55A-4ED7-84AB-C47D8CFB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C39F-34C3-423E-B96C-94808720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CBF6-EF40-4C8F-88C5-74C59B4E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1BA6-CA6B-4A09-9A0B-83920741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985A-43B4-489B-B7E7-10784455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C804-89D9-456B-BFAA-C53786D2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B274-4CE5-4E3A-8D0F-F7A088AA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A135-01FA-4DF8-A8A8-63865E2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8479-17B9-4838-BE0D-0819AFAC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B4FF-1977-42C6-9464-97F5A928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1DA0-AB9B-4334-A966-A6D20E2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E07-301A-4FBE-AED6-4BB58B58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7A90-428C-4472-A86D-3D89C253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BDF8-7529-4E47-8093-1811FE2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1955-211E-4EED-B275-A8D478A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D555-4C27-4C5E-9237-6F5B9C9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54EC5-FADE-4BFE-82DF-EA07CCB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9695E-12E1-4E29-B14D-F5789832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3747-3DCF-4E88-8949-8D93362C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AE0-3DC4-4865-874D-6438F7B7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C57-3D7C-4FF1-87B2-8049EC1A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6E01-05F4-431E-B9DF-D1C18A25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CA4-21E6-4896-8F33-FAEDAE4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557-632E-439B-889A-7756B98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12E0-F153-4EE8-9E07-FA5075C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37AD-A6F9-40DF-884F-99A13CC2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A82-C538-4507-8E2B-D622915F2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4397-2600-4097-8EFF-56EF42F1F1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43D7-456B-4CCA-8B0D-FF7F3FD1CE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09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098"/>
          <p:cNvSpPr/>
          <p:nvPr/>
        </p:nvSpPr>
        <p:spPr>
          <a:xfrm>
            <a:off x="513576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五一劳动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C770-8FBA-42D8-89E6-AD9B9B7EBB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