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3FF-105D-4038-A653-48A57B04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82F-F96D-4D1A-9C9B-93FE1EE1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038-97A9-4353-8DE1-B7592AFB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9F4-09E8-4DB8-BD37-A0BA9A33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DA0E-75D1-4611-9D3C-8EFB1728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3392-2CDC-49FB-8FB4-008092AD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A495-7942-4436-AD31-6A261CCB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78B9-F05B-48A8-ABF5-0037AC1E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919E-8697-46DA-A63D-6F83B2C9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7A60-4C40-4CBA-B896-36C19064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61A4-5980-46A4-8A24-B9DD4B59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2B3-BC67-4AAB-9FA6-EED0495E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1A1B-04F6-4C30-8C34-5191FBD5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CDC1-5008-4316-9018-D6F0059B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6B48-CD7D-4481-902B-18A119AC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A5E1-92CC-4C99-88A0-F5C9AB2A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9282-3B7A-4BEB-8281-2BFE657E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234-0A35-4EFE-9288-02AFD87A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A42-BF53-4CB0-B05D-E9FC036C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21A-C10B-4DFB-9475-F989A64C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6A3-2908-4B57-8970-13515B6E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836-7548-4979-BD80-1B6868CC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B91-B801-4AAC-85C1-4B592410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D16-7222-4255-9FDE-D38F0A22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5DFA-6847-4B6D-B370-7E3504D88E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1970-1522-4C04-80BD-633D3C1F6FD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3188-1217-4AFE-9DD8-C0570C9514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五一劳动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5EDF-32C0-41C3-B9D0-FE100AA1DF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099"/>
          <p:cNvSpPr/>
          <p:nvPr/>
        </p:nvSpPr>
        <p:spPr>
          <a:xfrm>
            <a:off x="1476360" y="4076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1:4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4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