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BF4F-4029-4ECE-BD75-E6169A42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7ACC-5B14-4994-9129-2E644961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8ED92-09A2-4B93-A862-7406B544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48834-F2C2-4AA2-878B-511218C0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9C025-58AC-4B39-9C12-53F0CA5C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433A7-0D3B-4AE1-AE5D-0C8ED742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DBA0B-F88B-4FF7-B63F-FCD41A53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0F9D6-2D05-4325-BCC4-1ED16A9B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77D00-9349-4D0B-972E-2802AB99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755AD-09D8-4BB1-9AE1-C283354E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D2CA7-E0BE-4E6F-8C40-BE0E2AD57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5CFA27-547B-4BDF-B1D1-045FCED3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2978-4850-4FB3-BF94-2C9C9293D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8BBB45-783A-44D9-956E-4448A10F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90B5BE-36E5-4AC2-9A46-8BF823E8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90D96-4FB7-456F-83A7-CEB0D78F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726133-280B-498C-AC82-B65C4823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01FDC-3D65-4250-880B-78880F8C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C08904-EEBB-44DB-B370-BB939202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74F14-BE13-4AE9-BFF2-F5CDA5F8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33B92D-3688-44CA-9E08-B3767767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D5DA7-95E5-42FF-B884-39535D7B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1B3187-BD9E-4F6A-8DA2-A0639123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6224-68D8-4AE8-9DD6-4B550DD96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F5097-E2EF-4623-8222-7AA2F4ED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B7503-D703-47B1-BDDE-F3913A0F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E1F8A-199C-46B7-8A6C-C4785880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958AF-938F-4433-9C14-4379B02E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EBEAA-A511-403F-95CD-1A2994D9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F3869-A974-4106-93DC-6FFFBA83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CE11D-3880-420A-9F1D-1A2318E1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9C00E-E47D-4704-B811-80D621C4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A3F2B-A6E8-4B43-8808-9109376F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0E5FA-2FC3-4A4B-87DD-5BF49D5D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8A63-BF56-4892-A57A-0554A22B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DFAD5-6CA4-4168-8CC9-F4F5EAE1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5B7A9-E354-4965-9838-71EF9DAA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1D3F7-B011-420B-8381-E941001CD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E38513-6059-4AC7-9FED-3660837D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3C040D-D723-46B1-8C68-44749180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621B18-5C84-40DF-837C-7F50E640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6663A2-3128-45A1-8981-8867CE30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919FFA-77B8-4CF8-A3E7-33AF75A9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35D3FC-8236-4C21-98C7-42852453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5C622-E6A0-431E-85A6-A7A28EA4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7A7C-5A52-4842-ABD3-30BEBF64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BF468-A71F-46D4-9A22-B0EA8BBC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A6961-2AF3-4951-8DD0-99C6DAEB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C7E3D-9B3B-4385-83FE-5256557E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56C99-F17E-437C-B224-9B9E4D2A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235882-E889-4284-8802-73057CDD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A977C2-615F-4847-8203-5A801064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6F5397-0DD0-4D0E-8F14-52AEB3EA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7A5D3F-D313-4403-B05F-246E97D4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7A2B60-D644-4887-8750-3F286DCB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ABD0B8-4468-48AE-9F7D-31539C14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EDF7-A0E8-4571-80B0-81CDB2B0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6DC051-7BD4-44B5-B5C7-6D41F53A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31FE76-807E-4924-B3AF-17A1B712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450733-1191-4C6D-96CD-AA565462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AD1E95-31BF-4352-A2AF-26175342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1323FB-923A-4D7C-BD2F-0458167A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5AA490-FC11-4B60-A93B-19DB406DC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E8CA53-47DE-436A-8BEF-B61FCD423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EAD2-0345-4A50-99BE-EB2A1D1D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FF52-F25E-478F-A0FD-19CB4D7B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5769-3B5E-4537-818C-962571AD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758B-17A1-4C8F-8538-36FDFF4F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1F3F-FBF0-4596-B311-C657790E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FCFE-3EB2-4255-9EDF-8802B90A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2575-CE92-4952-B0EC-29DCB04D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9272-D21D-42E7-8B7B-AA4A963B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DF6D-AC32-473C-8DE2-85132FD81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608F-B0C4-4B57-9178-9898AE5E3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C3D0F-CFC6-4A87-B735-3C8F79AC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5EB3C-862B-4C3C-8412-9699E760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DD7EC-7020-4E96-80BE-A5E97C27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AD092-73E7-420E-8934-97DCFDCD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C39D3-91B6-4721-8B17-8831FC5E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61C0-8AEC-4108-9710-0D8A5C14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6CFA1-B0CA-4864-95A3-26A82732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1A6FD-127C-47F8-B1F9-44F2692B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2A8A0-79B5-4033-9969-E1E64C8A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570A0-8300-49D5-B444-D0ED12B9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A6CC4-D0CA-4912-AD06-7E133DAC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60942-8B1A-461D-96DB-70D72BD8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E816A-13A6-458A-B5E5-74FCE4F7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0E605-CFBF-4BDF-972A-52E5A34F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DA740-8CD5-4FF3-AA10-B3B56E0F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3D946-23C9-4D50-AF03-24AFD2B1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4903-1E02-4DD6-BE48-F22CC929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CE548-8246-4955-93C4-DF69C52B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1B827-CA3D-4E57-8098-0BEABB30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FAE57-9F76-48F7-8540-B233B27C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F07E6-1B00-4586-A9CA-4E9B89E6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C7947-590C-401C-A868-DAE4F0E4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8A909-662C-4A9F-8D1D-7861D88C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5EF46-FAE5-4C39-BFDB-7A18C9CE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210C6-8B13-41D8-A5CD-DC3E4AB39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7DBBB-BF09-4F88-884B-E754260C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97E9F-2240-46AC-83FD-A607D0A8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620C-19AA-43CC-BCB1-0D8B65CC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B9276-CF0E-4458-A707-052F531E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F47F8-5F6D-4E2C-8F5F-0F169869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A5560-C2DA-437B-A92B-5C24B5DB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6F84A-B979-4C5F-8EBC-E2013296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A53BB-141A-4537-911A-29D78ED2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10CB4-9641-4E75-82B7-AAB7AF63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842B5-1534-4E7D-9056-409A6952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AA95F-C62E-48EB-8902-C2B5ECAA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FAAA9-8009-4E5C-9FE0-B6E70FD2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1C7E5-DE91-4C8D-ADA9-6A32A017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AF92-F0CD-44B0-9945-52E45A8C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EC277-C6F3-4D25-9236-007FD5136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680F1-AAB8-4D40-9C4F-CB3779FD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4B294-280A-4F96-B047-2AC11BE1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E1F27-5B0A-451E-BCC7-2602EAA5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9AF61-F942-4320-8185-0DD397B5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B573B-5C68-44B3-B71C-BF7082C3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D6961-F5AC-47BC-8958-6744A99F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18E9C-0D67-4578-8DE9-229AB4DD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E7B6F-87CB-4A38-8281-EA31D38D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85256-E443-4575-A46B-B010755F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CABC-9EF4-4837-887C-51CB620E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8381A-205D-4A03-9962-D0A54533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CBC0B-0F7D-4A5C-8298-DFEF2258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19358-6BAB-41DF-B967-D100EDCBB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47CC6-944B-43FD-A013-B3EB2CC0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3CB1C-9D41-475A-8CE3-2F21D78E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FD5C7-61D0-44BD-8CAD-7EEF9DC9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31A1E-E8C0-479C-B4C1-7C4719A9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81498-0BB5-4FB3-A60A-9D002070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2E913-4C9E-4F47-943D-480B5C0D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74B00-AF59-4DBB-B5FF-E2842D66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F0DF-CC26-4BD9-AC8D-7A85C025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C3E0B-2880-42B7-B8F7-5C04CF32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4A908-9D4A-46F3-8FC1-C5404A2B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2F77F-40F4-4589-9FF0-EF7B5C15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AF77E-5605-4F9C-831C-345557829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D8A1B-E8BA-4553-BBE7-B7EA5EEED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9E96F-6C3F-409A-874A-73DC5E0AC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9A84F-D216-42A2-9239-4A76B88B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F1F41-AB47-415F-A2E8-51011755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40C8E-3C9A-4A75-9AF9-807081E6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0C082-42B8-4793-9495-48CE6939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44A3-3D68-4A15-8AD5-CA453361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23F49-BF12-41BA-BC4D-39454A8E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B2983-6B1F-4CBD-864F-F52AAAF7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48A73-C142-4F26-9EC5-244C4D7A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F7257-BFAA-4755-A736-2F01BD14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350CF-FA20-4EBA-B0D5-F9193AE1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E97D5-660C-48B1-A948-88AF0722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060BE-7782-4ED5-B215-D7C1B321A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89FB01-303E-446E-9942-BBC4992D8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92EF1-C71F-4A21-B44D-53045A06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EEDA5-A0E7-4A5A-BFD2-F5988D55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B455-6DE5-4EA6-97D4-1AF7EBA18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D1E7-5908-47E8-8669-9537C12F394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5756-1349-4BB9-BE66-AAC648C7FC0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AB48-031E-4150-B916-276BBFCD44F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561D-B6C2-40CD-9B70-B19354ACF10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B2F2-0693-43AE-AC57-E8C83AAB43E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448B-1EF0-4331-8364-40C2ECD8691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F983-4F06-461E-9940-E63B9C94472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C189-E931-4251-B357-CD98149277E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DDCD-4C53-49D0-B064-722313F7C86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3240-4620-4C95-B72E-4874F39BD31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7AD5-A408-4F7A-A83C-381A36D6805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AE01-69AA-4BF5-AEFE-46B130E0144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75EC-6A1D-41E5-B24C-79EEF47B7A1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06D4-BE9D-4AB1-BBEF-696B20F8756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BDC4-D8C7-442C-8437-55411416B99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A155-3A37-4C33-9BFE-AB109F80C3C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69FB-1712-4771-B086-6A3502CF1C9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33E6-3FF7-489E-B39D-AFB8B24A439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FEC8-64B0-4D89-BC93-BDB7902B44C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8871-455C-4C69-9F62-0B94E73E64B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4537-3F32-436B-B743-E38D18168B7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B58B-BD6C-4C74-8B1B-40390E5678D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39FF-5344-4A08-BF1E-6B7A7471125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7E5C-897C-498E-8EFB-AA567CF523B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文本框 14337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99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4338"/>
          <p:cNvSpPr/>
          <p:nvPr/>
        </p:nvSpPr>
        <p:spPr>
          <a:xfrm>
            <a:off x="3052440" y="2205000"/>
            <a:ext cx="374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五一劳动节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7B6C-A206-4F89-9E15-8D1495EB819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文本框 15361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7:39:1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9:42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