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99A-27A4-4717-A35B-331A55BB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8DC-FAE0-407D-9F89-F7F5CE26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8256A-ECF6-4CBC-BB01-EE917A72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0983F-4BB3-42F2-BE9F-AE3CF813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34721-A55A-4E47-AEFD-C2BD7F15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6383D-CEE1-40EA-AF88-BEEA33A1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1C2CC-0278-4D73-8673-8A01FB12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2F26F-2F4D-484F-B27C-7958FA30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0C062-E89E-4C0F-A7B7-84B4C5A4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DC088-05B9-4BE1-84DB-13A83148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6B890-27B4-4DD2-87EA-9CB7D749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7C961-F5D9-4709-8392-81416A77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45B-E359-4B9A-BEE5-3B8B5834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52C21-E5B0-4717-AA69-FDA8B632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48D46-5895-48E4-B3CE-F0D84D24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14278-F7E8-40E0-A26A-CE5C7DBB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76449-9C93-49D3-99F0-81FCBFCC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784F4-2112-402F-ABA6-117E55A4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D265D-F2FA-445B-8BD4-A4C65F3B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98669-8EF5-490E-A68A-60F3935E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A182D-7478-484F-B1FF-42D001E3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827CC-A2DD-45A7-99D6-B0BAACCA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E678E-5071-43FD-8586-8DC824B5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FF2D-5744-4C41-8EB8-855F3F19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ADDC7-63F4-4197-BEAA-9B8CC945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B6E4E-2497-45D2-8A97-FCFC00D2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1083A-F6FA-4BB5-A4F8-D21D2D81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6C8DF-2190-4FA6-9E64-F2A045F6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8B906-A896-48FB-8B10-F4C0BA1A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04426-8C00-4BFC-A512-9FB46F0D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1C9AE-82C9-4B15-8828-2EE89845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2EF60-F39A-441D-8F9C-2C8C4F56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4CABB-6762-46FE-995B-F46F8641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F5A71-9226-4377-9EC9-49000DC9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C91D-8152-4867-B29D-5DB28A92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E6453-8A29-4EB0-B8ED-877740BE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D70AB-716B-4A1B-A818-AE541CE2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3261C-480A-4B68-ABA8-7524438A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C9CC3-6510-43B2-BF5C-439FB83A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54D6F-E9B8-4E5B-98D5-73FCF103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40F70-2547-49B8-A55B-60DF4DB6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CF8FE-9AF1-457D-94BA-516DF945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87038-2360-4E91-AAE5-DD1663E5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748A7-787C-4619-875D-454D6B8A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F50C3-F948-45B9-9D35-D8C4D8F8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8EA5-1590-4DF2-9891-653C5527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41471-F0EF-48AF-8DA5-2901311E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BDB85-F37D-488A-9BC9-5D502482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F3973-CB97-4461-82AF-D7A55E75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B5797-BA47-4278-B81F-FF430B0C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1410D-0E14-43D7-BF5F-53A83EBC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F23C0D-5B71-48AD-BA14-07697757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5E4C05-7189-41A7-8BC1-93AAA14E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4C0BCF-3351-4B7C-894F-11958BF9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59757-167C-4FEF-B38F-80C4AE50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474CF-37E7-4420-BFB7-523C9AA3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A52E-45B5-4C90-82C8-B4454535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D91505-BC34-4ABA-A631-CE0AE2D9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89E171-9ADC-4044-8E00-F87C72F4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E46985-08CD-40F3-B8C1-C79E98CA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D6C52-4EB6-45C2-BB8C-15ECCF04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8981CA-23F1-4CE5-A26A-56C54877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B3822-A7F7-479E-8099-A8140931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8DC27-94F3-42C6-942B-53E65925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8BCE-2EFF-437D-861F-09895ADF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D612-F464-4504-A7CE-703BCF2B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6668-2CFE-4F5D-AA2D-32ABC13B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27F7-A866-4857-B3BF-C9D8EB71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41E-E01F-462B-B461-D4CF6FBF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66FF-D6CB-40CD-90A0-26639894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C3CC-132F-4884-B962-F5F4DEA8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4E82-C903-4603-935C-EE2D3005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0028-DEDA-4D10-8F7F-9B95D867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728C-48DB-431A-9067-E2CAFC8B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180EC-5F52-4118-96F9-E6F24A01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2CDFB-C06E-4120-9F9C-50D51AAE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9514C-C328-478F-82AD-AE0EE8D4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09196-EE5E-499D-8F74-467D50ED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6A4C6-5DBD-4227-B43B-BF05C713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5F8C-F265-4643-9145-52C941EB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1E3A6-ED53-4560-AE88-4E5D45D1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D1C0C-229E-40BB-94DA-A0227319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65A05-C22E-458C-8FA8-4CFC065E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268E1-A807-4C67-B09B-6C57FDAA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26C72-C9E7-453B-B4E2-138C9202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2BDB3-93E3-4635-831C-9102AAC0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4BA8F-EA84-456F-9184-04C72EB9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99ABD-80ED-4080-932C-E09B48A3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A1ED1-9AAC-4F7D-8853-0C480B8A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2B5AC-AD19-4E2A-84EE-506E27BC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011-BC54-4F94-9C21-C0DAE053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24BB4-9422-4089-9BB0-33842197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19E08-8BDA-4349-9C44-1DA78003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3CE9F-87FC-40C6-8CCB-8F518262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6468D-769F-462C-B601-334FED19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750EF-4971-4076-B9EA-CE5784DB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B8422-93B6-440F-B2E9-44F529D9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CC301-0E3E-423E-966E-1DC2E06D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AECE4-195A-4D2B-BFA9-88C223DE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83D11-42A0-477A-B53C-BBA73325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06F9C-A1C7-492F-9A95-DD29E656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66C8-4344-44A0-A792-41585E93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A9F30-D569-45D9-989C-81A96656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34436-1086-4B0E-9D9B-E306930D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14A5A-14CF-4D78-B401-E9F1DE39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8B3D5-0EF6-4384-A15F-10542C41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09EEA-21E9-437F-979E-68F26B8D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2CBD1-72E3-4125-883E-1D8F82F9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09B51-22F8-48A3-99B5-0D3A93B6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DEC23-BAD7-453D-BC37-230BDE29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A10F7-E1A0-4F6E-AD86-2F94B315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E75CD-F1E3-4C42-B6E0-93DBCEE7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BA6-495A-4729-9655-276AF007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E36D8-B995-436F-86AD-075738CE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C32A4-ED2F-4BEA-8B98-65BE30F7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A4CEC-975F-4A9A-8AC6-9D6674BE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EC79A-E160-4A91-869F-221E2409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C006A-F51A-459E-8876-74F7883F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B2EF4-A3CD-46E1-85B6-2CC923D6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62984-1F49-4576-B16B-D1515395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63B66-0B7E-4229-9826-5367191F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36E07-318C-48C9-B752-6A2F3CA8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CE137-4F98-4717-BCC0-ABD58156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EDF8-35F5-4F0C-9E58-488FF200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20CB1-AF44-45DD-854C-FB3F13C4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B3405-6C2F-41B0-B29C-783F1732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068FB-D6BA-4E48-81AD-250DE78B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32B3B-1B39-44C5-B028-697400E7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FAB7A-6911-4E0A-AD95-E94B76CE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AA384-95FA-42CA-BF01-57ED0D27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CBD0F-AF6A-4723-A6D0-5CB1E30F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195A9-2541-421B-9BA4-5AE95AEA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2A1FB-CD46-4B35-A619-3F69177A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0BD99-90D5-4918-9A6F-CD4B9B63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64E-2F65-4D36-A706-05D79F56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E8A31-413D-4C66-9F9F-2EDB835F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8D683-5F6E-4BA6-98E4-205B3DC6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2D0F0-AC2A-4409-B1B0-4BEEA346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B23C9-B7F0-47B5-BD2E-1615DA97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3FB29-CADD-474C-9C01-EDF8C657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C2D40-C66E-4636-9355-B46B32A2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45053-2473-4E40-87B1-99D34879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62214-E0F4-443A-9B91-33A30032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D18C1-9578-4E63-B563-92E19015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1D73F-A73A-4C54-8156-A6F32504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E1F-36A1-4520-8435-31AD4D74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02981-5634-4F00-AD25-7950B3A4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3375E-0571-49FF-88CF-D617509A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1D396-22D8-4560-AF59-71671728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46B43-6054-43C8-BFF9-7AE97228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66D7C-B4A8-427C-B2E0-1AB352F2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B9223-1FF8-42E1-8AF9-19339C57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0E0D1-1DA2-415E-8155-50A375E2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95919-2B93-45F4-BFA4-DCEAAF8D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AD4B2-E155-47D3-A734-FB68A28D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B3FF5-B414-453D-BD02-EA050D50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B107-A1F1-474F-9429-E5C7584DE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8072-D3E1-4373-991F-B8FCB2B9865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093B-616A-41A5-83E7-389562544B4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0AB4-3A3B-4F01-B5D3-F3D46650B77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6A21-8A3F-4620-8FC6-4DB3CDCC354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BC20-97F7-466D-9420-83CB84071C5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0A55-C231-4824-AF6D-8D68FF9FA81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B2AF-1B1D-4089-B444-54A9742F1AC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48A9-3AC9-4F9C-971E-37DB9B699C5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205F-916B-4A2C-999E-111DB69BD8A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09D9-2701-4EAD-8A07-55314D5A7FF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E351-A345-4447-91F9-53D1F0F3EAD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D7F1-A7BE-47E1-B044-4A7D999551C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5B24-0DE5-464D-9358-EA00BC8CB3A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F4C1-7515-4B9F-81D8-17DD7D86879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BC9D-6BEF-4E1D-A860-7A093D2BA56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C76B-7957-4BFA-BE72-7ACDE5F694F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EDBD-69BF-4909-B07B-B68240A54F1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A6CE-82A6-4CA3-B43D-24127CB11C1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D1EC-BA68-4AAC-9733-BF0ABECB073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8C43-CA83-4EE1-B051-F56A0B2BEE8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06DD-CE5D-425B-966E-889DBD8981A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6AF5-9D25-4E6F-82C3-06BFAE98F7D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D624-6286-4132-93F2-E5A25A8D684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F482-E3C3-46BA-8AF3-7C2BDCDC30B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A431-5DB2-4BE6-8FA6-F2C77A4C997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AutoShape 13"/>
          <p:cNvSpPr/>
          <p:nvPr/>
        </p:nvSpPr>
        <p:spPr>
          <a:xfrm>
            <a:off x="1476360" y="3141720"/>
            <a:ext cx="3672000" cy="533520"/>
          </a:xfrm>
          <a:prstGeom prst="bracketPair">
            <a:avLst>
              <a:gd name="adj" fmla="val 7638"/>
            </a:avLst>
          </a:pr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14338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333399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4339"/>
          <p:cNvSpPr/>
          <p:nvPr/>
        </p:nvSpPr>
        <p:spPr>
          <a:xfrm>
            <a:off x="2577960" y="2276640"/>
            <a:ext cx="37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五一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7:24:1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37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