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7.gif" ContentType="image/gif"/>
  <Override PartName="/ppt/media/image5.jpeg" ContentType="image/jpeg"/>
  <Override PartName="/ppt/media/image9.jpeg" ContentType="image/jpeg"/>
  <Override PartName="/ppt/media/chimes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laser.wav" ContentType="audio/x-wav"/>
  <Override PartName="/ppt/media/cashreg.wav" ContentType="audio/x-wav"/>
  <Override PartName="/ppt/media/image10.gif" ContentType="image/gif"/>
  <Override PartName="/ppt/media/applause.wav" ContentType="audio/x-wav"/>
  <Override PartName="/ppt/media/glass.wav" ContentType="audio/x-wav"/>
  <Override PartName="/ppt/media/type.wav" ContentType="audio/x-wav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C9F-364E-4A5E-A8C0-54619A12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DBD-4F3F-4B4F-AEB0-5DD7DF38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24A-DB83-4039-9982-34AC8C2E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E6E-AE11-465E-BD65-8EFD1D9B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2052-597F-4A1D-8F0C-0479302B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A805-99D3-4160-8907-71B56598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BBC1-1A64-4855-9D25-55F523D9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0FB9-E24A-41F8-B8AC-302D8290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D01D-C588-47E5-BBAA-6487E985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68EE-DE90-4EA2-9DB4-E7268048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4627-0211-4E86-8B0A-FBDBA386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A0D-1E4A-4F8B-98F0-E4BFD676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58E3-B275-4470-95C5-644EEB63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7CE8-FD15-447D-A995-8A881587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D85C-939B-47FE-B2FB-4A9C07E3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827C-C56E-421E-914A-8264ADF9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D935-3926-408A-A775-51037C95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D98-5C3D-409E-A456-1132C790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326-E07A-4802-9543-DC20DEF4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3E9-A5D1-4ECC-BD54-6D1CA171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B33-9014-486F-9F4C-11ADE1AC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E28-FC00-4FDD-8BC7-A48D7C47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67F-C5FA-4D5F-9077-AC82C0C4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86D-8C4D-48BF-91EA-2439D211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5046-54BF-4633-99CC-A31B009BA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D120-97DD-4294-92ED-602A31796E2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3AB2-8DBD-4C85-AF0A-1765EDBFF2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7162920" y="605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04920" y="243828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壁虎借尾巴语文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162920" y="5791320"/>
            <a:ext cx="76176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"/>
          <p:cNvPicPr/>
          <p:nvPr/>
        </p:nvPicPr>
        <p:blipFill>
          <a:blip r:embed="rId1"/>
          <a:stretch/>
        </p:blipFill>
        <p:spPr>
          <a:xfrm>
            <a:off x="3505320" y="2590920"/>
            <a:ext cx="2057400" cy="1743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457200" y="4572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棒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429000" y="4572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棒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72200" y="457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棒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914400" y="48769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你真棒！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228600" y="228600"/>
            <a:ext cx="234144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2"/>
          <p:cNvPicPr/>
          <p:nvPr/>
        </p:nvPicPr>
        <p:blipFill>
          <a:blip r:embed="rId3"/>
          <a:stretch/>
        </p:blipFill>
        <p:spPr>
          <a:xfrm>
            <a:off x="3200400" y="1752480"/>
            <a:ext cx="252720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3"/>
          <p:cNvPicPr/>
          <p:nvPr/>
        </p:nvPicPr>
        <p:blipFill>
          <a:blip r:embed="rId4"/>
          <a:stretch/>
        </p:blipFill>
        <p:spPr>
          <a:xfrm>
            <a:off x="6172200" y="3048120"/>
            <a:ext cx="2666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28600" y="746280"/>
            <a:ext cx="8915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8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小壁虎分别向（   ），（     ）和（   ）借尾巴，可是都（     ）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9810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小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715000" y="20574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老黄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33720" y="32306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燕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191120" y="44496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没借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33520" y="36504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99ff33"/>
                </a:solidFill>
                <a:latin typeface="Times New Roman"/>
              </a:rPr>
              <a:t>小壁虎爬到哪里，看见谁在干什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72736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99ff33"/>
                </a:solidFill>
                <a:latin typeface="Times New Roman"/>
              </a:rPr>
              <a:t>小壁虎说什么，别人怎么回答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57200" y="516564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6000" spc="-1" strike="noStrike">
                <a:solidFill>
                  <a:srgbClr val="99ff33"/>
                </a:solidFill>
                <a:latin typeface="Times New Roman"/>
              </a:rPr>
              <a:t>小壁虎怎么做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8200"/>
          <p:cNvSpPr/>
          <p:nvPr/>
        </p:nvSpPr>
        <p:spPr>
          <a:xfrm>
            <a:off x="828720" y="2205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04920" y="38088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比较句子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1600200"/>
            <a:ext cx="8229600" cy="74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鱼姐姐，您的尾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借给我行吗？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鱼，你的尾巴借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。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505680" y="17064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038480" y="17064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562720" y="1676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114800" y="3154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876920" y="315432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038480" y="457200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38088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比较句子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行啊，我要用尾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拨水呢。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行，我要用尾巴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水。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505680" y="17064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971800" y="3154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609480" y="2057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因为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所以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7620120" y="5943600"/>
            <a:ext cx="60948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35"/>
          <p:cNvPicPr/>
          <p:nvPr/>
        </p:nvPicPr>
        <p:blipFill>
          <a:blip r:embed="rId2"/>
          <a:stretch/>
        </p:blipFill>
        <p:spPr>
          <a:xfrm>
            <a:off x="0" y="609480"/>
            <a:ext cx="3505320" cy="441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"/>
          <p:cNvPicPr/>
          <p:nvPr/>
        </p:nvPicPr>
        <p:blipFill>
          <a:blip r:embed="rId3"/>
          <a:stretch/>
        </p:blipFill>
        <p:spPr>
          <a:xfrm>
            <a:off x="2895480" y="4419720"/>
            <a:ext cx="4191120" cy="2149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松鼠"/>
          <p:cNvPicPr/>
          <p:nvPr/>
        </p:nvPicPr>
        <p:blipFill>
          <a:blip r:embed="rId4"/>
          <a:stretch/>
        </p:blipFill>
        <p:spPr>
          <a:xfrm>
            <a:off x="3962520" y="380880"/>
            <a:ext cx="4533840" cy="3791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535A-0902-44F1-9A47-18AB81626A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4:59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