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633-8D72-441E-BD80-1CEADAEF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400-D25E-4EB9-BFAF-EB14AB77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481-B553-46C6-BFDC-62EDA083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68B-2E71-4CA7-96B2-D52311D4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C238-190F-44E2-B6B0-925781A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140-1E06-4DBF-900C-AA68C20F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9A8-0B6A-4185-B9E1-5D5DEBE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4833-7515-4B8C-ABA9-6ED20A79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0C8D-998B-4F74-AA0A-2438B878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429-D473-4E9B-AE7B-96F644B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7F9B-B5D7-4CE2-8822-ACC6DEF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328-6590-4253-BFC1-E07DEC89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DC26-A5E0-420B-AC97-25B933A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76E-1368-4AE2-8B33-C5D9FFBF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17BE-939C-4698-B15B-A06FDF4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D23-513B-4262-B7A5-FDF3B918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2AD7-7F17-4073-B5DA-B62517B8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BAD-3F5A-4215-A354-CE42637A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103-4BD6-4EBD-BB29-241C08DA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7C4-9AA0-4652-A865-E6F8C39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DED-37E8-47CB-B4C2-6A0B48C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D8-10C6-422B-B37A-3C1974D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F07-CBED-4DEC-91CE-0AB5077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77C-63D4-4C59-B92E-0DEC276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6F2-351E-40E1-B464-CD8040D6B6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939-99D8-45AC-BF77-7B9A4A0B73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614A-1F59-4AF8-80D4-A87B14CCC3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348000" y="4365720"/>
            <a:ext cx="57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丑举牌愚人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072040" y="14292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29160" y="5000760"/>
            <a:ext cx="3000600" cy="1440"/>
            <a:chOff x="5429160" y="5000760"/>
            <a:chExt cx="3000600" cy="1440"/>
          </a:xfrm>
        </p:grpSpPr>
        <p:sp>
          <p:nvSpPr>
            <p:cNvPr id="85" name="直接连接符 6"/>
            <p:cNvSpPr/>
            <p:nvPr/>
          </p:nvSpPr>
          <p:spPr>
            <a:xfrm>
              <a:off x="5429160" y="5000760"/>
              <a:ext cx="30006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429160" y="5000760"/>
              <a:ext cx="3000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" descr="1.png"/>
          <p:cNvPicPr/>
          <p:nvPr/>
        </p:nvPicPr>
        <p:blipFill>
          <a:blip r:embed="rId2"/>
          <a:stretch/>
        </p:blipFill>
        <p:spPr>
          <a:xfrm>
            <a:off x="-214200" y="2643120"/>
            <a:ext cx="9572400" cy="517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0" descr="2.png"/>
          <p:cNvPicPr/>
          <p:nvPr/>
        </p:nvPicPr>
        <p:blipFill>
          <a:blip r:embed="rId3"/>
          <a:stretch/>
        </p:blipFill>
        <p:spPr>
          <a:xfrm>
            <a:off x="9525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2.png"/>
          <p:cNvPicPr/>
          <p:nvPr/>
        </p:nvPicPr>
        <p:blipFill>
          <a:blip r:embed="rId4"/>
          <a:stretch/>
        </p:blipFill>
        <p:spPr>
          <a:xfrm>
            <a:off x="29289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2.png"/>
          <p:cNvPicPr/>
          <p:nvPr/>
        </p:nvPicPr>
        <p:blipFill>
          <a:blip r:embed="rId5"/>
          <a:stretch/>
        </p:blipFill>
        <p:spPr>
          <a:xfrm>
            <a:off x="483408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2.png"/>
          <p:cNvPicPr/>
          <p:nvPr/>
        </p:nvPicPr>
        <p:blipFill>
          <a:blip r:embed="rId6"/>
          <a:stretch/>
        </p:blipFill>
        <p:spPr>
          <a:xfrm>
            <a:off x="6810480" y="2214720"/>
            <a:ext cx="1333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714240" y="42876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997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99804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" descr="1.png"/>
          <p:cNvPicPr/>
          <p:nvPr/>
        </p:nvPicPr>
        <p:blipFill>
          <a:blip r:embed="rId2"/>
          <a:stretch/>
        </p:blipFill>
        <p:spPr>
          <a:xfrm>
            <a:off x="1785960" y="642960"/>
            <a:ext cx="4876920" cy="5803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2.png"/>
          <p:cNvPicPr/>
          <p:nvPr/>
        </p:nvPicPr>
        <p:blipFill>
          <a:blip r:embed="rId3"/>
          <a:stretch/>
        </p:blipFill>
        <p:spPr>
          <a:xfrm>
            <a:off x="3168720" y="830160"/>
            <a:ext cx="4699080" cy="5154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51408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2"/>
          <a:stretch/>
        </p:blipFill>
        <p:spPr>
          <a:xfrm>
            <a:off x="4170240" y="1143000"/>
            <a:ext cx="1897200" cy="1897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3"/>
          <a:stretch/>
        </p:blipFill>
        <p:spPr>
          <a:xfrm>
            <a:off x="2668680" y="1862280"/>
            <a:ext cx="1760400" cy="2068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4"/>
          <a:stretch/>
        </p:blipFill>
        <p:spPr>
          <a:xfrm>
            <a:off x="3454560" y="3394080"/>
            <a:ext cx="1896840" cy="18972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5"/>
          <a:stretch/>
        </p:blipFill>
        <p:spPr>
          <a:xfrm>
            <a:off x="5097600" y="2505240"/>
            <a:ext cx="1760400" cy="2068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854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2"/>
          <a:stretch/>
        </p:blipFill>
        <p:spPr>
          <a:xfrm>
            <a:off x="2668680" y="1119240"/>
            <a:ext cx="2235240" cy="27176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3"/>
          <a:stretch/>
        </p:blipFill>
        <p:spPr>
          <a:xfrm>
            <a:off x="4740120" y="1190520"/>
            <a:ext cx="2552760" cy="24638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3.png"/>
          <p:cNvPicPr/>
          <p:nvPr/>
        </p:nvPicPr>
        <p:blipFill>
          <a:blip r:embed="rId4"/>
          <a:stretch/>
        </p:blipFill>
        <p:spPr>
          <a:xfrm>
            <a:off x="2668680" y="3476520"/>
            <a:ext cx="2438280" cy="2260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4.png"/>
          <p:cNvPicPr/>
          <p:nvPr/>
        </p:nvPicPr>
        <p:blipFill>
          <a:blip r:embed="rId5"/>
          <a:stretch/>
        </p:blipFill>
        <p:spPr>
          <a:xfrm>
            <a:off x="5097600" y="3262320"/>
            <a:ext cx="2260440" cy="2666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2"/>
          <a:stretch/>
        </p:blipFill>
        <p:spPr>
          <a:xfrm>
            <a:off x="4668840" y="1857240"/>
            <a:ext cx="2523960" cy="29577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3"/>
          <a:stretch/>
        </p:blipFill>
        <p:spPr>
          <a:xfrm>
            <a:off x="3254400" y="1038240"/>
            <a:ext cx="2957400" cy="2525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1.png"/>
          <p:cNvPicPr/>
          <p:nvPr/>
        </p:nvPicPr>
        <p:blipFill>
          <a:blip r:embed="rId4"/>
          <a:stretch/>
        </p:blipFill>
        <p:spPr>
          <a:xfrm>
            <a:off x="2428920" y="2000160"/>
            <a:ext cx="2525760" cy="2957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2.png"/>
          <p:cNvPicPr/>
          <p:nvPr/>
        </p:nvPicPr>
        <p:blipFill>
          <a:blip r:embed="rId5"/>
          <a:stretch/>
        </p:blipFill>
        <p:spPr>
          <a:xfrm>
            <a:off x="3425760" y="3260880"/>
            <a:ext cx="2957400" cy="2525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820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D6F-9E65-4006-9931-A92FDF2CD5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0" descr="1.png"/>
          <p:cNvPicPr/>
          <p:nvPr/>
        </p:nvPicPr>
        <p:blipFill>
          <a:blip r:embed="rId2"/>
          <a:stretch/>
        </p:blipFill>
        <p:spPr>
          <a:xfrm>
            <a:off x="2000160" y="785880"/>
            <a:ext cx="5542200" cy="55008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2.png"/>
          <p:cNvPicPr/>
          <p:nvPr/>
        </p:nvPicPr>
        <p:blipFill>
          <a:blip r:embed="rId3"/>
          <a:stretch/>
        </p:blipFill>
        <p:spPr>
          <a:xfrm>
            <a:off x="2138400" y="939960"/>
            <a:ext cx="5083200" cy="5195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4861440" y="15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290280" y="358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4932720" y="51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2432520" y="458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931840" y="222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3Z</dcterms:modified>
  <cp:revision>2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