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BE5-776F-4BE1-9CDC-689E95C5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EBE-BC7F-4E5F-8227-C600BCDA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D3F7E-FF78-4E6C-BCE4-6770B7C7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CCB07-BAB3-4312-9369-80DDD9F9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C0DF1-CFD0-412E-88F2-23D13F92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3DA8C-CDE6-483F-8E85-83436C25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B0319-E91E-4559-BF29-189776FA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0226B-310D-40CB-8B92-6EDAE1F1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E85DA-B065-422C-9BB6-C690DE4A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DDCB8-642C-468A-91B5-867D95D4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07A11-B202-4417-8A55-86983C97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1F510-C3EA-475C-B5C1-1D63F636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E7F-2C09-4D17-A6DA-E79C6995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DEFCC-B8E2-4CFE-9802-EF3CAA56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C2F96-81E0-4C60-9678-98B7169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93067-F919-4DEE-A42B-E3AADA1B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8DD66-D0B7-47D3-8A82-C469163E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5FEC4-D028-4AAD-9363-BA5BF2B5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4DAF1-7A6A-4D9E-9453-DC17C822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FAE88-2292-4062-BEDE-459C9BC1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DDE39-D383-4754-B18A-14C1B340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6EFE3-F7B1-423E-BEBC-9712DA9E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0C21D-0803-46B3-9B99-92488899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B43-9983-4EBF-AB59-7A60B194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7DC35-817D-4468-9522-D5BCC786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A3B33-7E0A-4013-8917-5646CDA1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B32FC-ABF2-4F0C-9405-B6607B69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C1BE6-C19A-4051-B7CF-AEFC0353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11FB-85A7-462B-A453-3901AABC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12A39-E7F3-4111-B75B-9C043018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AE1E6-6868-4646-BADD-F7632E1D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48CD6-88A4-4CEE-B73E-5218B196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97B69-5A17-46AD-88D9-EA7251AF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43177-7A2A-4314-9A9E-B828608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BF39-4AAF-4C5A-8458-F1802025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C253C-3DD7-4FC6-BE95-F8418C4D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0BC4E-5565-4A68-B857-1DCE5715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5A285-6D6E-4F65-BC22-4078D618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BD45F-7DAE-44A7-B97C-406B9F5B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0BB67-ADB0-421A-B2F9-DE28A440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A3F9E-2E92-4237-82B1-D24310C4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D59C8-C5B0-4B89-A104-2EECE468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283E8-F85E-414C-A123-76D45EBD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CD70C-DBF2-4A39-BBEA-86F1446C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03418-F225-4FBF-88F4-4E40C140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219B-608E-488C-91C1-6795528F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C5863-6CB4-4B2F-91DE-68CF716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5D792-BE38-4F66-9D4A-06EC731D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41DD9-A900-491F-96A5-20284F31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3366E-E1D0-43F2-B6B9-CC5151AD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5ACB6-7FF5-412B-94C1-89CE3C6C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A670D-8C23-4030-9472-43B525A8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32BCA-BDD2-4C13-8D0C-E435BC19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A95B9-FE96-4E49-8D7D-055AC3F7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08508-23F9-4680-9D9C-480BE2D6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EFC6B-8C32-444E-B673-F366856B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B2F5-961E-47D8-A25A-E9BE7A6E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A6CA7-2C3D-4536-B81B-C08E9283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6F5A7-1420-4046-A206-6EAB3E5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ABDD2-2131-44DB-A159-9127AFE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4F7F3-512E-48F4-B492-7C0EB8B6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60F6C-3326-44D7-AE82-7A913FA7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E1A5C-38A3-47BF-8D16-125005B7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E4E9D-4B09-49D3-BE97-030F2E48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BD94-4D97-4514-A167-EDD0C89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409E-7B31-4EC1-9738-D36A6B00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8BF8-C24D-4C0B-AC9A-A895A795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F6E0-F641-4C90-AF86-857CECBE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816-38BE-469E-818E-5D71FDC8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AA7B-8D3C-4915-B68F-A901321F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70B1-DB7A-49A0-9FE7-4461E7A5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3CFE-565D-4FBC-B900-395CD792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031C-293D-4F87-9FAB-F4566577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AFE2-0EA4-4D35-BABF-A2E26B38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D9198-B7F8-449C-9610-B1C14427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F117-7A94-4C55-B2A1-85AE3403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EE36-9C2A-4774-B76C-05405633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93360-97B4-4FFF-8033-0C71A296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6D10-030D-4D97-A6D5-D78E9C83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B32-6C87-4627-98F7-E4290223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AFA6-644A-4D1E-A5F4-9A55953E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FC8B-9471-447D-A033-CE6A7DC4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8E61D-147C-44AC-AF85-CF1F3C5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2F96-041F-432B-9D79-5BF07DA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8E5D-CCAD-4C1F-84F8-A9941D81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D2EA-1DF9-4B31-A4B7-F517564A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5EC59-88A5-4036-AF64-9EA8B892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364E-D2FC-4C25-B248-672BC0B1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2BDE-813B-4AC9-AD48-D45DA03A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A40DB-BFF1-4E5B-BC75-75FFD973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E43-C67E-4EB0-B595-2BFA9882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A455-6D24-4DA2-82D8-343F01B3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4C3D3-1BF4-4BBC-8822-51BF86D0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40A85-59DA-47C4-9FD0-94825E48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C97D-0ACC-49F4-9E03-AFB0E08E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3598B-89C0-4F37-9FE5-0E8160B7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2E101-2350-4204-AEA7-DC7423F5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D0CDD-70A7-4065-A70A-75DD1C3F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AC0F-6950-4AB5-819F-4EC8A748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78F3-5534-4624-8719-56E4E1BB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4C6BD-1BC8-4C1A-AEE8-1E7E9AAB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5E8-1F0D-4FF0-AEE5-8AFC85C6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BF255-B352-4F3A-B551-1D4A1827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D08FB-B1AC-4DA2-A5BC-EF67D173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C6900-6BC3-4357-A074-524AFE1C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0BA25-E9DB-4748-900C-D73E4CA7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A56FC-4420-4A00-B306-99D66171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EDDEE-4C22-47D6-8285-4D1D33DF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8CE7B-A7F5-4667-B73C-FF75C50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B5900-96EA-4460-8C57-CB8A1FFC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EDE39-8511-4F42-A0EA-1E11B896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2D75B-5E59-4D35-9144-687B4EE9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975-FE72-43AB-9D37-3A8F8C9F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086CB-E055-477A-8D3E-D455DBE5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D7234-E4C2-4ABB-8350-581845D5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88C97-7932-48AC-A2BE-C8C004D2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CB7E2-59A1-4CE8-9A73-8F0A13E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27B77-B967-41B2-8F68-9BACFE16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FB058-41C8-4E9F-9C92-A21BC7B6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7F6FD-2768-40EC-981E-C3FCABBF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D0CD8-2037-45B8-9BC0-4C63F330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AB7C8-D7A2-4D2D-887A-0FC28F5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34BA8-C387-4137-A8B9-75EFDF40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C6E-FD67-434A-A5FA-C38FD7FC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285B0-A935-4E85-AE48-B187C78F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FC40E-F76A-4C6E-B348-C55282EE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0703E-C165-41DA-BE61-600FE863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33B02-FA13-401D-8963-A0929D55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A8CDA-DC14-4D98-BD61-83693120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02E56-9B69-40EA-A95B-4E30763E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3137E-FF7F-4775-9CA5-F9581A52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38289-2080-439F-87BA-4CE16D99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D63AF-DD3E-40E8-AD61-D10CB9F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A55AD-501B-483B-A17E-98E7C623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70F-1DE0-45A2-B8B1-856F0EB9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A155-39D0-441E-A0BF-FC9F895E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6B091-8E00-46CE-A8CC-610B83C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C54D3-A665-4C5C-BAAE-52C4A517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4CD11-D6E8-4B16-B5A6-AF3D1ECA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3E0B1-0B78-4A12-9A23-F7F9AB15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FF01A-36B7-4838-8519-AB58F151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10E6F-1513-4AA2-B4E9-5C6591AE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259AE-3670-4DDF-AD9D-4391CE39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9F22D-2DC3-4437-BBBB-0DF0308B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40EBF-A92C-4F3F-A151-B1A1F3D9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BB5-4285-48AF-8E94-13F0B6DE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073B9-2153-4C30-9861-44239A1E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B8A0E-B4BC-4910-A9D9-E602651B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357A6-D3F3-44CD-943D-6496A37D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95F02-6125-4EF7-86F3-01D3E305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7E36A-830C-4900-9849-74CEDCF3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BC6A5-C9E5-444E-8373-CEE5468D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268CB-45A2-4BA8-BE1D-196F19E0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DCBC2-E4D3-4160-804A-286ACE1F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2D5B8-A8A9-446A-B2C4-C0D88F47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E1888-3813-4DBC-BC41-F0BFF58C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FC4F-0623-4AB9-BEC5-50DFB929A59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3308-D277-4A5D-9A3E-FF9764B14C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85C3-595D-4731-B4C2-81184587A91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E3DB-E658-4C3F-A700-239689FE113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F777-1F65-44F5-9BDA-8D2AA58FA0C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1845-C93A-4CE9-819F-FB4E730899B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5F84-D827-4160-BC5C-E19448CC8E5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3589-A227-4120-8641-ED2D4B7809C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2BFF-DED2-4750-868F-C06B26BFE43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B958-7322-47F8-B4BD-2E34FCF7BE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E563-26D2-4206-9959-6C2B81A2530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B17E-6F51-4941-B0F7-9048D35A8C7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B9F9-30C7-4E32-9DCE-2E29FBAB3BF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7872-07A5-49B0-8B34-06A76FED7B5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674A-73DA-4602-B1AD-EF84827C534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2397-4C1C-41EC-AC77-8D76DDEE207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6C5D-043C-47FE-8E8B-EBBAFFF4153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FDC3-B3DB-4C25-9064-EF236376D55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5CE2-0AB9-4F73-86ED-663748F3456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0DE6-79BA-4571-88CA-CECFED5D016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7F74-4F42-4ADE-B242-99AAD266E9E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1BF5-B80C-4CBF-9625-C529399B032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5024-183C-49C6-A1D8-DBE87E2FE91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5806-B5F0-4F59-8EFA-E854492847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6A26-29EC-4A33-9B27-77BA98AC6E8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4B2D-FA43-4DD5-A889-E4DE850871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3071880" y="264312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消费者权益日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2786040" y="657216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3143160" y="314316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179280" y="48704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341"/>
          <p:cNvSpPr/>
          <p:nvPr/>
        </p:nvSpPr>
        <p:spPr>
          <a:xfrm>
            <a:off x="1768320" y="1844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消费者权益保护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B6B4-7E9A-4EDE-931B-E5D6680F01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图片 11" descr="2.png"/>
          <p:cNvPicPr/>
          <p:nvPr/>
        </p:nvPicPr>
        <p:blipFill>
          <a:blip r:embed="rId2"/>
          <a:stretch/>
        </p:blipFill>
        <p:spPr>
          <a:xfrm>
            <a:off x="3716280" y="1714680"/>
            <a:ext cx="1927440" cy="425124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10" descr="1.png"/>
          <p:cNvPicPr/>
          <p:nvPr/>
        </p:nvPicPr>
        <p:blipFill>
          <a:blip r:embed="rId3"/>
          <a:stretch/>
        </p:blipFill>
        <p:spPr>
          <a:xfrm>
            <a:off x="1962000" y="928800"/>
            <a:ext cx="5396040" cy="5599080"/>
          </a:xfrm>
          <a:prstGeom prst="rect">
            <a:avLst/>
          </a:prstGeom>
          <a:ln w="0">
            <a:noFill/>
          </a:ln>
        </p:spPr>
      </p:pic>
      <p:sp>
        <p:nvSpPr>
          <p:cNvPr id="6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2"/>
          <p:cNvSpPr/>
          <p:nvPr/>
        </p:nvSpPr>
        <p:spPr>
          <a:xfrm>
            <a:off x="58550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13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5"/>
          <p:cNvSpPr/>
          <p:nvPr/>
        </p:nvSpPr>
        <p:spPr>
          <a:xfrm>
            <a:off x="4212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23563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17" descr="1.png"/>
          <p:cNvPicPr/>
          <p:nvPr/>
        </p:nvPicPr>
        <p:blipFill>
          <a:blip r:embed="rId2"/>
          <a:stretch/>
        </p:blipFill>
        <p:spPr>
          <a:xfrm>
            <a:off x="2995560" y="2000160"/>
            <a:ext cx="3438720" cy="347976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2.png"/>
          <p:cNvPicPr/>
          <p:nvPr/>
        </p:nvPicPr>
        <p:blipFill>
          <a:blip r:embed="rId3"/>
          <a:stretch/>
        </p:blipFill>
        <p:spPr>
          <a:xfrm>
            <a:off x="5210280" y="2571840"/>
            <a:ext cx="2209680" cy="227304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2.png"/>
          <p:cNvPicPr/>
          <p:nvPr/>
        </p:nvPicPr>
        <p:blipFill>
          <a:blip r:embed="rId4"/>
          <a:stretch/>
        </p:blipFill>
        <p:spPr>
          <a:xfrm>
            <a:off x="3567240" y="1071720"/>
            <a:ext cx="2209680" cy="22730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2.png"/>
          <p:cNvPicPr/>
          <p:nvPr/>
        </p:nvPicPr>
        <p:blipFill>
          <a:blip r:embed="rId5"/>
          <a:stretch/>
        </p:blipFill>
        <p:spPr>
          <a:xfrm>
            <a:off x="2071800" y="2584440"/>
            <a:ext cx="2209680" cy="22734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21" descr="2.png"/>
          <p:cNvPicPr/>
          <p:nvPr/>
        </p:nvPicPr>
        <p:blipFill>
          <a:blip r:embed="rId6"/>
          <a:stretch/>
        </p:blipFill>
        <p:spPr>
          <a:xfrm>
            <a:off x="3643200" y="3941640"/>
            <a:ext cx="2210040" cy="22734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2"/>
          <p:cNvSpPr/>
          <p:nvPr/>
        </p:nvSpPr>
        <p:spPr>
          <a:xfrm>
            <a:off x="4143240" y="3333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0"/>
          <p:cNvSpPr/>
          <p:nvPr/>
        </p:nvSpPr>
        <p:spPr>
          <a:xfrm>
            <a:off x="27784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1"/>
          <p:cNvSpPr/>
          <p:nvPr/>
        </p:nvSpPr>
        <p:spPr>
          <a:xfrm>
            <a:off x="4278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2"/>
          <p:cNvSpPr/>
          <p:nvPr/>
        </p:nvSpPr>
        <p:spPr>
          <a:xfrm>
            <a:off x="5922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2"/>
          <p:cNvSpPr/>
          <p:nvPr/>
        </p:nvSpPr>
        <p:spPr>
          <a:xfrm>
            <a:off x="42786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5" descr="1.png"/>
          <p:cNvPicPr/>
          <p:nvPr/>
        </p:nvPicPr>
        <p:blipFill>
          <a:blip r:embed="rId2"/>
          <a:stretch/>
        </p:blipFill>
        <p:spPr>
          <a:xfrm>
            <a:off x="2725560" y="1627200"/>
            <a:ext cx="2203560" cy="250020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6" descr="2.png"/>
          <p:cNvPicPr/>
          <p:nvPr/>
        </p:nvPicPr>
        <p:blipFill>
          <a:blip r:embed="rId3"/>
          <a:stretch/>
        </p:blipFill>
        <p:spPr>
          <a:xfrm>
            <a:off x="4938840" y="1785960"/>
            <a:ext cx="2152440" cy="220356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17" descr="1.png"/>
          <p:cNvPicPr/>
          <p:nvPr/>
        </p:nvPicPr>
        <p:blipFill>
          <a:blip r:embed="rId4"/>
          <a:stretch/>
        </p:blipFill>
        <p:spPr>
          <a:xfrm>
            <a:off x="4867200" y="3643200"/>
            <a:ext cx="2203560" cy="250056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18" descr="2.png"/>
          <p:cNvPicPr/>
          <p:nvPr/>
        </p:nvPicPr>
        <p:blipFill>
          <a:blip r:embed="rId5"/>
          <a:stretch/>
        </p:blipFill>
        <p:spPr>
          <a:xfrm>
            <a:off x="2714760" y="3857760"/>
            <a:ext cx="2152440" cy="2203200"/>
          </a:xfrm>
          <a:prstGeom prst="rect">
            <a:avLst/>
          </a:prstGeom>
          <a:ln w="0">
            <a:noFill/>
          </a:ln>
        </p:spPr>
      </p:pic>
      <p:sp>
        <p:nvSpPr>
          <p:cNvPr id="5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2"/>
          <p:cNvSpPr/>
          <p:nvPr/>
        </p:nvSpPr>
        <p:spPr>
          <a:xfrm>
            <a:off x="5712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3"/>
          <p:cNvSpPr/>
          <p:nvPr/>
        </p:nvSpPr>
        <p:spPr>
          <a:xfrm>
            <a:off x="5712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4"/>
          <p:cNvSpPr/>
          <p:nvPr/>
        </p:nvSpPr>
        <p:spPr>
          <a:xfrm>
            <a:off x="3211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5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图片 11" descr="2.png"/>
          <p:cNvPicPr/>
          <p:nvPr/>
        </p:nvPicPr>
        <p:blipFill>
          <a:blip r:embed="rId2"/>
          <a:stretch/>
        </p:blipFill>
        <p:spPr>
          <a:xfrm>
            <a:off x="3892680" y="1571760"/>
            <a:ext cx="1825560" cy="507528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4" descr="1.png"/>
          <p:cNvPicPr/>
          <p:nvPr/>
        </p:nvPicPr>
        <p:blipFill>
          <a:blip r:embed="rId3"/>
          <a:stretch/>
        </p:blipFill>
        <p:spPr>
          <a:xfrm>
            <a:off x="1432080" y="1382760"/>
            <a:ext cx="2711160" cy="583236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5" descr="1.png"/>
          <p:cNvPicPr/>
          <p:nvPr/>
        </p:nvPicPr>
        <p:blipFill>
          <a:blip r:embed="rId4"/>
          <a:stretch/>
        </p:blipFill>
        <p:spPr>
          <a:xfrm>
            <a:off x="5289480" y="1382760"/>
            <a:ext cx="2711520" cy="58323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3"/>
          <p:cNvSpPr/>
          <p:nvPr/>
        </p:nvSpPr>
        <p:spPr>
          <a:xfrm>
            <a:off x="6212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4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5"/>
          <p:cNvSpPr/>
          <p:nvPr/>
        </p:nvSpPr>
        <p:spPr>
          <a:xfrm>
            <a:off x="2426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10" descr="1.png"/>
          <p:cNvPicPr/>
          <p:nvPr/>
        </p:nvPicPr>
        <p:blipFill>
          <a:blip r:embed="rId2"/>
          <a:stretch/>
        </p:blipFill>
        <p:spPr>
          <a:xfrm>
            <a:off x="5553000" y="2805120"/>
            <a:ext cx="2019240" cy="255276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11" descr="2.png"/>
          <p:cNvPicPr/>
          <p:nvPr/>
        </p:nvPicPr>
        <p:blipFill>
          <a:blip r:embed="rId3"/>
          <a:stretch/>
        </p:blipFill>
        <p:spPr>
          <a:xfrm>
            <a:off x="1928880" y="2714760"/>
            <a:ext cx="2019240" cy="25524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12" descr="1.png"/>
          <p:cNvPicPr/>
          <p:nvPr/>
        </p:nvPicPr>
        <p:blipFill>
          <a:blip r:embed="rId4"/>
          <a:stretch/>
        </p:blipFill>
        <p:spPr>
          <a:xfrm>
            <a:off x="3376440" y="4552920"/>
            <a:ext cx="2552760" cy="201924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13" descr="2.png"/>
          <p:cNvPicPr/>
          <p:nvPr/>
        </p:nvPicPr>
        <p:blipFill>
          <a:blip r:embed="rId5"/>
          <a:stretch/>
        </p:blipFill>
        <p:spPr>
          <a:xfrm>
            <a:off x="3357720" y="1214280"/>
            <a:ext cx="2552400" cy="2019600"/>
          </a:xfrm>
          <a:prstGeom prst="rect">
            <a:avLst/>
          </a:prstGeom>
          <a:ln w="0">
            <a:noFill/>
          </a:ln>
        </p:spPr>
      </p:pic>
      <p:sp>
        <p:nvSpPr>
          <p:cNvPr id="5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2"/>
          <p:cNvSpPr/>
          <p:nvPr/>
        </p:nvSpPr>
        <p:spPr>
          <a:xfrm>
            <a:off x="2497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13"/>
          <p:cNvSpPr/>
          <p:nvPr/>
        </p:nvSpPr>
        <p:spPr>
          <a:xfrm>
            <a:off x="5855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4"/>
          <p:cNvSpPr/>
          <p:nvPr/>
        </p:nvSpPr>
        <p:spPr>
          <a:xfrm>
            <a:off x="421200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5"/>
          <p:cNvSpPr/>
          <p:nvPr/>
        </p:nvSpPr>
        <p:spPr>
          <a:xfrm>
            <a:off x="42120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1844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图片 10" descr="1.png"/>
          <p:cNvPicPr/>
          <p:nvPr/>
        </p:nvPicPr>
        <p:blipFill>
          <a:blip r:embed="rId2"/>
          <a:stretch/>
        </p:blipFill>
        <p:spPr>
          <a:xfrm>
            <a:off x="3554280" y="1898640"/>
            <a:ext cx="2511720" cy="245916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11" descr="2.png"/>
          <p:cNvPicPr/>
          <p:nvPr/>
        </p:nvPicPr>
        <p:blipFill>
          <a:blip r:embed="rId3"/>
          <a:stretch/>
        </p:blipFill>
        <p:spPr>
          <a:xfrm>
            <a:off x="712800" y="2763720"/>
            <a:ext cx="2930400" cy="29512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12" descr="2.png"/>
          <p:cNvPicPr/>
          <p:nvPr/>
        </p:nvPicPr>
        <p:blipFill>
          <a:blip r:embed="rId4"/>
          <a:stretch/>
        </p:blipFill>
        <p:spPr>
          <a:xfrm>
            <a:off x="5786280" y="2835360"/>
            <a:ext cx="2928960" cy="2950920"/>
          </a:xfrm>
          <a:prstGeom prst="rect">
            <a:avLst/>
          </a:prstGeom>
          <a:ln w="0">
            <a:noFill/>
          </a:ln>
        </p:spPr>
      </p:pic>
      <p:sp>
        <p:nvSpPr>
          <p:cNvPr id="5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2"/>
          <p:cNvSpPr/>
          <p:nvPr/>
        </p:nvSpPr>
        <p:spPr>
          <a:xfrm>
            <a:off x="1783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3"/>
          <p:cNvSpPr/>
          <p:nvPr/>
        </p:nvSpPr>
        <p:spPr>
          <a:xfrm>
            <a:off x="6712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4"/>
          <p:cNvSpPr/>
          <p:nvPr/>
        </p:nvSpPr>
        <p:spPr>
          <a:xfrm>
            <a:off x="42836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10" descr="1.png"/>
          <p:cNvPicPr/>
          <p:nvPr/>
        </p:nvPicPr>
        <p:blipFill>
          <a:blip r:embed="rId2"/>
          <a:stretch/>
        </p:blipFill>
        <p:spPr>
          <a:xfrm>
            <a:off x="1689120" y="2911320"/>
            <a:ext cx="5765760" cy="237492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11" descr="2.png"/>
          <p:cNvPicPr/>
          <p:nvPr/>
        </p:nvPicPr>
        <p:blipFill>
          <a:blip r:embed="rId3"/>
          <a:stretch/>
        </p:blipFill>
        <p:spPr>
          <a:xfrm>
            <a:off x="71280" y="1884240"/>
            <a:ext cx="9144000" cy="2444760"/>
          </a:xfrm>
          <a:prstGeom prst="rect">
            <a:avLst/>
          </a:prstGeom>
          <a:ln w="0">
            <a:noFill/>
          </a:ln>
        </p:spPr>
      </p:pic>
      <p:sp>
        <p:nvSpPr>
          <p:cNvPr id="6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2"/>
          <p:cNvSpPr/>
          <p:nvPr/>
        </p:nvSpPr>
        <p:spPr>
          <a:xfrm>
            <a:off x="2568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13"/>
          <p:cNvSpPr/>
          <p:nvPr/>
        </p:nvSpPr>
        <p:spPr>
          <a:xfrm>
            <a:off x="7426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14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15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2"/>
          <p:cNvSpPr/>
          <p:nvPr/>
        </p:nvSpPr>
        <p:spPr>
          <a:xfrm>
            <a:off x="925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10" descr="1.png"/>
          <p:cNvPicPr/>
          <p:nvPr/>
        </p:nvPicPr>
        <p:blipFill>
          <a:blip r:embed="rId2"/>
          <a:stretch/>
        </p:blipFill>
        <p:spPr>
          <a:xfrm>
            <a:off x="3571920" y="1187280"/>
            <a:ext cx="2284200" cy="538488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1" descr="2.png"/>
          <p:cNvPicPr/>
          <p:nvPr/>
        </p:nvPicPr>
        <p:blipFill>
          <a:blip r:embed="rId3"/>
          <a:stretch/>
        </p:blipFill>
        <p:spPr>
          <a:xfrm>
            <a:off x="2214720" y="2616120"/>
            <a:ext cx="5384520" cy="22845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12"/>
          <p:cNvSpPr/>
          <p:nvPr/>
        </p:nvSpPr>
        <p:spPr>
          <a:xfrm>
            <a:off x="39265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13"/>
          <p:cNvSpPr/>
          <p:nvPr/>
        </p:nvSpPr>
        <p:spPr>
          <a:xfrm>
            <a:off x="5569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14"/>
          <p:cNvSpPr/>
          <p:nvPr/>
        </p:nvSpPr>
        <p:spPr>
          <a:xfrm>
            <a:off x="4783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15"/>
          <p:cNvSpPr/>
          <p:nvPr/>
        </p:nvSpPr>
        <p:spPr>
          <a:xfrm>
            <a:off x="3069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11" descr="2.png"/>
          <p:cNvPicPr/>
          <p:nvPr/>
        </p:nvPicPr>
        <p:blipFill>
          <a:blip r:embed="rId2"/>
          <a:stretch/>
        </p:blipFill>
        <p:spPr>
          <a:xfrm>
            <a:off x="2266920" y="819000"/>
            <a:ext cx="4943520" cy="546768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10" descr="1.png"/>
          <p:cNvPicPr/>
          <p:nvPr/>
        </p:nvPicPr>
        <p:blipFill>
          <a:blip r:embed="rId3"/>
          <a:stretch/>
        </p:blipFill>
        <p:spPr>
          <a:xfrm>
            <a:off x="3722760" y="2571840"/>
            <a:ext cx="2563920" cy="2411280"/>
          </a:xfrm>
          <a:prstGeom prst="rect">
            <a:avLst/>
          </a:prstGeom>
          <a:ln w="0">
            <a:noFill/>
          </a:ln>
        </p:spPr>
      </p:pic>
      <p:sp>
        <p:nvSpPr>
          <p:cNvPr id="6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6"/>
          <p:cNvSpPr/>
          <p:nvPr/>
        </p:nvSpPr>
        <p:spPr>
          <a:xfrm>
            <a:off x="4101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2"/>
          <p:cNvSpPr/>
          <p:nvPr/>
        </p:nvSpPr>
        <p:spPr>
          <a:xfrm>
            <a:off x="4140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3"/>
          <p:cNvSpPr/>
          <p:nvPr/>
        </p:nvSpPr>
        <p:spPr>
          <a:xfrm>
            <a:off x="6426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4"/>
          <p:cNvSpPr/>
          <p:nvPr/>
        </p:nvSpPr>
        <p:spPr>
          <a:xfrm>
            <a:off x="442656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5"/>
          <p:cNvSpPr/>
          <p:nvPr/>
        </p:nvSpPr>
        <p:spPr>
          <a:xfrm>
            <a:off x="2426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32Z</dcterms:modified>
  <cp:revision>28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