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2511-5308-4498-8174-3B9CB36D4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185A-148F-4099-8E5D-DC89AEB96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9F51-E1C5-4989-886B-AFF70DD05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A349-F793-416D-AF8F-8067D926E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F7E7C-23F8-434C-9D89-49F791207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306D3-6BEB-4E9D-B409-A36CA7D1E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6D0C1-129E-4B9D-92F7-48F5BDE02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EE96F-8C8E-4E2A-8FAD-45EAC1949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01B47-8993-43D0-89CC-E892BC92E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C62F9-33A3-4DE7-AE85-344A1123A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4CE1C-66E1-4103-934B-6C57432C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86C6-7ADD-4D9F-979F-CC55DA67C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EDB8B-DCC6-499B-9969-B18563EF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81142-41EA-422D-98AD-5BC847741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EDFD5-91D3-4158-B318-CC53D369C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ECD18-82F2-44CC-BDCA-A5B6FDF9E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4888D-8FDE-45AC-80AF-13F5AD8AD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0E38-DB9F-4E17-B6BD-29A36DB18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024A-8A2E-45F9-9175-505459A2A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221C-F2C0-4AD0-A71A-E52CF835A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B5C8-9FF6-4C10-B708-7D6C09F52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A61C-B904-4969-A380-82195959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A839-6FDD-4DB5-9C13-1A352ABF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8847-CAEE-4C57-B80A-78387360C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DAAEB-E958-4A83-BBB4-FD3B04D101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A7C6B-218B-4D02-8370-D77B73FA63D2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A7486-7134-4B28-8620-C158CCBB42D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5.png"/><Relationship Id="rId7" Type="http://schemas.openxmlformats.org/officeDocument/2006/relationships/hyperlink" Target="http://www.eeppt.com" TargetMode="External"/><Relationship Id="rId8" Type="http://schemas.openxmlformats.org/officeDocument/2006/relationships/hyperlink" Target="http://www.eeppt.com" TargetMode="External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底色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封面烟花01"/>
          <p:cNvPicPr/>
          <p:nvPr/>
        </p:nvPicPr>
        <p:blipFill>
          <a:blip r:embed="rId2"/>
          <a:stretch/>
        </p:blipFill>
        <p:spPr>
          <a:xfrm>
            <a:off x="250920" y="692280"/>
            <a:ext cx="7037280" cy="59436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封面烟花02"/>
          <p:cNvPicPr/>
          <p:nvPr/>
        </p:nvPicPr>
        <p:blipFill>
          <a:blip r:embed="rId3"/>
          <a:stretch/>
        </p:blipFill>
        <p:spPr>
          <a:xfrm>
            <a:off x="5219640" y="0"/>
            <a:ext cx="3924360" cy="2762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封面标题"/>
          <p:cNvPicPr/>
          <p:nvPr/>
        </p:nvPicPr>
        <p:blipFill>
          <a:blip r:embed="rId4"/>
          <a:stretch/>
        </p:blipFill>
        <p:spPr>
          <a:xfrm>
            <a:off x="2700360" y="981000"/>
            <a:ext cx="3819600" cy="19144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封面老鼠"/>
          <p:cNvPicPr/>
          <p:nvPr/>
        </p:nvPicPr>
        <p:blipFill>
          <a:blip r:embed="rId5"/>
          <a:stretch/>
        </p:blipFill>
        <p:spPr>
          <a:xfrm>
            <a:off x="3157560" y="3181320"/>
            <a:ext cx="2828880" cy="2048040"/>
          </a:xfrm>
          <a:prstGeom prst="rect">
            <a:avLst/>
          </a:prstGeom>
          <a:ln w="0">
            <a:noFill/>
          </a:ln>
        </p:spPr>
      </p:pic>
      <p:sp>
        <p:nvSpPr>
          <p:cNvPr id="87" name="文本框 3078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3079"/>
          <p:cNvSpPr/>
          <p:nvPr/>
        </p:nvSpPr>
        <p:spPr>
          <a:xfrm>
            <a:off x="3421800" y="18432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新年幻灯片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500" autoRev="1" fill="hold"/>
                                        <p:tgtEl>
                                          <p:spTgt spid="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mph" presetID="26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500" autoRev="1" fill="hold"/>
                                        <p:tgtEl>
                                          <p:spTgt spid="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500"/>
                            </p:stCondLst>
                            <p:childTnLst>
                              <p:par>
                                <p:cTn id="24" dur="indefinite" autoRev="1" nodeType="after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00023 L 0 -0.02731 E">
                                      <p:cBhvr>
                                        <p:cTn id="25" dur="35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C74EF-462D-4A18-98CD-B2D4E391981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7" descr="内页底色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内页标题"/>
          <p:cNvPicPr/>
          <p:nvPr/>
        </p:nvPicPr>
        <p:blipFill>
          <a:blip r:embed="rId2"/>
          <a:stretch/>
        </p:blipFill>
        <p:spPr>
          <a:xfrm>
            <a:off x="217440" y="115920"/>
            <a:ext cx="2914560" cy="1457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内页烟花01"/>
          <p:cNvPicPr/>
          <p:nvPr/>
        </p:nvPicPr>
        <p:blipFill>
          <a:blip r:embed="rId3"/>
          <a:stretch/>
        </p:blipFill>
        <p:spPr>
          <a:xfrm>
            <a:off x="0" y="692280"/>
            <a:ext cx="7037280" cy="5943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内页烟花02"/>
          <p:cNvPicPr/>
          <p:nvPr/>
        </p:nvPicPr>
        <p:blipFill>
          <a:blip r:embed="rId4"/>
          <a:stretch/>
        </p:blipFill>
        <p:spPr>
          <a:xfrm>
            <a:off x="5076720" y="404640"/>
            <a:ext cx="3924360" cy="2762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内页圆角矩形"/>
          <p:cNvPicPr/>
          <p:nvPr/>
        </p:nvPicPr>
        <p:blipFill>
          <a:blip r:embed="rId5"/>
          <a:stretch/>
        </p:blipFill>
        <p:spPr>
          <a:xfrm>
            <a:off x="2529000" y="3214800"/>
            <a:ext cx="4086000" cy="4284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2"/>
          <p:cNvSpPr/>
          <p:nvPr/>
        </p:nvSpPr>
        <p:spPr>
          <a:xfrm>
            <a:off x="2700360" y="3219480"/>
            <a:ext cx="37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不 要 忘 记 我 们 自 己 的 节 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3" descr="封面老鼠"/>
          <p:cNvPicPr/>
          <p:nvPr/>
        </p:nvPicPr>
        <p:blipFill>
          <a:blip r:embed="rId6"/>
          <a:stretch/>
        </p:blipFill>
        <p:spPr>
          <a:xfrm>
            <a:off x="6997680" y="5303880"/>
            <a:ext cx="2146320" cy="1554120"/>
          </a:xfrm>
          <a:prstGeom prst="rect">
            <a:avLst/>
          </a:prstGeom>
          <a:ln w="0">
            <a:noFill/>
          </a:ln>
        </p:spPr>
      </p:pic>
      <p:sp>
        <p:nvSpPr>
          <p:cNvPr id="100" name="文本框 4104"/>
          <p:cNvSpPr/>
          <p:nvPr/>
        </p:nvSpPr>
        <p:spPr>
          <a:xfrm>
            <a:off x="442800" y="187632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" dur="500" autoRev="1" fill="hold"/>
                                        <p:tgtEl>
                                          <p:spTgt spid="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mph" presetID="26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500" autoRev="1" fill="hold"/>
                                        <p:tgtEl>
                                          <p:spTgt spid="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6000"/>
                            </p:stCondLst>
                            <p:childTnLst>
                              <p:par>
                                <p:cTn id="52" dur="indefinite" nodeType="afterEffect" fill="hold" presetClass="entr" presetID="45" repeatCount="indefinite">
                                  <p:stCondLst>
                                    <p:cond delay="1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4T14:38:0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2:54Z</dcterms:modified>
  <cp:revision>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