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2461-FC78-497B-8357-F581C1D6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FA38-9C8F-42C0-86DC-83560D75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B8FC-99F5-4229-A589-F3995D5B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3639-3273-46CE-A929-ED0DBD01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C542-81CF-430D-B0B5-5474D774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E6D5-CAA0-492A-9BCE-AEC4C5A2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503B-7F90-455C-A67A-FFACEC58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3393-EF34-4FFA-97C9-75328518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775F-B4A2-4B65-82E7-0D5961F5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74B0-527B-4D7D-A6E0-D614B13D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E447-59E3-457C-BFB4-EC018B64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094A-84AD-41C7-9D65-DA337723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3" descr="b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a5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963d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1104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5"/>
          <p:cNvSpPr/>
          <p:nvPr/>
        </p:nvSpPr>
        <p:spPr>
          <a:xfrm>
            <a:off x="7236000" y="6426360"/>
            <a:ext cx="14396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5A6D8D8-010F-4B81-9D9F-94950F70658F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" descr="bg3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da58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963d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0" descr="bg1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a5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963d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2FAA-00BE-4DF5-AC30-BE5535E95CB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4CB1-B5CA-4D4E-9195-92DE9DEFA48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68360" y="544500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68360" y="45576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文本框 5123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i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5124"/>
          <p:cNvSpPr/>
          <p:nvPr/>
        </p:nvSpPr>
        <p:spPr>
          <a:xfrm>
            <a:off x="2751120" y="33336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新年幻灯片在线下载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Group 85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167" name="Group 86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168" name="Rectangle 87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88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89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90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91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ff902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92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da58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3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963d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4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ffc78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95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77" name="Rectangle 96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97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98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99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00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1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02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03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6040" y="224316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6166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963d00"/>
                </a:solidFill>
                <a:uFillTx/>
                <a:latin typeface="Arial"/>
                <a:hlinkClick r:id="rId1"/>
              </a:rPr>
              <a:t>ppt</a:t>
            </a:r>
            <a:r>
              <a:rPr b="1" i="1" lang="zh-CN" sz="1600" spc="-1" strike="noStrike" u="sng">
                <a:solidFill>
                  <a:srgbClr val="963d00"/>
                </a:solidFill>
                <a:uFillTx/>
                <a:latin typeface="Arial"/>
                <a:hlinkClick r:id="rId2"/>
              </a:rPr>
              <a:t>模板网站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4E3E-FE67-4F54-A70F-405B7DABB03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2700360" y="4292640"/>
            <a:ext cx="618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 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50Z</dcterms:modified>
  <cp:revision>28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