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DB4-6723-4B06-9C7E-EB41CC8A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F31-71DA-4444-AC21-4E3259B6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BE6-355A-429B-841B-40EA2B39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A2F-57A8-4EBD-8322-8BC9C7C1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65B3-F485-449D-99D3-A3A44364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3E63-4538-460B-9A96-BFF21FB3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7E39-D616-4283-82A4-B18EC8A7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B8BA-876B-4305-9EE4-6647E2D1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57C8-E597-437F-8B33-70E11F70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0536-AEAC-405D-B498-4F8CA494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7EFE-4F6B-49D4-9D13-19CB9D83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0E1-1790-41A3-BFE3-BF66298C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396E-A2F9-4FBB-9B8D-2F333E1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8BEE-F353-4177-AC5C-6096FD3B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FC94-F0E3-40B6-987A-A9D08D04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91F2-CBC3-46D6-AD62-C34C7811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F0C3-D042-452F-B05D-0F416471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EDC-0B1C-40FB-9D39-2899AA16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865-2C14-4D1F-AEB5-FB74CEB0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F90-D20C-4E51-AA93-859AB64C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EB5-B0B6-4691-8B89-695A1E9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8B6-1E08-48BE-91CA-5495D50B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28E-64AD-4E50-B622-B457F88C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836-49C5-40BE-8F71-09895E6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039A-8FEB-42EB-86C2-372BFDB1E8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840E-780C-4237-8E30-4EC998091C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BFD6-7286-4A7D-892B-AD1D678208B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0E36-3861-4B67-A9CB-C6D7AB36BC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1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3"/>
          <p:cNvGrpSpPr/>
          <p:nvPr/>
        </p:nvGrpSpPr>
        <p:grpSpPr>
          <a:xfrm>
            <a:off x="2928960" y="1577880"/>
            <a:ext cx="2398680" cy="1251360"/>
            <a:chOff x="2928960" y="1577880"/>
            <a:chExt cx="2398680" cy="1251360"/>
          </a:xfrm>
        </p:grpSpPr>
        <p:pic>
          <p:nvPicPr>
            <p:cNvPr id="84" name="图片 4" descr="2.png"/>
            <p:cNvPicPr/>
            <p:nvPr/>
          </p:nvPicPr>
          <p:blipFill>
            <a:blip r:embed="rId2"/>
            <a:srcRect l="0" t="0" r="56936" b="23833"/>
            <a:stretch/>
          </p:blipFill>
          <p:spPr>
            <a:xfrm>
              <a:off x="2928960" y="1597680"/>
              <a:ext cx="918720" cy="92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4" descr="2.png"/>
            <p:cNvPicPr/>
            <p:nvPr/>
          </p:nvPicPr>
          <p:blipFill>
            <a:blip r:embed="rId3"/>
            <a:srcRect l="43081" t="0" r="-10024" b="70732"/>
            <a:stretch/>
          </p:blipFill>
          <p:spPr>
            <a:xfrm>
              <a:off x="3899160" y="1577880"/>
              <a:ext cx="142848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6"/>
            <p:cNvSpPr/>
            <p:nvPr/>
          </p:nvSpPr>
          <p:spPr>
            <a:xfrm>
              <a:off x="3827880" y="1863720"/>
              <a:ext cx="142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新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7"/>
            <p:cNvSpPr/>
            <p:nvPr/>
          </p:nvSpPr>
          <p:spPr>
            <a:xfrm>
              <a:off x="2979360" y="2445840"/>
              <a:ext cx="2142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2011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辛卯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(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兔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3079"/>
          <p:cNvSpPr/>
          <p:nvPr/>
        </p:nvSpPr>
        <p:spPr>
          <a:xfrm>
            <a:off x="3492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80"/>
          <p:cNvSpPr/>
          <p:nvPr/>
        </p:nvSpPr>
        <p:spPr>
          <a:xfrm>
            <a:off x="2767680" y="6285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新年菊幻灯片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1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2.png"/>
          <p:cNvPicPr/>
          <p:nvPr/>
        </p:nvPicPr>
        <p:blipFill>
          <a:blip r:embed="rId2"/>
          <a:stretch/>
        </p:blipFill>
        <p:spPr>
          <a:xfrm>
            <a:off x="7929720" y="142920"/>
            <a:ext cx="100008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035080" y="2143080"/>
            <a:ext cx="50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6" descr="8.png"/>
          <p:cNvPicPr/>
          <p:nvPr/>
        </p:nvPicPr>
        <p:blipFill>
          <a:blip r:embed="rId3"/>
          <a:stretch/>
        </p:blipFill>
        <p:spPr>
          <a:xfrm>
            <a:off x="1357200" y="2676600"/>
            <a:ext cx="59688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7" descr="9.png"/>
          <p:cNvPicPr/>
          <p:nvPr/>
        </p:nvPicPr>
        <p:blipFill>
          <a:blip r:embed="rId4"/>
          <a:stretch/>
        </p:blipFill>
        <p:spPr>
          <a:xfrm>
            <a:off x="7000920" y="1857240"/>
            <a:ext cx="542880" cy="53676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410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E327-B18E-4700-95F4-E202CDA4BB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3" descr="1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5"/>
          <p:cNvGrpSpPr/>
          <p:nvPr/>
        </p:nvGrpSpPr>
        <p:grpSpPr>
          <a:xfrm>
            <a:off x="3000240" y="1863720"/>
            <a:ext cx="2643480" cy="1203480"/>
            <a:chOff x="3000240" y="1863720"/>
            <a:chExt cx="2643480" cy="1203480"/>
          </a:xfrm>
        </p:grpSpPr>
        <p:sp>
          <p:nvSpPr>
            <p:cNvPr id="102" name="TextBox 6"/>
            <p:cNvSpPr/>
            <p:nvPr/>
          </p:nvSpPr>
          <p:spPr>
            <a:xfrm>
              <a:off x="3036600" y="2363760"/>
              <a:ext cx="22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7"/>
            <p:cNvSpPr/>
            <p:nvPr/>
          </p:nvSpPr>
          <p:spPr>
            <a:xfrm>
              <a:off x="3000240" y="1863720"/>
              <a:ext cx="264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01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