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18E-C0FA-4DDC-90DA-48BFF6C9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BFD-E864-45A9-A49D-3D80FB6C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4744A-6952-45F8-8048-B03A7E2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EE97-C775-42DC-B829-A4A103B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8FA87-6799-499E-AEB5-AD8BB16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B362A-1F83-4D71-BEAB-F12CEC3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70709-C32A-48BA-8AC9-CA98B50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EF99-B54A-4642-A966-E1CEF711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DB112-EDB7-4E57-8CD0-C28F81A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14898-66D1-4FC4-B5F1-0686FFFE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37D40-A876-4EC5-A20F-777E417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4ED43-2307-4D22-8362-BE25D624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B63-6E9E-486D-BC5F-0EFED442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66ED9-3063-4FBE-8C4A-2BBCB11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2494A-3E61-451E-981B-C86536E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075C-68B9-4800-AB62-71D9DCD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031DA-76A4-4B5D-99DB-DFE42C3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78D89-7107-4E3C-99CF-06945920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8C889-154A-46C2-B521-52F452A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7CDF2-FAB7-4538-890C-F41D0C9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727A-260D-40B3-92C5-191E959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45986-25B3-432E-98CC-BA6D406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61B5E-B682-4471-96BF-CBDC17EC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33B-4D1E-4F1B-8DFD-E6C7C241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93DCB-3EF8-4431-B2E0-DB51BF6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1843B-88BD-496A-9B9F-7F75B1C2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BAC7-8379-4462-8600-682F3C3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5456C-6D1B-4233-9F02-9AB8D3B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8E26-0410-4FAA-9E6B-97EE0A3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79773-C7F1-4174-8034-4828FF4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9B0F-CAFF-4019-81C0-54761E0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12487-7BBC-4C88-B829-BB7FA18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4099-06EE-47C1-B323-5549CCCA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A80F-280B-4EFE-B33F-8B09CE1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00A7-6AB4-40F5-83E1-DBD3B397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C0024-74C6-4C42-8020-08EA67D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F3AC-1120-4E1C-8908-82720447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63D2-9678-4635-BB4A-FEED414D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96A9-94C7-468C-9F0F-3D91BCD4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0DE01-452D-467C-BF0F-625C99CA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BBA10-46FA-46F6-A845-D0D2694A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8FAFC-8ACE-4451-8C47-408220B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448B2-7641-4FBB-BB0E-0D817C56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007E-6D94-48F1-A5AA-74A09C84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A288-F657-4AA2-A8B7-BC3FD72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BCAE-AFA1-41E7-8488-1A707E01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EE1B2-7A7C-4EC2-B050-8639A00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F5D4-F35C-4AFF-AF68-0A9102F2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D2B13-D5EF-4DA3-810C-FB14D5C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EA9F-0AD9-4E56-8422-203604A0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94C1F-54CD-4BD1-A09E-243C9C2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E2965-6754-4555-87F6-B3BA0DE0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592DA-15D5-41BE-8192-B2D7A34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EA8AA-8EAD-4243-8DDF-16FDB07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6ACF6-FE71-4B39-B395-F610E3D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018C3-C24D-40F0-817A-8987EE6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F69-066B-41A2-998B-1C0224A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D3D88-D903-44EC-97F8-42BEA528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49E19-5C1F-4279-8D3C-99AA122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0435D-D6A7-49D0-98F3-FB52D5E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20421-9270-494C-96B8-64F84A0E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016DD-A271-4A05-BE33-C4B38643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68B96-796F-4BFC-A6A3-B59E79E7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E6C62-9885-41FC-99B9-34774225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5C3-8AEB-4EC4-A309-99F1DB0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C4A8-4BA9-426F-A2CF-7C00191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D9EF-7014-4E68-8A90-57724E2D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A084-FF4D-45D3-9E59-75B8B46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ACE-87F4-488C-A794-BD1DFB7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F5A-9F77-4575-9B01-9BAA81F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2701-DBD6-4368-921C-EC83E05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35F6-47BC-41AE-B2F5-374BCA0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98D-109A-4EE2-955B-DC0FB19A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9C21-0C3E-4CE0-98A2-2EB34217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1393-CD80-4506-B9B5-33BE21D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9EE3-5181-452F-9B9E-965FF82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33DA-BF1E-4770-B286-7C6235F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2EB0-DBC2-43B0-AD53-A76EF5A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B69C-3820-47DA-986B-0F46400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218-9213-430A-9637-5D23D3A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F3CA-06AF-4F92-A6B8-3834690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F1CF-7EC2-4E33-A2AA-DCDA597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1B53-4C33-492B-A3F3-927D5085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2101-2F75-4FC2-A275-D285DCB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DAA0-D846-4F27-8FB9-64DAA95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EF13-C031-4CC6-ACA4-CE260173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3A4E-618D-4826-9282-13218B5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CB40-5550-46F0-BEF9-6A90407C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2829-52C3-4BBB-BF21-AB688FF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7096-ACE1-4A54-99FC-840854A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A0D-381F-44CD-9316-FA5B9BA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28F8-9F44-4923-A264-956F40B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47E7-72B8-46E0-BFEC-3146699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58E9-96B8-49FF-A3EE-F08555F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902C-7416-49FF-A4F1-0C8A291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CC2D-1132-470B-ABC6-E44F5C7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DDE1-0BCA-4465-94D4-ED2958F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C328-B4FA-4AD6-AA89-DB03E2D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E76E-CD3C-4FDE-8CF3-AECC237E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9D8C-C331-4A95-9A04-8BAE8082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9F79-CDCB-4D33-847A-841DB67A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B12-26DE-4F71-9CD7-2F1D9BF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C3DC8-5971-4C63-8CFD-90F8BA16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AEB1-D60A-4336-A347-29B8EE7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E7E1-7498-4930-AAD5-572A0A98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3677-C87B-49E0-B2E0-4955C0DF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6F23-3A67-4DA8-B5EB-9A5DF8F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6500-D87B-43F6-A885-8382181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1543-FAB1-4999-92B9-D5CF9C0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F8DA-FEAF-48DF-950F-5F8B3C0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1926-9656-4A69-9794-767BEC7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FDEC-B5C4-4126-8199-4079BC8B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981-3350-4AA8-8FB0-018A6CF5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6E1F-CDF8-4126-B361-80F20B96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451C-8BED-4C26-954C-F2E52959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3553-FC11-4DEC-A73C-4B11899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A714-56FE-48D8-B39D-8CF01F5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08A2-6DFE-4087-80C3-6CBFDA76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1FBB-1F18-4204-975C-2D507B70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8EA0-F13A-4DA3-B6D7-4F484FC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F7E4-A86B-471B-B668-7F31714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11F8-FAEE-427A-AC16-EB3EDD6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DDDC-87B5-400E-9203-5C44921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446-F3AA-40F2-82C7-023B576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DE20-3595-4D9C-8E84-9021E0F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D58E1-527A-4A5E-AF73-7C86B4FA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9D177-F7F6-4566-AB1C-74D213E2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B73C-0E85-4148-917B-7B0FA791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0AAAA-AF00-4D16-99C8-A44C21D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825C-7BF9-403A-BBE6-F8EBAF1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8890B-245F-44CA-B46D-6A00F00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5D63-9CCC-460D-B37E-AD8AC89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5205-F9FD-480E-96F7-8E0A5BCE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8299-99BA-47C9-8F80-FCEC609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80B-D09A-4E0E-9B36-9868F57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80D99-FB6E-4400-AAF8-40244D2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7AAF6-C01B-4EB8-B615-41AA463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890E-DDAA-40BA-BF80-5BA315B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6C36-895E-4AD3-8643-9A17F6F5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DBA8-A043-4CAA-B7EC-BAC52C8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68B9-FBDD-43AA-A1D4-56CCA0C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869B-8C52-4777-90E0-83932D2F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994B-8CD2-4EA6-9F13-1F856DA3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5D26-2692-4395-9210-8A1D54D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8FAE-F84F-4C6E-938A-A9476DB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344-B606-4F14-841E-662D352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B1D61-0242-45C2-8488-D205F68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8DD8-9E39-4E63-B265-B6AD729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4AA97-6A91-4B03-8DB7-34019AC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638B-7B26-414D-BD26-A85FD9A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822A8-F847-43CD-AC75-7DD3B1DB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D142-F208-48B6-BE9D-36BC57A4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49BED-1760-4F23-94E2-7B2DB92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F1D72-0693-4BB0-92CD-0181B44D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2D6FD-9155-40B5-95BD-4942632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11C93-4CB3-4512-A7BE-9D51419E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B418-2340-4554-877F-04F1D52C3C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9FC6-BCF1-4D2E-ACC6-659A6E4DDE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C7A-7C0C-4E74-9B2A-B15F8BB36EC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B854-62E5-4259-8CE9-1B64969EA2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408-E3FD-42A8-9B3B-5DB2CAF8A9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520-B9DB-438D-9B2B-3A50E42F6B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3A4A-EC9B-4124-9344-73AE569A31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EED-B790-42B4-810E-D8C06EFE3E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90B-1C9C-4059-BA29-6099BC55F53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CE2-8830-423A-9D7B-62E304CB4A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90E4-6415-437F-B86A-21997464F6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20B-5E01-4470-B589-225390B19F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94C-B45F-4E9A-82D2-8B202602466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B1E-AE7E-4A39-A09A-2263195A27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706-019B-44C5-BFB4-B94CDBCD28B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B296-557B-4D05-AEC5-A0CE541FF8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20CD-C9EB-4FFA-90BC-66939D721E4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D1D1-3CFD-45C8-9C76-473761B8C2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EFC-95EA-477A-B4AF-613FAFE56B9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F605-1462-4CDE-A69E-03D4E71ABB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4D2-CA11-455A-8224-9878B1E9A15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5B3-10CA-4630-81BB-399B721CD3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C219-43DA-4CC1-B4A5-516EC4574C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203-CD1C-4D80-9581-179D527DA4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2B8-AF3D-459C-A5DB-63EDF35275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86C7-60DD-45E6-B473-34B841B0FC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500280" y="357192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571920" y="400068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768320" y="333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节日喜庆灯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0F0-69EA-4931-9440-CF767F6ABF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文本框 17409"/>
          <p:cNvSpPr/>
          <p:nvPr/>
        </p:nvSpPr>
        <p:spPr>
          <a:xfrm>
            <a:off x="539640" y="364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0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