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0F2F-A485-4025-B460-84CCD1C7F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9FE4-3C78-4D59-8490-77AAF3F6F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B3E5-7264-46E4-B064-AB2E02A14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C389-3574-4EA6-961D-49C39E29E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6A873-802F-41EB-9207-DE26ED13C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7D84E-B6A2-4A9D-8C42-7F1724023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71AAE-B02A-4140-9DFD-AF9DC342F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E2545-0AF5-4C02-A14C-88689CC48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73131-9951-4E9A-8653-382895400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DE9DF-00CE-4C7C-B55F-0094081F9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312EF-7379-483A-B58E-C6EBA6937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2F41-1476-4912-BE46-0F397F984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11BBA-EA3A-40E4-8F93-C21E751F4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F86C8-1F1A-4F80-8ABD-7A68F83D9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2662E-363C-40F4-BBEC-8C6D2B76E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F3C2D-DEF4-4727-980D-FB26E429F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2C01A-985C-4A5C-89F0-8C81FFBFF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2EAA-3E8E-4CF7-A0BD-6514BBD2A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9E68-CA6C-41C7-AE14-612A03BEE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F2D2-B649-4504-A147-06B2DA8CA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1D56-757F-41D3-A525-11A132CFC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6E42-F122-4135-835B-59DFB75D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E100-FB23-4372-8CCD-F824AADD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226B-4190-4800-91F5-FB0211B4D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09279-3291-4782-86F0-B90A597B25E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9B931-662B-404A-A8E3-50A19C08271E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F8AE1-52EF-46B7-93FA-DA6B476F311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3"/>
          <p:cNvSpPr/>
          <p:nvPr/>
        </p:nvSpPr>
        <p:spPr>
          <a:xfrm>
            <a:off x="971640" y="4819680"/>
            <a:ext cx="718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94429"/>
                </a:solidFill>
                <a:latin typeface="华文隶书"/>
                <a:ea typeface="华文隶书"/>
              </a:rPr>
              <a:t>新年快乐幻灯片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3"/>
          <p:cNvSpPr/>
          <p:nvPr/>
        </p:nvSpPr>
        <p:spPr>
          <a:xfrm>
            <a:off x="8423280" y="0"/>
            <a:ext cx="72072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4e4e4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e4e4e4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e4e4e4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e4e4e4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e4e4e4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e4e4e4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e4e4e4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4e4e4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e4e4e4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e4e4e4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e4e4e4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e4e4e4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e4e4e4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4e4e4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e4e4e4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e4e4e4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e4e4e4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e4e4e4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4e4e4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e4e4e4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e4e4e4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e4e4e4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e4e4e4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e4e4e4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4e4e4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e4e4e4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e4e4e4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e4e4e4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e4e4e4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4e4e4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e4e4e4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e4e4e4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e4e4e4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4e4e4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e4e4e4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e4e4e4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e4e4e4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4e4e4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e4e4e4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4e4e4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3075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1"/>
          <p:cNvSpPr/>
          <p:nvPr/>
        </p:nvSpPr>
        <p:spPr>
          <a:xfrm>
            <a:off x="3929040" y="8571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8"/>
          <p:cNvSpPr/>
          <p:nvPr/>
        </p:nvSpPr>
        <p:spPr>
          <a:xfrm>
            <a:off x="407088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8"/>
          <p:cNvSpPr/>
          <p:nvPr/>
        </p:nvSpPr>
        <p:spPr>
          <a:xfrm>
            <a:off x="414072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7"/>
          <p:cNvSpPr/>
          <p:nvPr/>
        </p:nvSpPr>
        <p:spPr>
          <a:xfrm>
            <a:off x="407088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4101"/>
          <p:cNvSpPr/>
          <p:nvPr/>
        </p:nvSpPr>
        <p:spPr>
          <a:xfrm>
            <a:off x="826920" y="2492280"/>
            <a:ext cx="50374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119F7-B739-4732-B02C-FC32C8A44EF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矩形 8"/>
          <p:cNvSpPr/>
          <p:nvPr/>
        </p:nvSpPr>
        <p:spPr>
          <a:xfrm>
            <a:off x="3877200" y="9288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汉仪长美黑简"/>
                <a:ea typeface="汉仪长美黑简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2:58Z</dcterms:modified>
  <cp:revision>2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