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0182-6F1D-4D04-84E1-96312AF6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B9F-39C0-4319-825A-29AAAF6C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F0752-3F7D-4758-85A8-4F6756DC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03D9D-543D-4D98-BA26-F88DA975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FD594-C745-4650-8F51-1E5459AD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0B96F-08A1-4D2A-B1EF-AB0CB4A7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97BA7-2B36-478F-B142-6FB74038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E6385-0197-4309-9747-A3146AE8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A8F39-5E1E-43EB-AAD1-6BEA2A12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7928C-6333-409A-AAA3-4DE76428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B0944-FFE7-4F54-965B-34594BAB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60983-0976-4E3A-9EC9-202A256A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E67-AB4B-45B0-A1B9-C5729BF0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A5CFE-FCD2-4A7E-A1FF-17C8DE48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218DF-B84F-43FE-9F47-99345FDE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15969-1DEE-47B9-BE26-58EB8C03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4384E-71AC-4432-9C20-FBEFBAD8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9CB75-3C61-4F15-9A67-C8A22634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0495D-90ED-48D5-8F7D-F39A0E3F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B249E-52D6-4D2A-9EAC-29E436C0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79C03-439B-4285-A736-8F81A378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3AC92-05FE-497F-93D5-827E8C9C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13DE8-FAFE-4A83-89B8-1B251AB5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9599-40E7-440C-85C9-0A48E75A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B955D-911A-41B0-87BD-703EF777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1F1CA-C39A-4117-B24B-7E54BAAC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DA851-9225-47E2-9328-6EF8E4C1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B394E-2938-4C73-980C-A2ED4074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AAADC-7956-4EDA-93A3-DD29462C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1C699-33B1-4F98-AB62-29723C60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54DA5-92D9-4C6F-BD18-FC323780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5AB35-5865-4DA8-A75C-2076FFD7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55A83-6807-4931-8F95-CE1D87AE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D11DE-0B92-42FB-B741-49B938D7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87EF-0F9C-4256-ABCD-BB9815CC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74B6F-510E-4102-999B-5A5DF3A5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AB4D9-4E3D-4F28-B705-0C2F1932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A173F-7A27-44CA-8112-BA295414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25B7F-7D69-40C8-BC07-A533EE49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1E1FB-A90E-4D35-827D-A1489F82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9EEB6-9F19-4350-A9A3-99D9AEE3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1A69A-BBA2-4122-B4BB-B2073E35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7A056-8D40-4140-BA9C-19F14A0D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1C697-7E17-4FC9-94E0-7EFDAC34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8978E-9BA4-40E3-B2AA-56FB15A4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FA73-5B91-4D4D-8132-2E606F46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434AD-534A-4941-8DDD-31C35CAC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A4A87-75E3-4A33-A34A-79AA92EF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65A63-1769-4B00-88D1-6A10FA0C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DA9EE-E433-47D5-A5B0-0130C23F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31A7B-35B8-4DF0-A395-F20EF5B7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5ED52-2199-4628-8AE5-4D22F72D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A7780F-5B3C-4683-900D-CA788683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95E04-A1B8-448C-8958-C9D1B61B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BFE73-83EB-4B2D-9860-2653DA11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B7361-74F5-4098-BFFA-E2867D20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B228-A722-4317-84C2-55F3C9CC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289E3-6389-45A0-9066-080141B1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ED244-F758-4DB3-A076-28032127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CD563-BB2C-4B8E-B322-3A7BA61F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6308B-400A-4A2E-9811-84246BED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05DB0-58B4-4388-B29B-DB009F9B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CD13C-3718-4863-9DCD-655395D4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549E5-AFB3-4530-9AC7-D597A740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A014-5A2E-415B-BFD8-D0437218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F45E-EFD7-4EC3-9A61-00A814F8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58C6-48AD-40A7-964E-53E5664A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3D98-02BA-4DF6-B7FB-02977778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D8C-164A-49C7-81EB-40943824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713C-DD57-4D9D-ACCE-77606DAD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24B1-2FE7-4D41-8EEA-8C732C81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C773-A9EB-467F-B76D-A6C6499C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6F90-76D7-4A47-A15A-552C881B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CAE5-93CC-41DC-B2C2-88A7831F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2EAF3-166C-4941-AF32-FE1F9361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0D0DE-D960-4F66-A53F-A76738F7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DCBF4-32F8-4D9C-A4BF-5419F8F0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2224-79C5-4816-81E6-9492F259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659F4-02A6-40A1-A6CC-D4C9F68D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21B-638D-4BC5-A765-72E059A5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15828-C9CB-4C0E-8599-564BD2E7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6E94-3327-4DFA-9B40-534B5AD3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D9EB-658A-4432-BFBE-67A48DD1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CC947-4F73-46D0-94A3-3FFC6873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F29F1-105E-40A0-9E75-658E6DBE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EE892-B4DE-456F-8934-B1D97003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7AAD6-0645-43CA-8CB8-F6869A97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99A98-9275-40FD-8560-44A0C16E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4A9C5-720D-4334-BE95-F0DF0E6E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BB09B-6BB1-4AC1-A07B-71BDF058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518-E639-477E-BFD4-F6FE284E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E09DD-6691-409F-A499-5D1105CA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A5F16-3A8B-4D12-A186-F15A11F6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9029-3643-4367-B008-A3FADDFF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C17E0-7E32-449E-8B7C-AC68B3EB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09683-FBA4-4CF6-AF2C-25A3C611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25C8B-3F63-449F-A7E0-29B71BF1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ACED4-8E37-4633-A609-65E59656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A9003-43B0-4111-8824-6910FC0E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7F468-63B9-494D-9D16-69BDFE81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195CA-55F1-48AB-B377-DC4531E27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4AF-D604-4522-9617-97186E41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B2743-53F8-43BF-8163-575138DA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04C9D-853F-4068-9100-CC0A857F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F061A-8776-4A7A-A89D-E7E0BB04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21660-CC43-4B37-88E9-1C68D203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5A877-60C0-4468-AEBB-31B0F637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5EA6F-5F21-46A9-BF73-12F3597F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AD2AA-0B61-475A-9887-38D3B81E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2AE45-4D58-459E-AE1D-BADB6583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99ABD-52D9-476C-B545-13D5347E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E1AD9-1993-4B1A-8C0F-06CFD12B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EB1-B30A-484E-B250-AB226914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84868-133B-481D-9F9F-9195C343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46530-0D6C-4BBA-BDC8-61E6FB65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2DA2F-DF66-4BA9-9048-C1C0F466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8C3EF-0A7B-4CC9-A036-1B92CB26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44832-5DAC-4168-9F23-F8E6A667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66EEA-2D39-49FA-8361-9D92E7F6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FCE7E-7DC1-428A-80DB-15C227E9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B33BF-C178-455F-A10C-A6F61674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BCC42-84D2-443F-8791-006281E5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A0940-168C-4169-9CFC-D95CB7B4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75B-6477-4156-ACEC-827B0A8B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6DEDF-3067-46F5-8783-BCEA544E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21553-98DE-4749-91D5-9EF0B013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BBE35-DC34-4FA6-8129-FC5C7690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391D9-3CB0-4DAA-BDEA-73EF924C2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1E066-508A-45D1-B91F-E9CDC35A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80B55-D6C0-4CEF-AD89-0506C317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99F10-7F9A-465E-878D-90C9AFCD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54173-A6C4-46B3-978E-A9E2F753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25D00-14C1-4B66-A9C0-78F6973E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2C03D-D77B-4077-BF3E-D2F45CBD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F82-1B9D-4215-BB75-3E752E6B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02E1A-8C16-4A7C-B09C-84BFCEC9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25E4E-6816-4D65-AE77-D77CC277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41DA5-C0F4-4A8A-9B45-652D23EB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1F506-C620-44BA-AF06-812B9E96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C26D8-606A-4C13-9D55-847D55AD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77570-97C1-4DC1-AFBC-5F01FAC9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78F19-E67B-4137-B58E-B8BE499B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5DF63-6FC2-407E-B5B0-A077C44A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34BBB-D93D-4137-BBB6-BF3B1549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1D8E2-0FF9-4F0B-AB05-DACC4284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B850-D5ED-4C03-99FF-C09C46A4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7E895-550A-4F8D-9E17-7648B592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415DB-CB4E-4484-91A0-3750AE32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096E0-C5D5-4694-A3A4-A5981F94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D6C11-2584-408F-9A9E-14490DB1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2946E-1F8B-481B-9E7F-159838CC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F6A3C-C0DE-4F64-99B9-C80BB417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03B64-0B7A-4366-AC13-1C3174BB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F66DC-7A55-49B8-AC7F-B16767116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3E17A-EB38-477C-9A54-01DD891E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FC673A-E41F-4393-9930-E815537C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网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1ppt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FC39-CE20-4AB5-96CD-A3D27AC0B6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758A-58A6-4AC2-981B-2E0D5104F63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8E93-DA58-4727-9C72-26C388872E4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909E-17AC-4D9A-9686-33E8574CA01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D871-4784-4F31-845C-D32A06DF54C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1162-214D-46FA-A3C8-4A358F8EA81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A6C1-CF69-471D-A1CB-2E86624EF8C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023D-2A24-4F19-A4F8-C3861A25D80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977A-706D-42DB-B4F1-78FB5950E0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B1A5-334E-4130-96BD-4A2985D4439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9422-7702-4CD5-B500-FC16B7A509E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B629-5F02-47DC-820C-595581D2056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22BE-7035-4D57-89E5-43284731800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D2F6-048A-4197-B02D-1EF243F0E4C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D80F-B59C-4DBB-84A9-DD11E7E96A7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61DB-36A6-4807-A022-F9CB24D920F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0B98-3485-45EE-91F0-054C5EBB29D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BA31-931D-40F4-8C21-3F7E6E3A93E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3743-8F13-44CE-96A1-58411D52EFC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1068-50C4-41C6-89B1-0FC847F4E98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3D1B-4D1B-4829-940B-24320C0F359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8E21-D72E-4B23-A09F-02D45E196AD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D15B-A385-45BC-BA7E-DB62A3B9E06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9358-C814-469D-8A15-91749D9F4C9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B390-8D75-4F0D-8E52-9E08CCCAF30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3" descr="16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34" name="组合 3"/>
          <p:cNvGrpSpPr/>
          <p:nvPr/>
        </p:nvGrpSpPr>
        <p:grpSpPr>
          <a:xfrm>
            <a:off x="3371760" y="1319040"/>
            <a:ext cx="2400480" cy="1251360"/>
            <a:chOff x="3371760" y="1319040"/>
            <a:chExt cx="2400480" cy="1251360"/>
          </a:xfrm>
        </p:grpSpPr>
        <p:pic>
          <p:nvPicPr>
            <p:cNvPr id="535" name="图片 4" descr="2.png"/>
            <p:cNvPicPr/>
            <p:nvPr/>
          </p:nvPicPr>
          <p:blipFill>
            <a:blip r:embed="rId2"/>
            <a:srcRect l="0" t="0" r="56936" b="23833"/>
            <a:stretch/>
          </p:blipFill>
          <p:spPr>
            <a:xfrm>
              <a:off x="3371760" y="1338840"/>
              <a:ext cx="919440" cy="92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图片 4" descr="2.png"/>
            <p:cNvPicPr/>
            <p:nvPr/>
          </p:nvPicPr>
          <p:blipFill>
            <a:blip r:embed="rId3"/>
            <a:srcRect l="43081" t="0" r="-10024" b="70732"/>
            <a:stretch/>
          </p:blipFill>
          <p:spPr>
            <a:xfrm>
              <a:off x="4342680" y="1319040"/>
              <a:ext cx="1429560" cy="3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Box 6"/>
            <p:cNvSpPr/>
            <p:nvPr/>
          </p:nvSpPr>
          <p:spPr>
            <a:xfrm>
              <a:off x="4271400" y="1604880"/>
              <a:ext cx="1429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新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7"/>
            <p:cNvSpPr/>
            <p:nvPr/>
          </p:nvSpPr>
          <p:spPr>
            <a:xfrm>
              <a:off x="3422520" y="2187000"/>
              <a:ext cx="21445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2011</a:t>
              </a:r>
              <a:r>
                <a:rPr b="0" lang="zh-CN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辛卯年</a:t>
              </a: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(</a:t>
              </a:r>
              <a:r>
                <a:rPr b="0" lang="zh-CN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兔年</a:t>
              </a: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文本框 14343"/>
          <p:cNvSpPr/>
          <p:nvPr/>
        </p:nvSpPr>
        <p:spPr>
          <a:xfrm>
            <a:off x="828720" y="480384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4344"/>
          <p:cNvSpPr/>
          <p:nvPr/>
        </p:nvSpPr>
        <p:spPr>
          <a:xfrm>
            <a:off x="2485800" y="5554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新年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3" descr="16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5" descr="2.png"/>
          <p:cNvPicPr/>
          <p:nvPr/>
        </p:nvPicPr>
        <p:blipFill>
          <a:blip r:embed="rId2"/>
          <a:stretch/>
        </p:blipFill>
        <p:spPr>
          <a:xfrm>
            <a:off x="7858080" y="214200"/>
            <a:ext cx="1000080" cy="571680"/>
          </a:xfrm>
          <a:prstGeom prst="rect">
            <a:avLst/>
          </a:prstGeom>
          <a:ln w="0">
            <a:noFill/>
          </a:ln>
        </p:spPr>
      </p:pic>
      <p:sp>
        <p:nvSpPr>
          <p:cNvPr id="543" name="TextBox 6"/>
          <p:cNvSpPr/>
          <p:nvPr/>
        </p:nvSpPr>
        <p:spPr>
          <a:xfrm>
            <a:off x="2035080" y="1747800"/>
            <a:ext cx="50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图片 7" descr="8.png"/>
          <p:cNvPicPr/>
          <p:nvPr/>
        </p:nvPicPr>
        <p:blipFill>
          <a:blip r:embed="rId3"/>
          <a:stretch/>
        </p:blipFill>
        <p:spPr>
          <a:xfrm>
            <a:off x="1357200" y="2282760"/>
            <a:ext cx="596880" cy="64620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8" descr="9.png"/>
          <p:cNvPicPr/>
          <p:nvPr/>
        </p:nvPicPr>
        <p:blipFill>
          <a:blip r:embed="rId4"/>
          <a:stretch/>
        </p:blipFill>
        <p:spPr>
          <a:xfrm>
            <a:off x="7000920" y="1461960"/>
            <a:ext cx="542880" cy="536760"/>
          </a:xfrm>
          <a:prstGeom prst="rect">
            <a:avLst/>
          </a:prstGeom>
          <a:ln w="0">
            <a:noFill/>
          </a:ln>
        </p:spPr>
      </p:pic>
      <p:sp>
        <p:nvSpPr>
          <p:cNvPr id="546" name="文本框 15366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7BF2-90E5-46DF-AC51-F1988C0B8A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图片 3" descr="16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52" name="组合 5"/>
          <p:cNvGrpSpPr/>
          <p:nvPr/>
        </p:nvGrpSpPr>
        <p:grpSpPr>
          <a:xfrm>
            <a:off x="3249720" y="1714680"/>
            <a:ext cx="2644560" cy="1203480"/>
            <a:chOff x="3249720" y="1714680"/>
            <a:chExt cx="2644560" cy="1203480"/>
          </a:xfrm>
        </p:grpSpPr>
        <p:sp>
          <p:nvSpPr>
            <p:cNvPr id="553" name="TextBox 6"/>
            <p:cNvSpPr/>
            <p:nvPr/>
          </p:nvSpPr>
          <p:spPr>
            <a:xfrm>
              <a:off x="3286080" y="2214720"/>
              <a:ext cx="221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7f7f7f"/>
                  </a:solidFill>
                  <a:latin typeface="Calibri"/>
                </a:rPr>
                <a:t>THANKS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7"/>
            <p:cNvSpPr/>
            <p:nvPr/>
          </p:nvSpPr>
          <p:spPr>
            <a:xfrm>
              <a:off x="3249720" y="1714680"/>
              <a:ext cx="264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7f7f7f"/>
                  </a:solidFill>
                  <a:latin typeface="方正华隶简体"/>
                  <a:ea typeface="方正华隶简体"/>
                </a:rPr>
                <a:t>谢谢观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05:44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47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