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387-0F9A-4820-8FF9-9B0B5F79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DAF-3683-4F58-9CF7-F6528F33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E2A-02FC-47F2-A9B6-0930A7AF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B53-3863-4D4B-A0E9-52328D59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5D0-A8D6-4FF2-BB4A-599AE4D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C20-0FCD-483E-BA5A-F841C474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DF9-7B8E-463C-89C8-9D0F619A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A0E-F162-4150-B3B8-E99C969A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532-00EA-4708-91B4-3454E8AF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B350-442A-44B2-8A24-AD2B5134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2C4-558F-4034-AE35-C1F3F374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1D0-23AE-4B6A-9B54-A8E35D67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025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404640"/>
            <a:ext cx="1388880" cy="349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029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E5D09A2-B8B4-44FE-A150-0028CC669B22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bg3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4100" descr="powerbar_update_light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101" descr="powerstore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图片 4102" descr="tm_logo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>
            <a:hlinkClick r:id="rId11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107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108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09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110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4111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349800" y="1125360"/>
            <a:ext cx="360" cy="576360"/>
            <a:chOff x="3349800" y="1125360"/>
            <a:chExt cx="360" cy="576360"/>
          </a:xfrm>
        </p:grpSpPr>
        <p:sp>
          <p:nvSpPr>
            <p:cNvPr id="97" name="直接连接符 4113"/>
            <p:cNvSpPr/>
            <p:nvPr/>
          </p:nvSpPr>
          <p:spPr>
            <a:xfrm>
              <a:off x="3349800" y="1125360"/>
              <a:ext cx="0" cy="576360"/>
            </a:xfrm>
            <a:prstGeom prst="line">
              <a:avLst/>
            </a:prstGeom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3349800" y="1125360"/>
              <a:ext cx="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4114" descr="tm_logo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00" name="矩形 4115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™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FFE1-EED7-48A9-96E5-9C75F1583B6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DFAB-B027-4AA2-B7E7-EF85F6228C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049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68360" y="119700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da5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963d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8360" y="23619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细黑"/>
              </a:rPr>
              <a:t>单击添加署名或公司信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新年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模板免费在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614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i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199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7170"/>
          <p:cNvGrpSpPr/>
          <p:nvPr/>
        </p:nvGrpSpPr>
        <p:grpSpPr>
          <a:xfrm>
            <a:off x="457200" y="1700280"/>
            <a:ext cx="8207280" cy="863640"/>
            <a:chOff x="457200" y="1700280"/>
            <a:chExt cx="8207280" cy="863640"/>
          </a:xfrm>
        </p:grpSpPr>
        <p:grpSp>
          <p:nvGrpSpPr>
            <p:cNvPr id="224" name="组合 7171"/>
            <p:cNvGrpSpPr/>
            <p:nvPr/>
          </p:nvGrpSpPr>
          <p:grpSpPr>
            <a:xfrm>
              <a:off x="457200" y="1700280"/>
              <a:ext cx="8207280" cy="576360"/>
              <a:chOff x="457200" y="1700280"/>
              <a:chExt cx="8207280" cy="576360"/>
            </a:xfrm>
          </p:grpSpPr>
          <p:sp>
            <p:nvSpPr>
              <p:cNvPr id="225" name="矩形 7172"/>
              <p:cNvSpPr/>
              <p:nvPr/>
            </p:nvSpPr>
            <p:spPr>
              <a:xfrm>
                <a:off x="457200" y="1700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矩形 7173"/>
              <p:cNvSpPr/>
              <p:nvPr/>
            </p:nvSpPr>
            <p:spPr>
              <a:xfrm>
                <a:off x="1482840" y="1700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矩形 7174"/>
              <p:cNvSpPr/>
              <p:nvPr/>
            </p:nvSpPr>
            <p:spPr>
              <a:xfrm>
                <a:off x="2508120" y="170028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7175"/>
              <p:cNvSpPr/>
              <p:nvPr/>
            </p:nvSpPr>
            <p:spPr>
              <a:xfrm>
                <a:off x="3533760" y="1700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7176"/>
              <p:cNvSpPr/>
              <p:nvPr/>
            </p:nvSpPr>
            <p:spPr>
              <a:xfrm>
                <a:off x="4562640" y="170028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7177"/>
              <p:cNvSpPr/>
              <p:nvPr/>
            </p:nvSpPr>
            <p:spPr>
              <a:xfrm>
                <a:off x="5587920" y="170028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7178"/>
              <p:cNvSpPr/>
              <p:nvPr/>
            </p:nvSpPr>
            <p:spPr>
              <a:xfrm>
                <a:off x="6613560" y="170028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7179"/>
              <p:cNvSpPr/>
              <p:nvPr/>
            </p:nvSpPr>
            <p:spPr>
              <a:xfrm>
                <a:off x="7639200" y="170028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7180"/>
            <p:cNvGrpSpPr/>
            <p:nvPr/>
          </p:nvGrpSpPr>
          <p:grpSpPr>
            <a:xfrm>
              <a:off x="457200" y="2276640"/>
              <a:ext cx="8207280" cy="287280"/>
              <a:chOff x="457200" y="2276640"/>
              <a:chExt cx="8207280" cy="287280"/>
            </a:xfrm>
          </p:grpSpPr>
          <p:sp>
            <p:nvSpPr>
              <p:cNvPr id="234" name="矩形 7181"/>
              <p:cNvSpPr/>
              <p:nvPr/>
            </p:nvSpPr>
            <p:spPr>
              <a:xfrm>
                <a:off x="45720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矩形 7182"/>
              <p:cNvSpPr/>
              <p:nvPr/>
            </p:nvSpPr>
            <p:spPr>
              <a:xfrm>
                <a:off x="14828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矩形 7183"/>
              <p:cNvSpPr/>
              <p:nvPr/>
            </p:nvSpPr>
            <p:spPr>
              <a:xfrm>
                <a:off x="25081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矩形 7184"/>
              <p:cNvSpPr/>
              <p:nvPr/>
            </p:nvSpPr>
            <p:spPr>
              <a:xfrm>
                <a:off x="35337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矩形 7185"/>
              <p:cNvSpPr/>
              <p:nvPr/>
            </p:nvSpPr>
            <p:spPr>
              <a:xfrm>
                <a:off x="456264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7186"/>
              <p:cNvSpPr/>
              <p:nvPr/>
            </p:nvSpPr>
            <p:spPr>
              <a:xfrm>
                <a:off x="55879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矩形 7187"/>
              <p:cNvSpPr/>
              <p:nvPr/>
            </p:nvSpPr>
            <p:spPr>
              <a:xfrm>
                <a:off x="66135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矩形 7188"/>
              <p:cNvSpPr/>
              <p:nvPr/>
            </p:nvSpPr>
            <p:spPr>
              <a:xfrm>
                <a:off x="763920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46040" y="28904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7190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63d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963d0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AD7E-5034-421F-BC6C-1D86FE2689C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3"/>
          <p:cNvSpPr/>
          <p:nvPr/>
        </p:nvSpPr>
        <p:spPr>
          <a:xfrm>
            <a:off x="1479600" y="177336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36Z</dcterms:modified>
  <cp:revision>2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