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FEC-9B62-4681-8AA3-895887C7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C2D-87DF-4DEE-A2F6-46DABC44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83B-9400-49EF-BDC1-03DA806C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98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98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AE9-74B0-4753-980C-B44CBDB2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C7ED-41AD-4ED0-B51B-19A648C9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6CA5-52E5-4019-BFB0-B3D33711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19E2-0130-42E9-AC36-F98AFAD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4EC-E3F0-4F09-81E2-8D4FEAB1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11DB-6EEC-4C48-8D6A-FB828E39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E031-695E-4035-BE47-8790125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DF15-FF31-4063-AF55-2701D42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E86-9EFE-46AC-B112-58E36D5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F5F6-CCBB-4945-8872-5B179EF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A812-0DD4-4E59-878F-6D0499C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1BD2-6881-46FC-B7ED-D79481E9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C15-D054-456A-BCC4-65DA99C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98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98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B3B1-89DE-471B-95B2-40E4B6A3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1BC-98BE-49F3-A7DD-8250EC2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C0F-AE23-4BD9-88DA-14BB821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B9A-ABF2-47F4-8306-EDD80B6A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46F-D27F-4987-B82F-345C622B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CA7-0A50-4DF1-930B-77E6D73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653-59F6-4F6E-91B3-D292306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9A6-BBAE-4C69-8080-6064C6BD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9272-0438-4E91-A887-9FC9488E14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F58B-4B8A-4F42-BAE6-A7D7A6CB00E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E50-9995-41BF-BCC5-E7F8FF37E5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8720" y="159984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新年庆典节日烟花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3920" y="28195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ather_time_partying_hg_clr"/>
          <p:cNvPicPr/>
          <p:nvPr/>
        </p:nvPicPr>
        <p:blipFill>
          <a:blip r:embed="rId1"/>
          <a:stretch/>
        </p:blipFill>
        <p:spPr>
          <a:xfrm>
            <a:off x="228600" y="3886200"/>
            <a:ext cx="18669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ather_time_partying_hg_clr"/>
          <p:cNvPicPr/>
          <p:nvPr/>
        </p:nvPicPr>
        <p:blipFill>
          <a:blip r:embed="rId2"/>
          <a:stretch/>
        </p:blipFill>
        <p:spPr>
          <a:xfrm>
            <a:off x="228600" y="3886200"/>
            <a:ext cx="186696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124"/>
          <p:cNvSpPr/>
          <p:nvPr/>
        </p:nvSpPr>
        <p:spPr>
          <a:xfrm>
            <a:off x="684360" y="3429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26F-81B2-4A04-9A80-BC1B5B54DF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2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