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669-1EBA-478D-9B3D-125A0B62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EEF-C90A-4A21-AD7F-FEAB0CEE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33B-5336-41A8-BB65-46FB0918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08D-FEEB-4BFE-8521-ECA0912F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D457-E52D-492F-BC12-1EA13F5D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111C-581B-479B-A357-944B7B36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B2C-25C5-4F88-B484-56CB0814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8672-5763-4135-8EAF-8336CE1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2107-A129-46FF-ABD3-4486877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7F0C-ED86-48D7-A197-98461BE2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948-0D95-4E9C-A920-124D924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1AA-5F3F-403C-8324-0D39947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9122-A21C-4AC3-8370-1188570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2CF-218F-4BDC-B528-5D5B0DE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25F-D1F5-42B3-884C-E5CE057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A5BF-6B6C-49F8-A35B-7B25683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322B-6F52-4DE0-BFF2-1FA305E6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6AE-D128-4C58-8061-5C74C8CB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B80-2955-4898-AF7C-B39CFF8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03F-7304-40FB-BC9E-990E507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CE1-92D4-4AED-ADA7-B6BBA01A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1EC-0CDF-4102-B48E-149A425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C15-3F74-4CF3-A2C7-6B06D21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DA-109C-44EA-AED4-4F085F3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6A1D-3625-44BD-B688-05A96B5B9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AA4-EE24-40E6-97E4-CC578863F7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8CB-EF1E-443A-9AF8-2AFDBFE6A6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90600" y="9842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小小童话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免费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266920" y="35733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8198"/>
          <p:cNvSpPr/>
          <p:nvPr/>
        </p:nvSpPr>
        <p:spPr>
          <a:xfrm>
            <a:off x="1835280" y="213372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988-46EB-49A0-9AF8-051EA9C81A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8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